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2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3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03C2-D908-4B5C-8B36-AAE9D9D48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u do wymiany jeszcze zdjęcie na jakieś bez chwastó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fika 319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0" y="3860280"/>
            <a:ext cx="641052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0" y="5316480"/>
            <a:ext cx="64105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0" y="5834880"/>
            <a:ext cx="64105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0" y="3860280"/>
            <a:ext cx="641052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0" y="5316480"/>
            <a:ext cx="31280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67400" y="5316480"/>
            <a:ext cx="31280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0" y="5834880"/>
            <a:ext cx="31280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67400" y="5834880"/>
            <a:ext cx="31280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0" y="3860280"/>
            <a:ext cx="641052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0" y="5316480"/>
            <a:ext cx="20638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49960" y="5316480"/>
            <a:ext cx="20638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17160" y="5316480"/>
            <a:ext cx="20638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0" y="5834880"/>
            <a:ext cx="20638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49960" y="5834880"/>
            <a:ext cx="20638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17160" y="5834880"/>
            <a:ext cx="20638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0" y="3860280"/>
            <a:ext cx="641052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82400" y="5316480"/>
            <a:ext cx="641052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0" y="3860280"/>
            <a:ext cx="641052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0" y="5316480"/>
            <a:ext cx="641052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0" y="3860280"/>
            <a:ext cx="641052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0" y="5316480"/>
            <a:ext cx="312804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67400" y="5316480"/>
            <a:ext cx="312804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0" y="3860280"/>
            <a:ext cx="641052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282400" y="3860280"/>
            <a:ext cx="6410520" cy="54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0" y="3860280"/>
            <a:ext cx="641052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0" y="5316480"/>
            <a:ext cx="31280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67400" y="5316480"/>
            <a:ext cx="312804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2400" y="5834880"/>
            <a:ext cx="31280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0" y="3860280"/>
            <a:ext cx="641052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0" y="5316480"/>
            <a:ext cx="641052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0" y="3860280"/>
            <a:ext cx="641052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0" y="5316480"/>
            <a:ext cx="312804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7400" y="5316480"/>
            <a:ext cx="31280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567400" y="5834880"/>
            <a:ext cx="31280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0" y="3860280"/>
            <a:ext cx="641052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0" y="5316480"/>
            <a:ext cx="31280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67400" y="5316480"/>
            <a:ext cx="31280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2400" y="5834880"/>
            <a:ext cx="64105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0" y="3860280"/>
            <a:ext cx="641052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0" y="5316480"/>
            <a:ext cx="64105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82400" y="5834880"/>
            <a:ext cx="64105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0" y="3860280"/>
            <a:ext cx="641052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0" y="5316480"/>
            <a:ext cx="31280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67400" y="5316480"/>
            <a:ext cx="31280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2400" y="5834880"/>
            <a:ext cx="31280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567400" y="5834880"/>
            <a:ext cx="31280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0" y="3860280"/>
            <a:ext cx="641052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0" y="5316480"/>
            <a:ext cx="20638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49960" y="5316480"/>
            <a:ext cx="20638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17160" y="5316480"/>
            <a:ext cx="20638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82400" y="5834880"/>
            <a:ext cx="20638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449960" y="5834880"/>
            <a:ext cx="20638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17160" y="5834880"/>
            <a:ext cx="20638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0" y="3860280"/>
            <a:ext cx="641052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0" y="5316480"/>
            <a:ext cx="641052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0" y="3860280"/>
            <a:ext cx="641052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0" y="5316480"/>
            <a:ext cx="312804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67400" y="5316480"/>
            <a:ext cx="312804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0" y="3860280"/>
            <a:ext cx="641052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0" y="3860280"/>
            <a:ext cx="6410520" cy="54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0" y="3860280"/>
            <a:ext cx="641052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0" y="5316480"/>
            <a:ext cx="31280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67400" y="5316480"/>
            <a:ext cx="312804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0" y="5834880"/>
            <a:ext cx="31280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0" y="3860280"/>
            <a:ext cx="641052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0" y="5316480"/>
            <a:ext cx="312804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67400" y="5316480"/>
            <a:ext cx="31280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67400" y="5834880"/>
            <a:ext cx="31280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0" y="3860280"/>
            <a:ext cx="641052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0" y="5316480"/>
            <a:ext cx="31280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67400" y="5316480"/>
            <a:ext cx="31280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0" y="5834880"/>
            <a:ext cx="64105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49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854760" y="6416640"/>
            <a:ext cx="1828800" cy="32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202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31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268200">
              <a:spcBef>
                <a:spcPts val="300"/>
              </a:spcBef>
              <a:spcAft>
                <a:spcPts val="601"/>
              </a:spcAft>
              <a:buClr>
                <a:srgbClr val="0033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68200" indent="-268200">
              <a:spcBef>
                <a:spcPts val="300"/>
              </a:spcBef>
              <a:spcAft>
                <a:spcPts val="601"/>
              </a:spcAft>
              <a:buClr>
                <a:srgbClr val="006666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68200" indent="-268200">
              <a:spcBef>
                <a:spcPts val="300"/>
              </a:spcBef>
              <a:spcAft>
                <a:spcPts val="601"/>
              </a:spcAft>
              <a:buClr>
                <a:srgbClr val="ff9900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68200" indent="-268200">
              <a:spcBef>
                <a:spcPts val="300"/>
              </a:spcBef>
              <a:spcAft>
                <a:spcPts val="601"/>
              </a:spcAft>
              <a:buClr>
                <a:srgbClr val="337d33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68200" indent="-26820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68200" indent="-26820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5120" y="1413000"/>
            <a:ext cx="8228160" cy="0"/>
          </a:xfrm>
          <a:prstGeom prst="line">
            <a:avLst/>
          </a:prstGeom>
          <a:ln w="9360">
            <a:solidFill>
              <a:srgbClr val="ff86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64760" y="6507000"/>
            <a:ext cx="53751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d4d4d"/>
                </a:solidFill>
                <a:latin typeface="Times New Roman"/>
              </a:rPr>
              <a:t>Boreal • edycja 2008 • Slajd </a:t>
            </a:r>
            <a:fld id="{6EA23CC0-BD52-434A-9FB8-1125147D85DD}" type="slidenum">
              <a:rPr b="0" lang="pl-PL" sz="10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6854760" y="512640"/>
            <a:ext cx="1749600" cy="306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547120" y="42084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601800">
            <a:off x="476280" y="990720"/>
            <a:ext cx="5097600" cy="4997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21322800">
            <a:off x="893520" y="1044720"/>
            <a:ext cx="2158920" cy="2097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922800">
            <a:off x="715680" y="929880"/>
            <a:ext cx="5095800" cy="50896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029200" y="0"/>
            <a:ext cx="3646440" cy="3656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5400000">
            <a:off x="5544360" y="513000"/>
            <a:ext cx="2627280" cy="3562560"/>
          </a:xfrm>
          <a:custGeom>
            <a:avLst/>
            <a:gdLst>
              <a:gd name="textAreaLeft" fmla="*/ 0 w 2627280"/>
              <a:gd name="textAreaRight" fmla="*/ 2627280 w 2627280"/>
              <a:gd name="textAreaTop" fmla="*/ 0 h 3562560"/>
              <a:gd name="textAreaBottom" fmla="*/ 3562920 h 356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93" y="0"/>
                </a:lnTo>
                <a:lnTo>
                  <a:pt x="21600" y="10800"/>
                </a:lnTo>
                <a:lnTo>
                  <a:pt x="17393" y="21600"/>
                </a:lnTo>
                <a:lnTo>
                  <a:pt x="0" y="21600"/>
                </a:lnTo>
                <a:lnTo>
                  <a:pt x="4207" y="10800"/>
                </a:lnTo>
                <a:close/>
              </a:path>
            </a:pathLst>
          </a:custGeom>
          <a:solidFill>
            <a:srgbClr val="ee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0" y="3860280"/>
            <a:ext cx="641052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52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5400000">
            <a:off x="5537520" y="513360"/>
            <a:ext cx="2627280" cy="3562200"/>
          </a:xfrm>
          <a:custGeom>
            <a:avLst/>
            <a:gdLst>
              <a:gd name="textAreaLeft" fmla="*/ 0 w 2627280"/>
              <a:gd name="textAreaRight" fmla="*/ 2627280 w 2627280"/>
              <a:gd name="textAreaTop" fmla="*/ 0 h 3562200"/>
              <a:gd name="textAreaBottom" fmla="*/ 3562560 h 356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93" y="0"/>
                </a:lnTo>
                <a:lnTo>
                  <a:pt x="21600" y="10800"/>
                </a:lnTo>
                <a:lnTo>
                  <a:pt x="17393" y="21600"/>
                </a:lnTo>
                <a:lnTo>
                  <a:pt x="0" y="21600"/>
                </a:lnTo>
                <a:lnTo>
                  <a:pt x="4207" y="10800"/>
                </a:lnTo>
                <a:close/>
              </a:path>
            </a:pathLst>
          </a:custGeom>
          <a:noFill/>
          <a:ln w="92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184720" y="1808280"/>
            <a:ext cx="3348000" cy="1020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6872400" y="6429240"/>
            <a:ext cx="1828800" cy="328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V="1">
            <a:off x="5027760" y="-5040"/>
            <a:ext cx="0" cy="912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8675640" y="-5040"/>
            <a:ext cx="0" cy="912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0"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9280" indent="-208080" algn="ctr">
              <a:spcBef>
                <a:spcPts val="300"/>
              </a:spcBef>
              <a:spcAft>
                <a:spcPts val="601"/>
              </a:spcAft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7480" algn="ctr">
              <a:spcBef>
                <a:spcPts val="300"/>
              </a:spcBef>
              <a:spcAft>
                <a:spcPts val="601"/>
              </a:spcAft>
              <a:buClr>
                <a:srgbClr val="ff9900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469800" algn="ctr">
              <a:spcBef>
                <a:spcPts val="300"/>
              </a:spcBef>
              <a:spcAft>
                <a:spcPts val="601"/>
              </a:spcAft>
              <a:buClr>
                <a:srgbClr val="337d33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469800"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469800"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jpeg"/><Relationship Id="rId3" Type="http://schemas.openxmlformats.org/officeDocument/2006/relationships/image" Target="../media/image22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319480" y="4346640"/>
            <a:ext cx="6381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Para 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na wilgotną gleb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2760" y="5735520"/>
            <a:ext cx="641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dycja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2203560" y="5521320"/>
            <a:ext cx="4737600" cy="762120"/>
            <a:chOff x="2203560" y="5521320"/>
            <a:chExt cx="4737600" cy="762120"/>
          </a:xfrm>
        </p:grpSpPr>
        <p:sp>
          <p:nvSpPr>
            <p:cNvPr id="261" name=""/>
            <p:cNvSpPr/>
            <p:nvPr/>
          </p:nvSpPr>
          <p:spPr>
            <a:xfrm>
              <a:off x="2339280" y="5521320"/>
              <a:ext cx="134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real 58WG 0,75kg/h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39640" y="5734080"/>
              <a:ext cx="4601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zabieg Boreal 58WG 0,4kg/ha i 2 zabieg Maister + Actirob. 0,10 kg/ha + 1,3 l/h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39640" y="5929200"/>
              <a:ext cx="4461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zabieg Boreal 58WG 0,4kg/ha i 2 zabieg Maister + Actirob. 0,15 kg/ha + 2 l/h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40720" y="6130800"/>
              <a:ext cx="257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Arial"/>
                </a:rPr>
                <a:t>acetachlor 2,5l/ha i florasulam + 2,4 D 0,6 l/h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03560" y="5553000"/>
              <a:ext cx="88920" cy="889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03560" y="5753160"/>
              <a:ext cx="88920" cy="88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03560" y="5960880"/>
              <a:ext cx="88920" cy="88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3560" y="6162480"/>
              <a:ext cx="88920" cy="88920"/>
            </a:xfrm>
            <a:prstGeom prst="rect">
              <a:avLst/>
            </a:prstGeom>
            <a:solidFill>
              <a:srgbClr val="ffc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8280" y="192240"/>
            <a:ext cx="6202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Zastosuj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17760" y="5983200"/>
            <a:ext cx="8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33"/>
                </a:solidFill>
                <a:latin typeface="Arial"/>
              </a:rPr>
              <a:t>Konin 2006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58640" y="1455840"/>
            <a:ext cx="8242560" cy="3955320"/>
            <a:chOff x="458640" y="1455840"/>
            <a:chExt cx="8242560" cy="3955320"/>
          </a:xfrm>
        </p:grpSpPr>
        <p:sp>
          <p:nvSpPr>
            <p:cNvPr id="272" name=""/>
            <p:cNvSpPr/>
            <p:nvPr/>
          </p:nvSpPr>
          <p:spPr>
            <a:xfrm>
              <a:off x="752400" y="4357800"/>
              <a:ext cx="7947000" cy="1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2400" y="3687840"/>
              <a:ext cx="7947000" cy="1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2400" y="3008160"/>
              <a:ext cx="7947000" cy="180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2400" y="2336760"/>
              <a:ext cx="7947000" cy="180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2400" y="1665360"/>
              <a:ext cx="7947000" cy="1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55800" y="1665360"/>
              <a:ext cx="122040" cy="3363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46160" y="1665360"/>
              <a:ext cx="122400" cy="3363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946240" y="1665360"/>
              <a:ext cx="122400" cy="3363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36960" y="1665360"/>
              <a:ext cx="123840" cy="3363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29120" y="1665360"/>
              <a:ext cx="123840" cy="3363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21280" y="2671920"/>
              <a:ext cx="122400" cy="235728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21360" y="2508120"/>
              <a:ext cx="122400" cy="252108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2080" y="1665360"/>
              <a:ext cx="122400" cy="3363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96920" y="1665360"/>
              <a:ext cx="122400" cy="3363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97000" y="1665360"/>
              <a:ext cx="112680" cy="3363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87720" y="1665360"/>
              <a:ext cx="122040" cy="3363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78440" y="1665360"/>
              <a:ext cx="125280" cy="3363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72040" y="1665360"/>
              <a:ext cx="122400" cy="3363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72120" y="2173320"/>
              <a:ext cx="112680" cy="285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62840" y="2336760"/>
              <a:ext cx="122040" cy="2692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53560" y="1665360"/>
              <a:ext cx="122040" cy="3363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47760" y="1665360"/>
              <a:ext cx="112680" cy="3363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38480" y="1665360"/>
              <a:ext cx="122040" cy="3363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38560" y="1665360"/>
              <a:ext cx="114120" cy="3363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30720" y="1665360"/>
              <a:ext cx="114120" cy="3363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21440" y="1665360"/>
              <a:ext cx="114120" cy="3363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13600" y="2001960"/>
              <a:ext cx="122040" cy="30272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13680" y="2001960"/>
              <a:ext cx="112680" cy="30272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04040" y="1665360"/>
              <a:ext cx="113040" cy="3363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79520" y="2336760"/>
              <a:ext cx="123840" cy="2692440"/>
            </a:xfrm>
            <a:prstGeom prst="rect">
              <a:avLst/>
            </a:prstGeom>
            <a:solidFill>
              <a:srgbClr val="ffc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81400" y="1665360"/>
              <a:ext cx="122040" cy="3363840"/>
            </a:xfrm>
            <a:prstGeom prst="rect">
              <a:avLst/>
            </a:prstGeom>
            <a:solidFill>
              <a:srgbClr val="ffc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71760" y="1665360"/>
              <a:ext cx="122400" cy="3363840"/>
            </a:xfrm>
            <a:prstGeom prst="rect">
              <a:avLst/>
            </a:prstGeom>
            <a:solidFill>
              <a:srgbClr val="ffc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62480" y="1665360"/>
              <a:ext cx="123840" cy="3363840"/>
            </a:xfrm>
            <a:prstGeom prst="rect">
              <a:avLst/>
            </a:prstGeom>
            <a:solidFill>
              <a:srgbClr val="ffc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54640" y="1665360"/>
              <a:ext cx="122400" cy="3363840"/>
            </a:xfrm>
            <a:prstGeom prst="rect">
              <a:avLst/>
            </a:prstGeom>
            <a:solidFill>
              <a:srgbClr val="ffc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54720" y="3351240"/>
              <a:ext cx="122400" cy="1677960"/>
            </a:xfrm>
            <a:prstGeom prst="rect">
              <a:avLst/>
            </a:prstGeom>
            <a:solidFill>
              <a:srgbClr val="ffc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34360" y="2336760"/>
              <a:ext cx="123840" cy="2692440"/>
            </a:xfrm>
            <a:prstGeom prst="rect">
              <a:avLst/>
            </a:prstGeom>
            <a:solidFill>
              <a:srgbClr val="ffc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337600" y="1665360"/>
              <a:ext cx="122040" cy="3363840"/>
            </a:xfrm>
            <a:prstGeom prst="rect">
              <a:avLst/>
            </a:prstGeom>
            <a:solidFill>
              <a:srgbClr val="ffc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2400" y="1665360"/>
              <a:ext cx="1800" cy="33638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2800" y="5029200"/>
              <a:ext cx="39600" cy="1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2800" y="4357800"/>
              <a:ext cx="39600" cy="1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2800" y="3687840"/>
              <a:ext cx="39600" cy="1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12800" y="3008160"/>
              <a:ext cx="39600" cy="180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2800" y="2336760"/>
              <a:ext cx="39600" cy="180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2800" y="1665360"/>
              <a:ext cx="39600" cy="1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2400" y="5029200"/>
              <a:ext cx="794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752400" y="502884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1743120" y="502884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743200" y="502884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733920" y="502884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4724280" y="502884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5716440" y="502884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718320" y="502884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7709040" y="502884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8699400" y="502884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0040" y="495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4160" y="4286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160" y="3614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4160" y="2935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4160" y="2263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8640" y="1592280"/>
              <a:ext cx="208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53560" y="5129280"/>
              <a:ext cx="645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osiew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zepak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58400" y="512928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iołek poln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01600" y="5129280"/>
              <a:ext cx="721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umian poln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72520" y="5129280"/>
              <a:ext cx="72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komosa biał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892400" y="5129280"/>
              <a:ext cx="71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obołki pol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18320" y="5129280"/>
              <a:ext cx="86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dest powojow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18760" y="5129280"/>
              <a:ext cx="83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glica pospoli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13520" y="51292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hwastnic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58080" y="52736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ednostron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4800" y="1455840"/>
              <a:ext cx="2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28600" y="4375080"/>
            <a:ext cx="8717040" cy="6555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2503440"/>
            <a:ext cx="2556000" cy="2928960"/>
          </a:xfrm>
          <a:prstGeom prst="rect">
            <a:avLst/>
          </a:prstGeom>
          <a:solidFill>
            <a:srgbClr val="ffa6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" y="5040360"/>
            <a:ext cx="6172200" cy="392040"/>
          </a:xfrm>
          <a:prstGeom prst="rect">
            <a:avLst/>
          </a:prstGeom>
          <a:solidFill>
            <a:srgbClr val="ffca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2720880"/>
            <a:ext cx="6172200" cy="1668600"/>
          </a:xfrm>
          <a:prstGeom prst="rect">
            <a:avLst/>
          </a:prstGeom>
          <a:solidFill>
            <a:srgbClr val="ffca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7160" y="1722600"/>
            <a:ext cx="8726400" cy="776160"/>
          </a:xfrm>
          <a:prstGeom prst="rect">
            <a:avLst/>
          </a:prstGeom>
          <a:gradFill rotWithShape="0">
            <a:gsLst>
              <a:gs pos="0">
                <a:srgbClr val="f39b00"/>
              </a:gs>
              <a:gs pos="50000">
                <a:srgbClr val="fea300"/>
              </a:gs>
              <a:gs pos="100000">
                <a:srgbClr val="f39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31840" y="4367160"/>
            <a:ext cx="8697960" cy="220680"/>
          </a:xfrm>
          <a:prstGeom prst="rect">
            <a:avLst/>
          </a:prstGeom>
          <a:gradFill rotWithShape="0">
            <a:gsLst>
              <a:gs pos="0">
                <a:srgbClr val="0066cc">
                  <a:alpha val="77254"/>
                </a:srgbClr>
              </a:gs>
              <a:gs pos="50000">
                <a:srgbClr val="fefefe"/>
              </a:gs>
              <a:gs pos="100000">
                <a:srgbClr val="0066cc">
                  <a:alpha val="7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5360" y="2511360"/>
            <a:ext cx="6153120" cy="230400"/>
          </a:xfrm>
          <a:prstGeom prst="rect">
            <a:avLst/>
          </a:prstGeom>
          <a:solidFill>
            <a:srgbClr val="ffa6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08560" y="4381560"/>
            <a:ext cx="2586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4599000"/>
            <a:ext cx="5979960" cy="21744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50000">
                <a:srgbClr val="2c4184">
                  <a:alpha val="27058"/>
                </a:srgbClr>
              </a:gs>
              <a:gs pos="100000">
                <a:srgbClr val="0066cc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208560" y="4599000"/>
            <a:ext cx="2724480" cy="21744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50000">
                <a:srgbClr val="2c4184">
                  <a:alpha val="27058"/>
                </a:srgbClr>
              </a:gs>
              <a:gs pos="100000">
                <a:srgbClr val="0066cc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" y="4803840"/>
            <a:ext cx="6165720" cy="23004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50000">
                <a:srgbClr val="2c4184">
                  <a:alpha val="27058"/>
                </a:srgbClr>
              </a:gs>
              <a:gs pos="100000">
                <a:srgbClr val="0066cc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396120" y="4807080"/>
            <a:ext cx="2536920" cy="20772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50000">
                <a:srgbClr val="2c4184">
                  <a:alpha val="27058"/>
                </a:srgbClr>
              </a:gs>
              <a:gs pos="100000">
                <a:srgbClr val="0066cc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8120" y="2306520"/>
            <a:ext cx="249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T2/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697280" y="1736640"/>
            <a:ext cx="5540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75160" y="1795320"/>
            <a:ext cx="97812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Średnia skuteczność zwalczanych chwastów w %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62800" y="1967040"/>
            <a:ext cx="215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wasty słabo zwalczane (&lt;8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160" y="252396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ntr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51200" y="252396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0200" y="2741760"/>
            <a:ext cx="345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imsulfuron + olej                             (60g/ha+0,1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51200" y="274176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91280" y="2741760"/>
            <a:ext cx="108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05480" y="2741760"/>
            <a:ext cx="252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ołek polny, komosa biał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3360" y="2946240"/>
            <a:ext cx="422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imsulfuron + olej + florasulam + 2,4 D (30g/ha+0,1%+0,6l/h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651200" y="294624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78320" y="2946240"/>
            <a:ext cx="11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91440" y="2946240"/>
            <a:ext cx="256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ołek polny, komosa biał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45520" y="3151080"/>
            <a:ext cx="273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zotrion + nicosulfuron (1l/ha+0,8l/h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278320" y="3151080"/>
            <a:ext cx="110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397560" y="3151080"/>
            <a:ext cx="253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ziszek drob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5160" y="3355920"/>
            <a:ext cx="2864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zotrion + nicosulfuron (0,8l/ha+0,8l/h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278320" y="3355920"/>
            <a:ext cx="11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384960" y="3355920"/>
            <a:ext cx="255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ziszek drob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9480" y="3765600"/>
            <a:ext cx="19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lorasulam + 2,4 D (0,6 l/h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278320" y="3765600"/>
            <a:ext cx="11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391440" y="3560760"/>
            <a:ext cx="255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ołek polny,  rumiankowat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92880" y="3765600"/>
            <a:ext cx="255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wastnica jednostro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360" y="3970440"/>
            <a:ext cx="422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imsulfuron + olej + florasulam + 2,4 D (50g/ha+0,1%+0,6l/h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278320" y="3970440"/>
            <a:ext cx="11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389640" y="3970440"/>
            <a:ext cx="25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ołek pol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47680" y="4176720"/>
            <a:ext cx="328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ster310WG+Actirob           (0,15kg/ha+2l/h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278320" y="4176720"/>
            <a:ext cx="11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3440" y="4394160"/>
            <a:ext cx="3224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real 58WG                          (0,75kg/ha (T0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51200" y="439416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78320" y="4394160"/>
            <a:ext cx="110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10160" y="4381560"/>
            <a:ext cx="252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est ptasi, iglica, bodziszek, per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7320" y="4611600"/>
            <a:ext cx="4420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oreal 58WG 0,4kg/ha(T0) + Maister+Act. (0,10kg/ha+1,3l/h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51200" y="461160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78320" y="4611600"/>
            <a:ext cx="11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384960" y="4611600"/>
            <a:ext cx="257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47680" y="4816440"/>
            <a:ext cx="419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oreal 58WG 0,4kg/ha(T0) + Maister+Act. (0,15kg+2,0l/h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1200" y="481644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76880" y="4816440"/>
            <a:ext cx="111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84960" y="4803840"/>
            <a:ext cx="255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0920" y="5181480"/>
            <a:ext cx="70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etach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278320" y="5181480"/>
            <a:ext cx="11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08720" y="5181480"/>
            <a:ext cx="255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lica, chaber bławatek, fiołek pol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2498760"/>
            <a:ext cx="872640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2716200"/>
            <a:ext cx="87264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2933640"/>
            <a:ext cx="617868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81360" y="2933640"/>
            <a:ext cx="60192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" y="3138480"/>
            <a:ext cx="617868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" y="3343320"/>
            <a:ext cx="617868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3548160"/>
            <a:ext cx="617868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" y="3957480"/>
            <a:ext cx="59673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3957480"/>
            <a:ext cx="6178680" cy="12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" y="4162320"/>
            <a:ext cx="43275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" y="4162320"/>
            <a:ext cx="6178680" cy="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81360" y="4162320"/>
            <a:ext cx="60192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35080" y="4586400"/>
            <a:ext cx="86914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28600" y="5430960"/>
            <a:ext cx="872640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8600" y="5635800"/>
            <a:ext cx="43275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54440" y="1722600"/>
            <a:ext cx="11160" cy="39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276880" y="1725480"/>
            <a:ext cx="14400" cy="392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86400" y="1725480"/>
            <a:ext cx="11160" cy="392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6000" y="56484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68760" y="56484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195880" y="56484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195880" y="5648400"/>
            <a:ext cx="1440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208560" y="56484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782200" y="56484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794800" y="25113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794800" y="272880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794800" y="293364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794800" y="33433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794800" y="35481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794800" y="39574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794800" y="416232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794800" y="43815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794800" y="45990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794800" y="48038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794800" y="50212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794800" y="54309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794800" y="56358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651200" y="314172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651200" y="335916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51200" y="376380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51200" y="3975120"/>
            <a:ext cx="61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657680" y="4179960"/>
            <a:ext cx="620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56240" y="5192640"/>
            <a:ext cx="62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36520" y="4809960"/>
            <a:ext cx="86914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202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Zastosuj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7080" y="59850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33"/>
                </a:solidFill>
                <a:latin typeface="Arial"/>
              </a:rPr>
              <a:t>Karłowice 20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mph" presetID="22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2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458640" y="6039000"/>
            <a:ext cx="21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33"/>
                </a:solidFill>
                <a:latin typeface="Arial"/>
              </a:rPr>
              <a:t>Ocena plonu - odm. LG 3226 J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797520" y="3537000"/>
            <a:ext cx="1511280" cy="474480"/>
          </a:xfrm>
          <a:prstGeom prst="rect">
            <a:avLst/>
          </a:prstGeom>
          <a:solidFill>
            <a:srgbClr val="ffca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dec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479920" y="3537000"/>
            <a:ext cx="1317600" cy="474480"/>
          </a:xfrm>
          <a:prstGeom prst="rect">
            <a:avLst/>
          </a:prstGeom>
          <a:solidFill>
            <a:srgbClr val="ffca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dec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9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208400" y="3537000"/>
            <a:ext cx="1271520" cy="474480"/>
          </a:xfrm>
          <a:prstGeom prst="rect">
            <a:avLst/>
          </a:prstGeom>
          <a:solidFill>
            <a:srgbClr val="ffca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dec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8640" y="3537000"/>
            <a:ext cx="3749760" cy="474480"/>
          </a:xfrm>
          <a:prstGeom prst="rect">
            <a:avLst/>
          </a:prstGeom>
          <a:solidFill>
            <a:srgbClr val="ffca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1 (3,5 l/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797520" y="3062160"/>
            <a:ext cx="1511280" cy="474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efefe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dec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,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479920" y="3062160"/>
            <a:ext cx="1317600" cy="474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efefe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dec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7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208400" y="3062160"/>
            <a:ext cx="1271520" cy="474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efefe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dec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8640" y="3062160"/>
            <a:ext cx="3749760" cy="474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efefe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eal 58 WG (0,75 kg/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797520" y="2587680"/>
            <a:ext cx="1511280" cy="474480"/>
          </a:xfrm>
          <a:prstGeom prst="rect">
            <a:avLst/>
          </a:prstGeom>
          <a:solidFill>
            <a:srgbClr val="ffca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dec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479920" y="2587680"/>
            <a:ext cx="1317600" cy="474480"/>
          </a:xfrm>
          <a:prstGeom prst="rect">
            <a:avLst/>
          </a:prstGeom>
          <a:solidFill>
            <a:srgbClr val="ffca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dec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08400" y="2587680"/>
            <a:ext cx="1271520" cy="474480"/>
          </a:xfrm>
          <a:prstGeom prst="rect">
            <a:avLst/>
          </a:prstGeom>
          <a:solidFill>
            <a:srgbClr val="ffca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dec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58640" y="2587680"/>
            <a:ext cx="3749760" cy="474480"/>
          </a:xfrm>
          <a:prstGeom prst="rect">
            <a:avLst/>
          </a:prstGeom>
          <a:solidFill>
            <a:srgbClr val="ffca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trola piel. m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797520" y="2114640"/>
            <a:ext cx="1511280" cy="473040"/>
          </a:xfrm>
          <a:prstGeom prst="rect">
            <a:avLst/>
          </a:prstGeom>
          <a:solidFill>
            <a:srgbClr val="ffa6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dec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79920" y="2114640"/>
            <a:ext cx="1317600" cy="473040"/>
          </a:xfrm>
          <a:prstGeom prst="rect">
            <a:avLst/>
          </a:prstGeom>
          <a:solidFill>
            <a:srgbClr val="ffa6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dec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208400" y="2114640"/>
            <a:ext cx="1271520" cy="473040"/>
          </a:xfrm>
          <a:prstGeom prst="rect">
            <a:avLst/>
          </a:prstGeom>
          <a:solidFill>
            <a:srgbClr val="ffa6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dec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8640" y="2114640"/>
            <a:ext cx="3749760" cy="473040"/>
          </a:xfrm>
          <a:prstGeom prst="rect">
            <a:avLst/>
          </a:prstGeom>
          <a:solidFill>
            <a:srgbClr val="ffa6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tr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797520" y="1760400"/>
            <a:ext cx="1511280" cy="354240"/>
          </a:xfrm>
          <a:prstGeom prst="rect">
            <a:avLst/>
          </a:prstGeom>
          <a:gradFill rotWithShape="0">
            <a:gsLst>
              <a:gs pos="0">
                <a:srgbClr val="f39b00"/>
              </a:gs>
              <a:gs pos="50000">
                <a:srgbClr val="fea300"/>
              </a:gs>
              <a:gs pos="100000">
                <a:srgbClr val="f39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on z. (t/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479920" y="1760400"/>
            <a:ext cx="1317600" cy="354240"/>
          </a:xfrm>
          <a:prstGeom prst="rect">
            <a:avLst/>
          </a:prstGeom>
          <a:gradFill rotWithShape="0">
            <a:gsLst>
              <a:gs pos="0">
                <a:srgbClr val="f39b00"/>
              </a:gs>
              <a:gs pos="50000">
                <a:srgbClr val="fea300"/>
              </a:gs>
              <a:gs pos="100000">
                <a:srgbClr val="f39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 kol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208400" y="1760400"/>
            <a:ext cx="1271520" cy="354240"/>
          </a:xfrm>
          <a:prstGeom prst="rect">
            <a:avLst/>
          </a:prstGeom>
          <a:gradFill rotWithShape="0">
            <a:gsLst>
              <a:gs pos="0">
                <a:srgbClr val="f39b00"/>
              </a:gs>
              <a:gs pos="50000">
                <a:srgbClr val="fea300"/>
              </a:gs>
              <a:gs pos="100000">
                <a:srgbClr val="f39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 roś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8640" y="1760400"/>
            <a:ext cx="3749760" cy="354240"/>
          </a:xfrm>
          <a:prstGeom prst="rect">
            <a:avLst/>
          </a:prstGeom>
          <a:gradFill rotWithShape="0">
            <a:gsLst>
              <a:gs pos="0">
                <a:srgbClr val="f39b00"/>
              </a:gs>
              <a:gs pos="50000">
                <a:srgbClr val="fea300"/>
              </a:gs>
              <a:gs pos="100000">
                <a:srgbClr val="f39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ys. szt./ 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8640" y="1760400"/>
            <a:ext cx="3749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58640" y="2114640"/>
            <a:ext cx="7850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8640" y="2587680"/>
            <a:ext cx="7850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58640" y="3062160"/>
            <a:ext cx="7850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58640" y="3537000"/>
            <a:ext cx="7850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58640" y="4011480"/>
            <a:ext cx="3749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58640" y="1760400"/>
            <a:ext cx="0" cy="354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08400" y="1760400"/>
            <a:ext cx="0" cy="225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479920" y="1760400"/>
            <a:ext cx="0" cy="225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797520" y="1760400"/>
            <a:ext cx="0" cy="225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308800" y="1760400"/>
            <a:ext cx="0" cy="354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208400" y="1760400"/>
            <a:ext cx="1271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8640" y="2114640"/>
            <a:ext cx="0" cy="473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479920" y="1760400"/>
            <a:ext cx="1317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797520" y="1760400"/>
            <a:ext cx="1511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308800" y="2114640"/>
            <a:ext cx="0" cy="473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8640" y="2587680"/>
            <a:ext cx="0" cy="47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308800" y="2587680"/>
            <a:ext cx="0" cy="47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8640" y="3062160"/>
            <a:ext cx="0" cy="474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08800" y="3062160"/>
            <a:ext cx="0" cy="474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58640" y="3537000"/>
            <a:ext cx="0" cy="47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8800" y="3537000"/>
            <a:ext cx="0" cy="47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208400" y="4011480"/>
            <a:ext cx="1271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479920" y="4011480"/>
            <a:ext cx="1317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797520" y="4011480"/>
            <a:ext cx="1511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58640" y="3054240"/>
            <a:ext cx="7832880" cy="47016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202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Zastosuj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468360" y="1628640"/>
            <a:ext cx="82072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spcBef>
                <a:spcPts val="1001"/>
              </a:spcBef>
              <a:spcAft>
                <a:spcPts val="1500"/>
              </a:spcAft>
              <a:buSzPct val="2569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oreal*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 programów zwalczania chwastów w kukurydz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z atrazy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001"/>
              </a:spcBef>
              <a:spcAft>
                <a:spcPts val="1500"/>
              </a:spcAft>
              <a:buSzPct val="2569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oreal*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 efektem uaktywnienia substancji aktywnej wraz z kolejnymi opadami deszczu, co zapewnia długotrwałe działanie produ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001"/>
              </a:spcBef>
              <a:spcAft>
                <a:spcPts val="1500"/>
              </a:spcAft>
              <a:buSzPct val="2569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oreal*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 dwóch bardzo aktywnych i skutecznych substancjach aktywny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zawarty w preparacie Merlin Super)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zawarty w preparacie Aspekt), aby zapewnić optymalne działanie na chwa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001"/>
              </a:spcBef>
              <a:spcAft>
                <a:spcPts val="1500"/>
              </a:spcAft>
              <a:buSzPct val="2569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oreal*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walczający chwasty uodpornione na triazyny, sulfonylomoczniki i glifo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202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Zastosuj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2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20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468360" y="1628640"/>
            <a:ext cx="820728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spcBef>
                <a:spcPts val="2001"/>
              </a:spcBef>
              <a:buSzPct val="2569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oreal*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lecany na wilgotne, dobrze uprawione gleby (szczególnie na cięższe i bogatsze w substancje organicz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2001"/>
              </a:spcBef>
              <a:buSzPct val="2569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oreal*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apewnia pole bez chwastów już od wschodów kukuryd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2001"/>
              </a:spcBef>
              <a:buSzPct val="2569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oreal*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 zwalczania zarówno chwastów dwuliściennych jak i jednoliściennych (prosowaty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2001"/>
              </a:spcBef>
              <a:buSzPct val="2569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oreal*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 stosowania w uprawie kukurydzy na ziarno i na kiszonk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2001"/>
              </a:spcBef>
              <a:buSzPct val="2569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oreal*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apewniający wysoką jakość plo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202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Zastosuj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2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7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20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044720" y="1521000"/>
            <a:ext cx="4751280" cy="48085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grpSp>
        <p:nvGrpSpPr>
          <p:cNvPr id="497" name=""/>
          <p:cNvGrpSpPr/>
          <p:nvPr/>
        </p:nvGrpSpPr>
        <p:grpSpPr>
          <a:xfrm>
            <a:off x="4802760" y="1251360"/>
            <a:ext cx="4317840" cy="4223880"/>
            <a:chOff x="4802760" y="1251360"/>
            <a:chExt cx="4317840" cy="4223880"/>
          </a:xfrm>
        </p:grpSpPr>
        <p:sp>
          <p:nvSpPr>
            <p:cNvPr id="498" name=""/>
            <p:cNvSpPr/>
            <p:nvPr/>
          </p:nvSpPr>
          <p:spPr>
            <a:xfrm rot="17605200">
              <a:off x="5383080" y="1694160"/>
              <a:ext cx="3156840" cy="3338280"/>
            </a:xfrm>
            <a:custGeom>
              <a:avLst/>
              <a:gdLst/>
              <a:ahLst/>
              <a:rect l="l" t="t" r="r" b="b"/>
              <a:pathLst>
                <a:path w="1375" h="1454">
                  <a:moveTo>
                    <a:pt x="1345" y="534"/>
                  </a:moveTo>
                  <a:lnTo>
                    <a:pt x="1343" y="526"/>
                  </a:lnTo>
                  <a:lnTo>
                    <a:pt x="1339" y="510"/>
                  </a:lnTo>
                  <a:lnTo>
                    <a:pt x="1335" y="494"/>
                  </a:lnTo>
                  <a:lnTo>
                    <a:pt x="1333" y="486"/>
                  </a:lnTo>
                  <a:lnTo>
                    <a:pt x="1321" y="432"/>
                  </a:lnTo>
                  <a:lnTo>
                    <a:pt x="1307" y="382"/>
                  </a:lnTo>
                  <a:lnTo>
                    <a:pt x="1287" y="337"/>
                  </a:lnTo>
                  <a:lnTo>
                    <a:pt x="1263" y="295"/>
                  </a:lnTo>
                  <a:lnTo>
                    <a:pt x="1234" y="259"/>
                  </a:lnTo>
                  <a:lnTo>
                    <a:pt x="1200" y="223"/>
                  </a:lnTo>
                  <a:lnTo>
                    <a:pt x="1160" y="191"/>
                  </a:lnTo>
                  <a:lnTo>
                    <a:pt x="1114" y="159"/>
                  </a:lnTo>
                  <a:lnTo>
                    <a:pt x="1104" y="154"/>
                  </a:lnTo>
                  <a:lnTo>
                    <a:pt x="1096" y="146"/>
                  </a:lnTo>
                  <a:lnTo>
                    <a:pt x="1086" y="140"/>
                  </a:lnTo>
                  <a:lnTo>
                    <a:pt x="1078" y="132"/>
                  </a:lnTo>
                  <a:lnTo>
                    <a:pt x="1070" y="126"/>
                  </a:lnTo>
                  <a:lnTo>
                    <a:pt x="1064" y="120"/>
                  </a:lnTo>
                  <a:lnTo>
                    <a:pt x="1056" y="112"/>
                  </a:lnTo>
                  <a:lnTo>
                    <a:pt x="1049" y="106"/>
                  </a:lnTo>
                  <a:lnTo>
                    <a:pt x="1031" y="90"/>
                  </a:lnTo>
                  <a:lnTo>
                    <a:pt x="1013" y="72"/>
                  </a:lnTo>
                  <a:lnTo>
                    <a:pt x="991" y="56"/>
                  </a:lnTo>
                  <a:lnTo>
                    <a:pt x="967" y="40"/>
                  </a:lnTo>
                  <a:lnTo>
                    <a:pt x="939" y="28"/>
                  </a:lnTo>
                  <a:lnTo>
                    <a:pt x="905" y="16"/>
                  </a:lnTo>
                  <a:lnTo>
                    <a:pt x="867" y="6"/>
                  </a:lnTo>
                  <a:lnTo>
                    <a:pt x="824" y="0"/>
                  </a:lnTo>
                  <a:lnTo>
                    <a:pt x="822" y="0"/>
                  </a:lnTo>
                  <a:lnTo>
                    <a:pt x="818" y="0"/>
                  </a:lnTo>
                  <a:lnTo>
                    <a:pt x="816" y="0"/>
                  </a:lnTo>
                  <a:lnTo>
                    <a:pt x="796" y="0"/>
                  </a:lnTo>
                  <a:lnTo>
                    <a:pt x="776" y="2"/>
                  </a:lnTo>
                  <a:lnTo>
                    <a:pt x="758" y="6"/>
                  </a:lnTo>
                  <a:lnTo>
                    <a:pt x="742" y="10"/>
                  </a:lnTo>
                  <a:lnTo>
                    <a:pt x="726" y="16"/>
                  </a:lnTo>
                  <a:lnTo>
                    <a:pt x="712" y="24"/>
                  </a:lnTo>
                  <a:lnTo>
                    <a:pt x="700" y="32"/>
                  </a:lnTo>
                  <a:lnTo>
                    <a:pt x="688" y="40"/>
                  </a:lnTo>
                  <a:lnTo>
                    <a:pt x="676" y="32"/>
                  </a:lnTo>
                  <a:lnTo>
                    <a:pt x="664" y="24"/>
                  </a:lnTo>
                  <a:lnTo>
                    <a:pt x="649" y="16"/>
                  </a:lnTo>
                  <a:lnTo>
                    <a:pt x="635" y="10"/>
                  </a:lnTo>
                  <a:lnTo>
                    <a:pt x="617" y="6"/>
                  </a:lnTo>
                  <a:lnTo>
                    <a:pt x="599" y="2"/>
                  </a:lnTo>
                  <a:lnTo>
                    <a:pt x="581" y="0"/>
                  </a:lnTo>
                  <a:lnTo>
                    <a:pt x="559" y="0"/>
                  </a:lnTo>
                  <a:lnTo>
                    <a:pt x="557" y="0"/>
                  </a:lnTo>
                  <a:lnTo>
                    <a:pt x="553" y="0"/>
                  </a:lnTo>
                  <a:lnTo>
                    <a:pt x="551" y="0"/>
                  </a:lnTo>
                  <a:lnTo>
                    <a:pt x="507" y="6"/>
                  </a:lnTo>
                  <a:lnTo>
                    <a:pt x="469" y="16"/>
                  </a:lnTo>
                  <a:lnTo>
                    <a:pt x="438" y="28"/>
                  </a:lnTo>
                  <a:lnTo>
                    <a:pt x="410" y="40"/>
                  </a:lnTo>
                  <a:lnTo>
                    <a:pt x="384" y="56"/>
                  </a:lnTo>
                  <a:lnTo>
                    <a:pt x="364" y="72"/>
                  </a:lnTo>
                  <a:lnTo>
                    <a:pt x="344" y="90"/>
                  </a:lnTo>
                  <a:lnTo>
                    <a:pt x="326" y="106"/>
                  </a:lnTo>
                  <a:lnTo>
                    <a:pt x="318" y="112"/>
                  </a:lnTo>
                  <a:lnTo>
                    <a:pt x="310" y="120"/>
                  </a:lnTo>
                  <a:lnTo>
                    <a:pt x="304" y="126"/>
                  </a:lnTo>
                  <a:lnTo>
                    <a:pt x="296" y="132"/>
                  </a:lnTo>
                  <a:lnTo>
                    <a:pt x="288" y="140"/>
                  </a:lnTo>
                  <a:lnTo>
                    <a:pt x="278" y="146"/>
                  </a:lnTo>
                  <a:lnTo>
                    <a:pt x="271" y="154"/>
                  </a:lnTo>
                  <a:lnTo>
                    <a:pt x="261" y="159"/>
                  </a:lnTo>
                  <a:lnTo>
                    <a:pt x="215" y="191"/>
                  </a:lnTo>
                  <a:lnTo>
                    <a:pt x="173" y="223"/>
                  </a:lnTo>
                  <a:lnTo>
                    <a:pt x="139" y="259"/>
                  </a:lnTo>
                  <a:lnTo>
                    <a:pt x="109" y="297"/>
                  </a:lnTo>
                  <a:lnTo>
                    <a:pt x="85" y="339"/>
                  </a:lnTo>
                  <a:lnTo>
                    <a:pt x="68" y="384"/>
                  </a:lnTo>
                  <a:lnTo>
                    <a:pt x="52" y="434"/>
                  </a:lnTo>
                  <a:lnTo>
                    <a:pt x="42" y="490"/>
                  </a:lnTo>
                  <a:lnTo>
                    <a:pt x="42" y="490"/>
                  </a:lnTo>
                  <a:lnTo>
                    <a:pt x="40" y="496"/>
                  </a:lnTo>
                  <a:lnTo>
                    <a:pt x="40" y="500"/>
                  </a:lnTo>
                  <a:lnTo>
                    <a:pt x="38" y="506"/>
                  </a:lnTo>
                  <a:lnTo>
                    <a:pt x="36" y="510"/>
                  </a:lnTo>
                  <a:lnTo>
                    <a:pt x="30" y="534"/>
                  </a:lnTo>
                  <a:lnTo>
                    <a:pt x="20" y="570"/>
                  </a:lnTo>
                  <a:lnTo>
                    <a:pt x="10" y="611"/>
                  </a:lnTo>
                  <a:lnTo>
                    <a:pt x="4" y="659"/>
                  </a:lnTo>
                  <a:lnTo>
                    <a:pt x="0" y="713"/>
                  </a:lnTo>
                  <a:lnTo>
                    <a:pt x="2" y="753"/>
                  </a:lnTo>
                  <a:lnTo>
                    <a:pt x="6" y="793"/>
                  </a:lnTo>
                  <a:lnTo>
                    <a:pt x="14" y="834"/>
                  </a:lnTo>
                  <a:lnTo>
                    <a:pt x="26" y="876"/>
                  </a:lnTo>
                  <a:lnTo>
                    <a:pt x="34" y="900"/>
                  </a:lnTo>
                  <a:lnTo>
                    <a:pt x="42" y="920"/>
                  </a:lnTo>
                  <a:lnTo>
                    <a:pt x="50" y="938"/>
                  </a:lnTo>
                  <a:lnTo>
                    <a:pt x="58" y="956"/>
                  </a:lnTo>
                  <a:lnTo>
                    <a:pt x="68" y="970"/>
                  </a:lnTo>
                  <a:lnTo>
                    <a:pt x="76" y="984"/>
                  </a:lnTo>
                  <a:lnTo>
                    <a:pt x="85" y="998"/>
                  </a:lnTo>
                  <a:lnTo>
                    <a:pt x="93" y="1010"/>
                  </a:lnTo>
                  <a:lnTo>
                    <a:pt x="105" y="1025"/>
                  </a:lnTo>
                  <a:lnTo>
                    <a:pt x="115" y="1041"/>
                  </a:lnTo>
                  <a:lnTo>
                    <a:pt x="127" y="1059"/>
                  </a:lnTo>
                  <a:lnTo>
                    <a:pt x="137" y="1081"/>
                  </a:lnTo>
                  <a:lnTo>
                    <a:pt x="137" y="1081"/>
                  </a:lnTo>
                  <a:lnTo>
                    <a:pt x="137" y="1085"/>
                  </a:lnTo>
                  <a:lnTo>
                    <a:pt x="139" y="1087"/>
                  </a:lnTo>
                  <a:lnTo>
                    <a:pt x="139" y="1091"/>
                  </a:lnTo>
                  <a:lnTo>
                    <a:pt x="141" y="1095"/>
                  </a:lnTo>
                  <a:lnTo>
                    <a:pt x="149" y="1115"/>
                  </a:lnTo>
                  <a:lnTo>
                    <a:pt x="159" y="1137"/>
                  </a:lnTo>
                  <a:lnTo>
                    <a:pt x="171" y="1163"/>
                  </a:lnTo>
                  <a:lnTo>
                    <a:pt x="189" y="1191"/>
                  </a:lnTo>
                  <a:lnTo>
                    <a:pt x="211" y="1221"/>
                  </a:lnTo>
                  <a:lnTo>
                    <a:pt x="239" y="1248"/>
                  </a:lnTo>
                  <a:lnTo>
                    <a:pt x="271" y="1278"/>
                  </a:lnTo>
                  <a:lnTo>
                    <a:pt x="312" y="1306"/>
                  </a:lnTo>
                  <a:lnTo>
                    <a:pt x="324" y="1316"/>
                  </a:lnTo>
                  <a:lnTo>
                    <a:pt x="336" y="1326"/>
                  </a:lnTo>
                  <a:lnTo>
                    <a:pt x="348" y="1338"/>
                  </a:lnTo>
                  <a:lnTo>
                    <a:pt x="360" y="1350"/>
                  </a:lnTo>
                  <a:lnTo>
                    <a:pt x="378" y="1368"/>
                  </a:lnTo>
                  <a:lnTo>
                    <a:pt x="396" y="1386"/>
                  </a:lnTo>
                  <a:lnTo>
                    <a:pt x="418" y="1402"/>
                  </a:lnTo>
                  <a:lnTo>
                    <a:pt x="440" y="1418"/>
                  </a:lnTo>
                  <a:lnTo>
                    <a:pt x="466" y="1432"/>
                  </a:lnTo>
                  <a:lnTo>
                    <a:pt x="493" y="1444"/>
                  </a:lnTo>
                  <a:lnTo>
                    <a:pt x="523" y="1450"/>
                  </a:lnTo>
                  <a:lnTo>
                    <a:pt x="557" y="1454"/>
                  </a:lnTo>
                  <a:lnTo>
                    <a:pt x="557" y="1454"/>
                  </a:lnTo>
                  <a:lnTo>
                    <a:pt x="579" y="1454"/>
                  </a:lnTo>
                  <a:lnTo>
                    <a:pt x="599" y="1450"/>
                  </a:lnTo>
                  <a:lnTo>
                    <a:pt x="617" y="1448"/>
                  </a:lnTo>
                  <a:lnTo>
                    <a:pt x="635" y="1442"/>
                  </a:lnTo>
                  <a:lnTo>
                    <a:pt x="649" y="1436"/>
                  </a:lnTo>
                  <a:lnTo>
                    <a:pt x="664" y="1430"/>
                  </a:lnTo>
                  <a:lnTo>
                    <a:pt x="676" y="1422"/>
                  </a:lnTo>
                  <a:lnTo>
                    <a:pt x="688" y="1414"/>
                  </a:lnTo>
                  <a:lnTo>
                    <a:pt x="702" y="1424"/>
                  </a:lnTo>
                  <a:lnTo>
                    <a:pt x="716" y="1432"/>
                  </a:lnTo>
                  <a:lnTo>
                    <a:pt x="732" y="1438"/>
                  </a:lnTo>
                  <a:lnTo>
                    <a:pt x="746" y="1444"/>
                  </a:lnTo>
                  <a:lnTo>
                    <a:pt x="764" y="1448"/>
                  </a:lnTo>
                  <a:lnTo>
                    <a:pt x="780" y="1452"/>
                  </a:lnTo>
                  <a:lnTo>
                    <a:pt x="798" y="1454"/>
                  </a:lnTo>
                  <a:lnTo>
                    <a:pt x="816" y="1454"/>
                  </a:lnTo>
                  <a:lnTo>
                    <a:pt x="850" y="1450"/>
                  </a:lnTo>
                  <a:lnTo>
                    <a:pt x="881" y="1444"/>
                  </a:lnTo>
                  <a:lnTo>
                    <a:pt x="909" y="1432"/>
                  </a:lnTo>
                  <a:lnTo>
                    <a:pt x="935" y="1418"/>
                  </a:lnTo>
                  <a:lnTo>
                    <a:pt x="957" y="1402"/>
                  </a:lnTo>
                  <a:lnTo>
                    <a:pt x="979" y="1386"/>
                  </a:lnTo>
                  <a:lnTo>
                    <a:pt x="997" y="1368"/>
                  </a:lnTo>
                  <a:lnTo>
                    <a:pt x="1015" y="1350"/>
                  </a:lnTo>
                  <a:lnTo>
                    <a:pt x="1027" y="1338"/>
                  </a:lnTo>
                  <a:lnTo>
                    <a:pt x="1041" y="1326"/>
                  </a:lnTo>
                  <a:lnTo>
                    <a:pt x="1052" y="1316"/>
                  </a:lnTo>
                  <a:lnTo>
                    <a:pt x="1064" y="1306"/>
                  </a:lnTo>
                  <a:lnTo>
                    <a:pt x="1104" y="1278"/>
                  </a:lnTo>
                  <a:lnTo>
                    <a:pt x="1138" y="1248"/>
                  </a:lnTo>
                  <a:lnTo>
                    <a:pt x="1164" y="1221"/>
                  </a:lnTo>
                  <a:lnTo>
                    <a:pt x="1186" y="1191"/>
                  </a:lnTo>
                  <a:lnTo>
                    <a:pt x="1204" y="1163"/>
                  </a:lnTo>
                  <a:lnTo>
                    <a:pt x="1216" y="1137"/>
                  </a:lnTo>
                  <a:lnTo>
                    <a:pt x="1226" y="1115"/>
                  </a:lnTo>
                  <a:lnTo>
                    <a:pt x="1234" y="1095"/>
                  </a:lnTo>
                  <a:lnTo>
                    <a:pt x="1234" y="1093"/>
                  </a:lnTo>
                  <a:lnTo>
                    <a:pt x="1236" y="1089"/>
                  </a:lnTo>
                  <a:lnTo>
                    <a:pt x="1238" y="1083"/>
                  </a:lnTo>
                  <a:lnTo>
                    <a:pt x="1240" y="1079"/>
                  </a:lnTo>
                  <a:lnTo>
                    <a:pt x="1249" y="1059"/>
                  </a:lnTo>
                  <a:lnTo>
                    <a:pt x="1259" y="1041"/>
                  </a:lnTo>
                  <a:lnTo>
                    <a:pt x="1271" y="1025"/>
                  </a:lnTo>
                  <a:lnTo>
                    <a:pt x="1281" y="1010"/>
                  </a:lnTo>
                  <a:lnTo>
                    <a:pt x="1289" y="998"/>
                  </a:lnTo>
                  <a:lnTo>
                    <a:pt x="1299" y="984"/>
                  </a:lnTo>
                  <a:lnTo>
                    <a:pt x="1307" y="970"/>
                  </a:lnTo>
                  <a:lnTo>
                    <a:pt x="1317" y="956"/>
                  </a:lnTo>
                  <a:lnTo>
                    <a:pt x="1325" y="938"/>
                  </a:lnTo>
                  <a:lnTo>
                    <a:pt x="1333" y="920"/>
                  </a:lnTo>
                  <a:lnTo>
                    <a:pt x="1341" y="900"/>
                  </a:lnTo>
                  <a:lnTo>
                    <a:pt x="1349" y="876"/>
                  </a:lnTo>
                  <a:lnTo>
                    <a:pt x="1361" y="834"/>
                  </a:lnTo>
                  <a:lnTo>
                    <a:pt x="1369" y="793"/>
                  </a:lnTo>
                  <a:lnTo>
                    <a:pt x="1373" y="753"/>
                  </a:lnTo>
                  <a:lnTo>
                    <a:pt x="1375" y="713"/>
                  </a:lnTo>
                  <a:lnTo>
                    <a:pt x="1373" y="659"/>
                  </a:lnTo>
                  <a:lnTo>
                    <a:pt x="1365" y="611"/>
                  </a:lnTo>
                  <a:lnTo>
                    <a:pt x="1355" y="570"/>
                  </a:lnTo>
                  <a:lnTo>
                    <a:pt x="1345" y="534"/>
                  </a:lnTo>
                  <a:lnTo>
                    <a:pt x="1345" y="5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7605200">
              <a:off x="6051960" y="2584080"/>
              <a:ext cx="1266840" cy="2833200"/>
            </a:xfrm>
            <a:custGeom>
              <a:avLst/>
              <a:gdLst/>
              <a:ahLst/>
              <a:rect l="l" t="t" r="r" b="b"/>
              <a:pathLst>
                <a:path w="552" h="1234">
                  <a:moveTo>
                    <a:pt x="552" y="101"/>
                  </a:moveTo>
                  <a:lnTo>
                    <a:pt x="552" y="99"/>
                  </a:lnTo>
                  <a:lnTo>
                    <a:pt x="552" y="97"/>
                  </a:lnTo>
                  <a:lnTo>
                    <a:pt x="552" y="97"/>
                  </a:lnTo>
                  <a:lnTo>
                    <a:pt x="552" y="95"/>
                  </a:lnTo>
                  <a:lnTo>
                    <a:pt x="550" y="85"/>
                  </a:lnTo>
                  <a:lnTo>
                    <a:pt x="548" y="71"/>
                  </a:lnTo>
                  <a:lnTo>
                    <a:pt x="542" y="55"/>
                  </a:lnTo>
                  <a:lnTo>
                    <a:pt x="534" y="40"/>
                  </a:lnTo>
                  <a:lnTo>
                    <a:pt x="520" y="24"/>
                  </a:lnTo>
                  <a:lnTo>
                    <a:pt x="502" y="12"/>
                  </a:lnTo>
                  <a:lnTo>
                    <a:pt x="480" y="4"/>
                  </a:lnTo>
                  <a:lnTo>
                    <a:pt x="450" y="0"/>
                  </a:lnTo>
                  <a:lnTo>
                    <a:pt x="420" y="4"/>
                  </a:lnTo>
                  <a:lnTo>
                    <a:pt x="394" y="10"/>
                  </a:lnTo>
                  <a:lnTo>
                    <a:pt x="374" y="18"/>
                  </a:lnTo>
                  <a:lnTo>
                    <a:pt x="355" y="26"/>
                  </a:lnTo>
                  <a:lnTo>
                    <a:pt x="339" y="36"/>
                  </a:lnTo>
                  <a:lnTo>
                    <a:pt x="323" y="47"/>
                  </a:lnTo>
                  <a:lnTo>
                    <a:pt x="309" y="61"/>
                  </a:lnTo>
                  <a:lnTo>
                    <a:pt x="293" y="75"/>
                  </a:lnTo>
                  <a:lnTo>
                    <a:pt x="285" y="83"/>
                  </a:lnTo>
                  <a:lnTo>
                    <a:pt x="275" y="91"/>
                  </a:lnTo>
                  <a:lnTo>
                    <a:pt x="267" y="99"/>
                  </a:lnTo>
                  <a:lnTo>
                    <a:pt x="257" y="107"/>
                  </a:lnTo>
                  <a:lnTo>
                    <a:pt x="247" y="117"/>
                  </a:lnTo>
                  <a:lnTo>
                    <a:pt x="235" y="125"/>
                  </a:lnTo>
                  <a:lnTo>
                    <a:pt x="223" y="135"/>
                  </a:lnTo>
                  <a:lnTo>
                    <a:pt x="211" y="143"/>
                  </a:lnTo>
                  <a:lnTo>
                    <a:pt x="173" y="167"/>
                  </a:lnTo>
                  <a:lnTo>
                    <a:pt x="144" y="193"/>
                  </a:lnTo>
                  <a:lnTo>
                    <a:pt x="116" y="221"/>
                  </a:lnTo>
                  <a:lnTo>
                    <a:pt x="94" y="249"/>
                  </a:lnTo>
                  <a:lnTo>
                    <a:pt x="76" y="280"/>
                  </a:lnTo>
                  <a:lnTo>
                    <a:pt x="60" y="316"/>
                  </a:lnTo>
                  <a:lnTo>
                    <a:pt x="48" y="356"/>
                  </a:lnTo>
                  <a:lnTo>
                    <a:pt x="40" y="400"/>
                  </a:lnTo>
                  <a:lnTo>
                    <a:pt x="26" y="454"/>
                  </a:lnTo>
                  <a:lnTo>
                    <a:pt x="16" y="485"/>
                  </a:lnTo>
                  <a:lnTo>
                    <a:pt x="8" y="521"/>
                  </a:lnTo>
                  <a:lnTo>
                    <a:pt x="2" y="559"/>
                  </a:lnTo>
                  <a:lnTo>
                    <a:pt x="0" y="603"/>
                  </a:lnTo>
                  <a:lnTo>
                    <a:pt x="2" y="633"/>
                  </a:lnTo>
                  <a:lnTo>
                    <a:pt x="6" y="665"/>
                  </a:lnTo>
                  <a:lnTo>
                    <a:pt x="12" y="698"/>
                  </a:lnTo>
                  <a:lnTo>
                    <a:pt x="22" y="734"/>
                  </a:lnTo>
                  <a:lnTo>
                    <a:pt x="22" y="736"/>
                  </a:lnTo>
                  <a:lnTo>
                    <a:pt x="32" y="766"/>
                  </a:lnTo>
                  <a:lnTo>
                    <a:pt x="46" y="792"/>
                  </a:lnTo>
                  <a:lnTo>
                    <a:pt x="58" y="814"/>
                  </a:lnTo>
                  <a:lnTo>
                    <a:pt x="74" y="834"/>
                  </a:lnTo>
                  <a:lnTo>
                    <a:pt x="86" y="852"/>
                  </a:lnTo>
                  <a:lnTo>
                    <a:pt x="100" y="874"/>
                  </a:lnTo>
                  <a:lnTo>
                    <a:pt x="116" y="898"/>
                  </a:lnTo>
                  <a:lnTo>
                    <a:pt x="130" y="927"/>
                  </a:lnTo>
                  <a:lnTo>
                    <a:pt x="136" y="945"/>
                  </a:lnTo>
                  <a:lnTo>
                    <a:pt x="144" y="963"/>
                  </a:lnTo>
                  <a:lnTo>
                    <a:pt x="152" y="981"/>
                  </a:lnTo>
                  <a:lnTo>
                    <a:pt x="162" y="1001"/>
                  </a:lnTo>
                  <a:lnTo>
                    <a:pt x="173" y="1021"/>
                  </a:lnTo>
                  <a:lnTo>
                    <a:pt x="189" y="1043"/>
                  </a:lnTo>
                  <a:lnTo>
                    <a:pt x="209" y="1063"/>
                  </a:lnTo>
                  <a:lnTo>
                    <a:pt x="235" y="1085"/>
                  </a:lnTo>
                  <a:lnTo>
                    <a:pt x="265" y="1105"/>
                  </a:lnTo>
                  <a:lnTo>
                    <a:pt x="265" y="1105"/>
                  </a:lnTo>
                  <a:lnTo>
                    <a:pt x="265" y="1105"/>
                  </a:lnTo>
                  <a:lnTo>
                    <a:pt x="275" y="1111"/>
                  </a:lnTo>
                  <a:lnTo>
                    <a:pt x="283" y="1119"/>
                  </a:lnTo>
                  <a:lnTo>
                    <a:pt x="293" y="1125"/>
                  </a:lnTo>
                  <a:lnTo>
                    <a:pt x="301" y="1132"/>
                  </a:lnTo>
                  <a:lnTo>
                    <a:pt x="309" y="1140"/>
                  </a:lnTo>
                  <a:lnTo>
                    <a:pt x="315" y="1148"/>
                  </a:lnTo>
                  <a:lnTo>
                    <a:pt x="323" y="1154"/>
                  </a:lnTo>
                  <a:lnTo>
                    <a:pt x="331" y="1162"/>
                  </a:lnTo>
                  <a:lnTo>
                    <a:pt x="345" y="1176"/>
                  </a:lnTo>
                  <a:lnTo>
                    <a:pt x="357" y="1188"/>
                  </a:lnTo>
                  <a:lnTo>
                    <a:pt x="370" y="1200"/>
                  </a:lnTo>
                  <a:lnTo>
                    <a:pt x="384" y="1212"/>
                  </a:lnTo>
                  <a:lnTo>
                    <a:pt x="400" y="1220"/>
                  </a:lnTo>
                  <a:lnTo>
                    <a:pt x="416" y="1228"/>
                  </a:lnTo>
                  <a:lnTo>
                    <a:pt x="432" y="1232"/>
                  </a:lnTo>
                  <a:lnTo>
                    <a:pt x="450" y="1234"/>
                  </a:lnTo>
                  <a:lnTo>
                    <a:pt x="480" y="1230"/>
                  </a:lnTo>
                  <a:lnTo>
                    <a:pt x="502" y="1222"/>
                  </a:lnTo>
                  <a:lnTo>
                    <a:pt x="520" y="1210"/>
                  </a:lnTo>
                  <a:lnTo>
                    <a:pt x="534" y="1194"/>
                  </a:lnTo>
                  <a:lnTo>
                    <a:pt x="542" y="1178"/>
                  </a:lnTo>
                  <a:lnTo>
                    <a:pt x="548" y="1162"/>
                  </a:lnTo>
                  <a:lnTo>
                    <a:pt x="550" y="1148"/>
                  </a:lnTo>
                  <a:lnTo>
                    <a:pt x="552" y="1138"/>
                  </a:lnTo>
                  <a:lnTo>
                    <a:pt x="552" y="1136"/>
                  </a:lnTo>
                  <a:lnTo>
                    <a:pt x="552" y="1134"/>
                  </a:lnTo>
                  <a:lnTo>
                    <a:pt x="552" y="1134"/>
                  </a:lnTo>
                  <a:lnTo>
                    <a:pt x="552" y="1132"/>
                  </a:lnTo>
                  <a:lnTo>
                    <a:pt x="552" y="101"/>
                  </a:lnTo>
                  <a:lnTo>
                    <a:pt x="552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17605200">
              <a:off x="6604560" y="1310040"/>
              <a:ext cx="1265040" cy="2833200"/>
            </a:xfrm>
            <a:custGeom>
              <a:avLst/>
              <a:gdLst/>
              <a:ahLst/>
              <a:rect l="l" t="t" r="r" b="b"/>
              <a:pathLst>
                <a:path w="551" h="1234">
                  <a:moveTo>
                    <a:pt x="512" y="398"/>
                  </a:moveTo>
                  <a:lnTo>
                    <a:pt x="504" y="354"/>
                  </a:lnTo>
                  <a:lnTo>
                    <a:pt x="492" y="314"/>
                  </a:lnTo>
                  <a:lnTo>
                    <a:pt x="476" y="280"/>
                  </a:lnTo>
                  <a:lnTo>
                    <a:pt x="458" y="249"/>
                  </a:lnTo>
                  <a:lnTo>
                    <a:pt x="436" y="221"/>
                  </a:lnTo>
                  <a:lnTo>
                    <a:pt x="408" y="193"/>
                  </a:lnTo>
                  <a:lnTo>
                    <a:pt x="378" y="167"/>
                  </a:lnTo>
                  <a:lnTo>
                    <a:pt x="340" y="143"/>
                  </a:lnTo>
                  <a:lnTo>
                    <a:pt x="329" y="135"/>
                  </a:lnTo>
                  <a:lnTo>
                    <a:pt x="317" y="125"/>
                  </a:lnTo>
                  <a:lnTo>
                    <a:pt x="305" y="117"/>
                  </a:lnTo>
                  <a:lnTo>
                    <a:pt x="295" y="107"/>
                  </a:lnTo>
                  <a:lnTo>
                    <a:pt x="285" y="99"/>
                  </a:lnTo>
                  <a:lnTo>
                    <a:pt x="277" y="91"/>
                  </a:lnTo>
                  <a:lnTo>
                    <a:pt x="267" y="83"/>
                  </a:lnTo>
                  <a:lnTo>
                    <a:pt x="259" y="75"/>
                  </a:lnTo>
                  <a:lnTo>
                    <a:pt x="243" y="61"/>
                  </a:lnTo>
                  <a:lnTo>
                    <a:pt x="229" y="47"/>
                  </a:lnTo>
                  <a:lnTo>
                    <a:pt x="213" y="36"/>
                  </a:lnTo>
                  <a:lnTo>
                    <a:pt x="197" y="26"/>
                  </a:lnTo>
                  <a:lnTo>
                    <a:pt x="177" y="18"/>
                  </a:lnTo>
                  <a:lnTo>
                    <a:pt x="157" y="10"/>
                  </a:lnTo>
                  <a:lnTo>
                    <a:pt x="132" y="4"/>
                  </a:lnTo>
                  <a:lnTo>
                    <a:pt x="102" y="0"/>
                  </a:lnTo>
                  <a:lnTo>
                    <a:pt x="72" y="4"/>
                  </a:lnTo>
                  <a:lnTo>
                    <a:pt x="50" y="12"/>
                  </a:lnTo>
                  <a:lnTo>
                    <a:pt x="32" y="24"/>
                  </a:lnTo>
                  <a:lnTo>
                    <a:pt x="18" y="40"/>
                  </a:lnTo>
                  <a:lnTo>
                    <a:pt x="10" y="55"/>
                  </a:lnTo>
                  <a:lnTo>
                    <a:pt x="4" y="71"/>
                  </a:lnTo>
                  <a:lnTo>
                    <a:pt x="2" y="85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2" y="97"/>
                  </a:lnTo>
                  <a:lnTo>
                    <a:pt x="2" y="99"/>
                  </a:lnTo>
                  <a:lnTo>
                    <a:pt x="2" y="101"/>
                  </a:lnTo>
                  <a:lnTo>
                    <a:pt x="2" y="1132"/>
                  </a:lnTo>
                  <a:lnTo>
                    <a:pt x="2" y="1134"/>
                  </a:lnTo>
                  <a:lnTo>
                    <a:pt x="2" y="1134"/>
                  </a:lnTo>
                  <a:lnTo>
                    <a:pt x="0" y="1136"/>
                  </a:lnTo>
                  <a:lnTo>
                    <a:pt x="0" y="1138"/>
                  </a:lnTo>
                  <a:lnTo>
                    <a:pt x="2" y="1148"/>
                  </a:lnTo>
                  <a:lnTo>
                    <a:pt x="4" y="1162"/>
                  </a:lnTo>
                  <a:lnTo>
                    <a:pt x="10" y="1178"/>
                  </a:lnTo>
                  <a:lnTo>
                    <a:pt x="18" y="1194"/>
                  </a:lnTo>
                  <a:lnTo>
                    <a:pt x="32" y="1210"/>
                  </a:lnTo>
                  <a:lnTo>
                    <a:pt x="50" y="1222"/>
                  </a:lnTo>
                  <a:lnTo>
                    <a:pt x="72" y="1230"/>
                  </a:lnTo>
                  <a:lnTo>
                    <a:pt x="102" y="1234"/>
                  </a:lnTo>
                  <a:lnTo>
                    <a:pt x="120" y="1232"/>
                  </a:lnTo>
                  <a:lnTo>
                    <a:pt x="138" y="1228"/>
                  </a:lnTo>
                  <a:lnTo>
                    <a:pt x="153" y="1220"/>
                  </a:lnTo>
                  <a:lnTo>
                    <a:pt x="167" y="1212"/>
                  </a:lnTo>
                  <a:lnTo>
                    <a:pt x="181" y="1200"/>
                  </a:lnTo>
                  <a:lnTo>
                    <a:pt x="195" y="1188"/>
                  </a:lnTo>
                  <a:lnTo>
                    <a:pt x="207" y="1176"/>
                  </a:lnTo>
                  <a:lnTo>
                    <a:pt x="221" y="1162"/>
                  </a:lnTo>
                  <a:lnTo>
                    <a:pt x="229" y="1154"/>
                  </a:lnTo>
                  <a:lnTo>
                    <a:pt x="237" y="1148"/>
                  </a:lnTo>
                  <a:lnTo>
                    <a:pt x="243" y="1140"/>
                  </a:lnTo>
                  <a:lnTo>
                    <a:pt x="251" y="1132"/>
                  </a:lnTo>
                  <a:lnTo>
                    <a:pt x="259" y="1125"/>
                  </a:lnTo>
                  <a:lnTo>
                    <a:pt x="269" y="1119"/>
                  </a:lnTo>
                  <a:lnTo>
                    <a:pt x="277" y="1111"/>
                  </a:lnTo>
                  <a:lnTo>
                    <a:pt x="287" y="1105"/>
                  </a:lnTo>
                  <a:lnTo>
                    <a:pt x="287" y="1105"/>
                  </a:lnTo>
                  <a:lnTo>
                    <a:pt x="289" y="1105"/>
                  </a:lnTo>
                  <a:lnTo>
                    <a:pt x="319" y="1085"/>
                  </a:lnTo>
                  <a:lnTo>
                    <a:pt x="342" y="1063"/>
                  </a:lnTo>
                  <a:lnTo>
                    <a:pt x="362" y="1043"/>
                  </a:lnTo>
                  <a:lnTo>
                    <a:pt x="378" y="1021"/>
                  </a:lnTo>
                  <a:lnTo>
                    <a:pt x="390" y="1001"/>
                  </a:lnTo>
                  <a:lnTo>
                    <a:pt x="400" y="981"/>
                  </a:lnTo>
                  <a:lnTo>
                    <a:pt x="408" y="963"/>
                  </a:lnTo>
                  <a:lnTo>
                    <a:pt x="416" y="945"/>
                  </a:lnTo>
                  <a:lnTo>
                    <a:pt x="422" y="927"/>
                  </a:lnTo>
                  <a:lnTo>
                    <a:pt x="436" y="898"/>
                  </a:lnTo>
                  <a:lnTo>
                    <a:pt x="452" y="874"/>
                  </a:lnTo>
                  <a:lnTo>
                    <a:pt x="466" y="852"/>
                  </a:lnTo>
                  <a:lnTo>
                    <a:pt x="478" y="834"/>
                  </a:lnTo>
                  <a:lnTo>
                    <a:pt x="494" y="814"/>
                  </a:lnTo>
                  <a:lnTo>
                    <a:pt x="508" y="792"/>
                  </a:lnTo>
                  <a:lnTo>
                    <a:pt x="520" y="766"/>
                  </a:lnTo>
                  <a:lnTo>
                    <a:pt x="530" y="736"/>
                  </a:lnTo>
                  <a:lnTo>
                    <a:pt x="530" y="734"/>
                  </a:lnTo>
                  <a:lnTo>
                    <a:pt x="539" y="698"/>
                  </a:lnTo>
                  <a:lnTo>
                    <a:pt x="547" y="665"/>
                  </a:lnTo>
                  <a:lnTo>
                    <a:pt x="549" y="633"/>
                  </a:lnTo>
                  <a:lnTo>
                    <a:pt x="551" y="603"/>
                  </a:lnTo>
                  <a:lnTo>
                    <a:pt x="549" y="559"/>
                  </a:lnTo>
                  <a:lnTo>
                    <a:pt x="543" y="521"/>
                  </a:lnTo>
                  <a:lnTo>
                    <a:pt x="535" y="485"/>
                  </a:lnTo>
                  <a:lnTo>
                    <a:pt x="526" y="454"/>
                  </a:lnTo>
                  <a:lnTo>
                    <a:pt x="512" y="398"/>
                  </a:lnTo>
                  <a:lnTo>
                    <a:pt x="512" y="3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17605200">
              <a:off x="6154200" y="2624400"/>
              <a:ext cx="1122120" cy="2605680"/>
            </a:xfrm>
            <a:custGeom>
              <a:avLst/>
              <a:gdLst/>
              <a:ahLst/>
              <a:rect l="l" t="t" r="r" b="b"/>
              <a:pathLst>
                <a:path w="489" h="1135">
                  <a:moveTo>
                    <a:pt x="487" y="94"/>
                  </a:moveTo>
                  <a:lnTo>
                    <a:pt x="487" y="92"/>
                  </a:lnTo>
                  <a:lnTo>
                    <a:pt x="489" y="90"/>
                  </a:lnTo>
                  <a:lnTo>
                    <a:pt x="489" y="90"/>
                  </a:lnTo>
                  <a:lnTo>
                    <a:pt x="489" y="88"/>
                  </a:lnTo>
                  <a:lnTo>
                    <a:pt x="487" y="78"/>
                  </a:lnTo>
                  <a:lnTo>
                    <a:pt x="486" y="66"/>
                  </a:lnTo>
                  <a:lnTo>
                    <a:pt x="480" y="52"/>
                  </a:lnTo>
                  <a:lnTo>
                    <a:pt x="472" y="38"/>
                  </a:lnTo>
                  <a:lnTo>
                    <a:pt x="462" y="24"/>
                  </a:lnTo>
                  <a:lnTo>
                    <a:pt x="446" y="12"/>
                  </a:lnTo>
                  <a:lnTo>
                    <a:pt x="426" y="4"/>
                  </a:lnTo>
                  <a:lnTo>
                    <a:pt x="400" y="0"/>
                  </a:lnTo>
                  <a:lnTo>
                    <a:pt x="374" y="4"/>
                  </a:lnTo>
                  <a:lnTo>
                    <a:pt x="350" y="10"/>
                  </a:lnTo>
                  <a:lnTo>
                    <a:pt x="330" y="16"/>
                  </a:lnTo>
                  <a:lnTo>
                    <a:pt x="314" y="24"/>
                  </a:lnTo>
                  <a:lnTo>
                    <a:pt x="300" y="34"/>
                  </a:lnTo>
                  <a:lnTo>
                    <a:pt x="287" y="44"/>
                  </a:lnTo>
                  <a:lnTo>
                    <a:pt x="275" y="56"/>
                  </a:lnTo>
                  <a:lnTo>
                    <a:pt x="261" y="70"/>
                  </a:lnTo>
                  <a:lnTo>
                    <a:pt x="253" y="76"/>
                  </a:lnTo>
                  <a:lnTo>
                    <a:pt x="245" y="84"/>
                  </a:lnTo>
                  <a:lnTo>
                    <a:pt x="237" y="92"/>
                  </a:lnTo>
                  <a:lnTo>
                    <a:pt x="229" y="100"/>
                  </a:lnTo>
                  <a:lnTo>
                    <a:pt x="219" y="108"/>
                  </a:lnTo>
                  <a:lnTo>
                    <a:pt x="209" y="116"/>
                  </a:lnTo>
                  <a:lnTo>
                    <a:pt x="199" y="124"/>
                  </a:lnTo>
                  <a:lnTo>
                    <a:pt x="187" y="132"/>
                  </a:lnTo>
                  <a:lnTo>
                    <a:pt x="155" y="154"/>
                  </a:lnTo>
                  <a:lnTo>
                    <a:pt x="127" y="178"/>
                  </a:lnTo>
                  <a:lnTo>
                    <a:pt x="103" y="204"/>
                  </a:lnTo>
                  <a:lnTo>
                    <a:pt x="84" y="229"/>
                  </a:lnTo>
                  <a:lnTo>
                    <a:pt x="68" y="259"/>
                  </a:lnTo>
                  <a:lnTo>
                    <a:pt x="54" y="291"/>
                  </a:lnTo>
                  <a:lnTo>
                    <a:pt x="44" y="327"/>
                  </a:lnTo>
                  <a:lnTo>
                    <a:pt x="36" y="369"/>
                  </a:lnTo>
                  <a:lnTo>
                    <a:pt x="24" y="417"/>
                  </a:lnTo>
                  <a:lnTo>
                    <a:pt x="16" y="446"/>
                  </a:lnTo>
                  <a:lnTo>
                    <a:pt x="8" y="480"/>
                  </a:lnTo>
                  <a:lnTo>
                    <a:pt x="2" y="516"/>
                  </a:lnTo>
                  <a:lnTo>
                    <a:pt x="0" y="554"/>
                  </a:lnTo>
                  <a:lnTo>
                    <a:pt x="2" y="582"/>
                  </a:lnTo>
                  <a:lnTo>
                    <a:pt x="4" y="612"/>
                  </a:lnTo>
                  <a:lnTo>
                    <a:pt x="10" y="642"/>
                  </a:lnTo>
                  <a:lnTo>
                    <a:pt x="20" y="675"/>
                  </a:lnTo>
                  <a:lnTo>
                    <a:pt x="20" y="677"/>
                  </a:lnTo>
                  <a:lnTo>
                    <a:pt x="30" y="705"/>
                  </a:lnTo>
                  <a:lnTo>
                    <a:pt x="40" y="727"/>
                  </a:lnTo>
                  <a:lnTo>
                    <a:pt x="52" y="747"/>
                  </a:lnTo>
                  <a:lnTo>
                    <a:pt x="66" y="767"/>
                  </a:lnTo>
                  <a:lnTo>
                    <a:pt x="78" y="785"/>
                  </a:lnTo>
                  <a:lnTo>
                    <a:pt x="90" y="803"/>
                  </a:lnTo>
                  <a:lnTo>
                    <a:pt x="101" y="825"/>
                  </a:lnTo>
                  <a:lnTo>
                    <a:pt x="115" y="853"/>
                  </a:lnTo>
                  <a:lnTo>
                    <a:pt x="121" y="870"/>
                  </a:lnTo>
                  <a:lnTo>
                    <a:pt x="127" y="886"/>
                  </a:lnTo>
                  <a:lnTo>
                    <a:pt x="133" y="902"/>
                  </a:lnTo>
                  <a:lnTo>
                    <a:pt x="143" y="920"/>
                  </a:lnTo>
                  <a:lnTo>
                    <a:pt x="153" y="940"/>
                  </a:lnTo>
                  <a:lnTo>
                    <a:pt x="167" y="958"/>
                  </a:lnTo>
                  <a:lnTo>
                    <a:pt x="185" y="978"/>
                  </a:lnTo>
                  <a:lnTo>
                    <a:pt x="207" y="998"/>
                  </a:lnTo>
                  <a:lnTo>
                    <a:pt x="235" y="1016"/>
                  </a:lnTo>
                  <a:lnTo>
                    <a:pt x="235" y="1016"/>
                  </a:lnTo>
                  <a:lnTo>
                    <a:pt x="235" y="1016"/>
                  </a:lnTo>
                  <a:lnTo>
                    <a:pt x="251" y="1028"/>
                  </a:lnTo>
                  <a:lnTo>
                    <a:pt x="265" y="1042"/>
                  </a:lnTo>
                  <a:lnTo>
                    <a:pt x="279" y="1056"/>
                  </a:lnTo>
                  <a:lnTo>
                    <a:pt x="292" y="1070"/>
                  </a:lnTo>
                  <a:lnTo>
                    <a:pt x="304" y="1081"/>
                  </a:lnTo>
                  <a:lnTo>
                    <a:pt x="316" y="1093"/>
                  </a:lnTo>
                  <a:lnTo>
                    <a:pt x="328" y="1105"/>
                  </a:lnTo>
                  <a:lnTo>
                    <a:pt x="342" y="1113"/>
                  </a:lnTo>
                  <a:lnTo>
                    <a:pt x="354" y="1123"/>
                  </a:lnTo>
                  <a:lnTo>
                    <a:pt x="368" y="1129"/>
                  </a:lnTo>
                  <a:lnTo>
                    <a:pt x="384" y="1133"/>
                  </a:lnTo>
                  <a:lnTo>
                    <a:pt x="400" y="1135"/>
                  </a:lnTo>
                  <a:lnTo>
                    <a:pt x="426" y="1133"/>
                  </a:lnTo>
                  <a:lnTo>
                    <a:pt x="446" y="1125"/>
                  </a:lnTo>
                  <a:lnTo>
                    <a:pt x="462" y="1113"/>
                  </a:lnTo>
                  <a:lnTo>
                    <a:pt x="472" y="1099"/>
                  </a:lnTo>
                  <a:lnTo>
                    <a:pt x="480" y="1083"/>
                  </a:lnTo>
                  <a:lnTo>
                    <a:pt x="486" y="1070"/>
                  </a:lnTo>
                  <a:lnTo>
                    <a:pt x="487" y="1058"/>
                  </a:lnTo>
                  <a:lnTo>
                    <a:pt x="489" y="1048"/>
                  </a:lnTo>
                  <a:lnTo>
                    <a:pt x="489" y="1046"/>
                  </a:lnTo>
                  <a:lnTo>
                    <a:pt x="489" y="1044"/>
                  </a:lnTo>
                  <a:lnTo>
                    <a:pt x="487" y="1044"/>
                  </a:lnTo>
                  <a:lnTo>
                    <a:pt x="487" y="1042"/>
                  </a:lnTo>
                  <a:lnTo>
                    <a:pt x="487" y="94"/>
                  </a:lnTo>
                  <a:lnTo>
                    <a:pt x="487" y="94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17605200">
              <a:off x="6646680" y="1499400"/>
              <a:ext cx="1129680" cy="2601000"/>
            </a:xfrm>
            <a:custGeom>
              <a:avLst/>
              <a:gdLst/>
              <a:ahLst/>
              <a:rect l="l" t="t" r="r" b="b"/>
              <a:pathLst>
                <a:path w="492" h="1133">
                  <a:moveTo>
                    <a:pt x="456" y="367"/>
                  </a:moveTo>
                  <a:lnTo>
                    <a:pt x="448" y="327"/>
                  </a:lnTo>
                  <a:lnTo>
                    <a:pt x="438" y="291"/>
                  </a:lnTo>
                  <a:lnTo>
                    <a:pt x="424" y="259"/>
                  </a:lnTo>
                  <a:lnTo>
                    <a:pt x="408" y="229"/>
                  </a:lnTo>
                  <a:lnTo>
                    <a:pt x="388" y="202"/>
                  </a:lnTo>
                  <a:lnTo>
                    <a:pt x="364" y="178"/>
                  </a:lnTo>
                  <a:lnTo>
                    <a:pt x="337" y="154"/>
                  </a:lnTo>
                  <a:lnTo>
                    <a:pt x="303" y="132"/>
                  </a:lnTo>
                  <a:lnTo>
                    <a:pt x="291" y="124"/>
                  </a:lnTo>
                  <a:lnTo>
                    <a:pt x="281" y="116"/>
                  </a:lnTo>
                  <a:lnTo>
                    <a:pt x="271" y="108"/>
                  </a:lnTo>
                  <a:lnTo>
                    <a:pt x="261" y="100"/>
                  </a:lnTo>
                  <a:lnTo>
                    <a:pt x="253" y="92"/>
                  </a:lnTo>
                  <a:lnTo>
                    <a:pt x="245" y="84"/>
                  </a:lnTo>
                  <a:lnTo>
                    <a:pt x="237" y="76"/>
                  </a:lnTo>
                  <a:lnTo>
                    <a:pt x="231" y="70"/>
                  </a:lnTo>
                  <a:lnTo>
                    <a:pt x="217" y="56"/>
                  </a:lnTo>
                  <a:lnTo>
                    <a:pt x="203" y="44"/>
                  </a:lnTo>
                  <a:lnTo>
                    <a:pt x="189" y="34"/>
                  </a:lnTo>
                  <a:lnTo>
                    <a:pt x="175" y="24"/>
                  </a:lnTo>
                  <a:lnTo>
                    <a:pt x="159" y="16"/>
                  </a:lnTo>
                  <a:lnTo>
                    <a:pt x="140" y="10"/>
                  </a:lnTo>
                  <a:lnTo>
                    <a:pt x="116" y="4"/>
                  </a:lnTo>
                  <a:lnTo>
                    <a:pt x="90" y="0"/>
                  </a:lnTo>
                  <a:lnTo>
                    <a:pt x="64" y="4"/>
                  </a:lnTo>
                  <a:lnTo>
                    <a:pt x="44" y="12"/>
                  </a:lnTo>
                  <a:lnTo>
                    <a:pt x="28" y="24"/>
                  </a:lnTo>
                  <a:lnTo>
                    <a:pt x="16" y="38"/>
                  </a:lnTo>
                  <a:lnTo>
                    <a:pt x="8" y="52"/>
                  </a:lnTo>
                  <a:lnTo>
                    <a:pt x="4" y="66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2"/>
                  </a:lnTo>
                  <a:lnTo>
                    <a:pt x="0" y="94"/>
                  </a:lnTo>
                  <a:lnTo>
                    <a:pt x="0" y="1042"/>
                  </a:lnTo>
                  <a:lnTo>
                    <a:pt x="0" y="1044"/>
                  </a:lnTo>
                  <a:lnTo>
                    <a:pt x="0" y="1044"/>
                  </a:lnTo>
                  <a:lnTo>
                    <a:pt x="0" y="1046"/>
                  </a:lnTo>
                  <a:lnTo>
                    <a:pt x="0" y="1046"/>
                  </a:lnTo>
                  <a:lnTo>
                    <a:pt x="2" y="1056"/>
                  </a:lnTo>
                  <a:lnTo>
                    <a:pt x="4" y="1070"/>
                  </a:lnTo>
                  <a:lnTo>
                    <a:pt x="8" y="1083"/>
                  </a:lnTo>
                  <a:lnTo>
                    <a:pt x="16" y="1097"/>
                  </a:lnTo>
                  <a:lnTo>
                    <a:pt x="28" y="1111"/>
                  </a:lnTo>
                  <a:lnTo>
                    <a:pt x="44" y="1123"/>
                  </a:lnTo>
                  <a:lnTo>
                    <a:pt x="64" y="1131"/>
                  </a:lnTo>
                  <a:lnTo>
                    <a:pt x="90" y="1133"/>
                  </a:lnTo>
                  <a:lnTo>
                    <a:pt x="106" y="1131"/>
                  </a:lnTo>
                  <a:lnTo>
                    <a:pt x="122" y="1127"/>
                  </a:lnTo>
                  <a:lnTo>
                    <a:pt x="136" y="1121"/>
                  </a:lnTo>
                  <a:lnTo>
                    <a:pt x="147" y="1113"/>
                  </a:lnTo>
                  <a:lnTo>
                    <a:pt x="161" y="1105"/>
                  </a:lnTo>
                  <a:lnTo>
                    <a:pt x="173" y="1093"/>
                  </a:lnTo>
                  <a:lnTo>
                    <a:pt x="185" y="1081"/>
                  </a:lnTo>
                  <a:lnTo>
                    <a:pt x="197" y="1070"/>
                  </a:lnTo>
                  <a:lnTo>
                    <a:pt x="211" y="1056"/>
                  </a:lnTo>
                  <a:lnTo>
                    <a:pt x="225" y="1042"/>
                  </a:lnTo>
                  <a:lnTo>
                    <a:pt x="239" y="1028"/>
                  </a:lnTo>
                  <a:lnTo>
                    <a:pt x="255" y="1016"/>
                  </a:lnTo>
                  <a:lnTo>
                    <a:pt x="255" y="1016"/>
                  </a:lnTo>
                  <a:lnTo>
                    <a:pt x="257" y="1016"/>
                  </a:lnTo>
                  <a:lnTo>
                    <a:pt x="283" y="998"/>
                  </a:lnTo>
                  <a:lnTo>
                    <a:pt x="305" y="978"/>
                  </a:lnTo>
                  <a:lnTo>
                    <a:pt x="323" y="958"/>
                  </a:lnTo>
                  <a:lnTo>
                    <a:pt x="339" y="940"/>
                  </a:lnTo>
                  <a:lnTo>
                    <a:pt x="348" y="920"/>
                  </a:lnTo>
                  <a:lnTo>
                    <a:pt x="358" y="902"/>
                  </a:lnTo>
                  <a:lnTo>
                    <a:pt x="364" y="886"/>
                  </a:lnTo>
                  <a:lnTo>
                    <a:pt x="370" y="870"/>
                  </a:lnTo>
                  <a:lnTo>
                    <a:pt x="376" y="853"/>
                  </a:lnTo>
                  <a:lnTo>
                    <a:pt x="388" y="825"/>
                  </a:lnTo>
                  <a:lnTo>
                    <a:pt x="402" y="803"/>
                  </a:lnTo>
                  <a:lnTo>
                    <a:pt x="414" y="785"/>
                  </a:lnTo>
                  <a:lnTo>
                    <a:pt x="426" y="767"/>
                  </a:lnTo>
                  <a:lnTo>
                    <a:pt x="440" y="747"/>
                  </a:lnTo>
                  <a:lnTo>
                    <a:pt x="452" y="727"/>
                  </a:lnTo>
                  <a:lnTo>
                    <a:pt x="462" y="705"/>
                  </a:lnTo>
                  <a:lnTo>
                    <a:pt x="472" y="677"/>
                  </a:lnTo>
                  <a:lnTo>
                    <a:pt x="472" y="675"/>
                  </a:lnTo>
                  <a:lnTo>
                    <a:pt x="482" y="642"/>
                  </a:lnTo>
                  <a:lnTo>
                    <a:pt x="488" y="612"/>
                  </a:lnTo>
                  <a:lnTo>
                    <a:pt x="490" y="582"/>
                  </a:lnTo>
                  <a:lnTo>
                    <a:pt x="492" y="554"/>
                  </a:lnTo>
                  <a:lnTo>
                    <a:pt x="490" y="514"/>
                  </a:lnTo>
                  <a:lnTo>
                    <a:pt x="484" y="478"/>
                  </a:lnTo>
                  <a:lnTo>
                    <a:pt x="476" y="446"/>
                  </a:lnTo>
                  <a:lnTo>
                    <a:pt x="468" y="417"/>
                  </a:lnTo>
                  <a:lnTo>
                    <a:pt x="456" y="367"/>
                  </a:lnTo>
                  <a:lnTo>
                    <a:pt x="456" y="367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7605200">
              <a:off x="5507280" y="1818000"/>
              <a:ext cx="2908440" cy="3090600"/>
            </a:xfrm>
            <a:custGeom>
              <a:avLst/>
              <a:gdLst/>
              <a:ahLst/>
              <a:rect l="l" t="t" r="r" b="b"/>
              <a:pathLst>
                <a:path w="1267" h="1346">
                  <a:moveTo>
                    <a:pt x="1237" y="494"/>
                  </a:moveTo>
                  <a:lnTo>
                    <a:pt x="1225" y="444"/>
                  </a:lnTo>
                  <a:lnTo>
                    <a:pt x="1215" y="394"/>
                  </a:lnTo>
                  <a:lnTo>
                    <a:pt x="1201" y="350"/>
                  </a:lnTo>
                  <a:lnTo>
                    <a:pt x="1186" y="311"/>
                  </a:lnTo>
                  <a:lnTo>
                    <a:pt x="1164" y="275"/>
                  </a:lnTo>
                  <a:lnTo>
                    <a:pt x="1138" y="241"/>
                  </a:lnTo>
                  <a:lnTo>
                    <a:pt x="1108" y="209"/>
                  </a:lnTo>
                  <a:lnTo>
                    <a:pt x="1072" y="179"/>
                  </a:lnTo>
                  <a:lnTo>
                    <a:pt x="1030" y="151"/>
                  </a:lnTo>
                  <a:lnTo>
                    <a:pt x="1018" y="143"/>
                  </a:lnTo>
                  <a:lnTo>
                    <a:pt x="1008" y="135"/>
                  </a:lnTo>
                  <a:lnTo>
                    <a:pt x="998" y="129"/>
                  </a:lnTo>
                  <a:lnTo>
                    <a:pt x="989" y="121"/>
                  </a:lnTo>
                  <a:lnTo>
                    <a:pt x="981" y="113"/>
                  </a:lnTo>
                  <a:lnTo>
                    <a:pt x="973" y="105"/>
                  </a:lnTo>
                  <a:lnTo>
                    <a:pt x="965" y="100"/>
                  </a:lnTo>
                  <a:lnTo>
                    <a:pt x="957" y="92"/>
                  </a:lnTo>
                  <a:lnTo>
                    <a:pt x="941" y="76"/>
                  </a:lnTo>
                  <a:lnTo>
                    <a:pt x="923" y="62"/>
                  </a:lnTo>
                  <a:lnTo>
                    <a:pt x="905" y="48"/>
                  </a:lnTo>
                  <a:lnTo>
                    <a:pt x="885" y="34"/>
                  </a:lnTo>
                  <a:lnTo>
                    <a:pt x="861" y="22"/>
                  </a:lnTo>
                  <a:lnTo>
                    <a:pt x="833" y="12"/>
                  </a:lnTo>
                  <a:lnTo>
                    <a:pt x="802" y="6"/>
                  </a:lnTo>
                  <a:lnTo>
                    <a:pt x="764" y="0"/>
                  </a:lnTo>
                  <a:lnTo>
                    <a:pt x="764" y="0"/>
                  </a:lnTo>
                  <a:lnTo>
                    <a:pt x="762" y="0"/>
                  </a:lnTo>
                  <a:lnTo>
                    <a:pt x="738" y="2"/>
                  </a:lnTo>
                  <a:lnTo>
                    <a:pt x="718" y="6"/>
                  </a:lnTo>
                  <a:lnTo>
                    <a:pt x="698" y="12"/>
                  </a:lnTo>
                  <a:lnTo>
                    <a:pt x="682" y="20"/>
                  </a:lnTo>
                  <a:lnTo>
                    <a:pt x="666" y="28"/>
                  </a:lnTo>
                  <a:lnTo>
                    <a:pt x="654" y="40"/>
                  </a:lnTo>
                  <a:lnTo>
                    <a:pt x="644" y="52"/>
                  </a:lnTo>
                  <a:lnTo>
                    <a:pt x="634" y="64"/>
                  </a:lnTo>
                  <a:lnTo>
                    <a:pt x="624" y="52"/>
                  </a:lnTo>
                  <a:lnTo>
                    <a:pt x="612" y="40"/>
                  </a:lnTo>
                  <a:lnTo>
                    <a:pt x="601" y="28"/>
                  </a:lnTo>
                  <a:lnTo>
                    <a:pt x="585" y="20"/>
                  </a:lnTo>
                  <a:lnTo>
                    <a:pt x="569" y="12"/>
                  </a:lnTo>
                  <a:lnTo>
                    <a:pt x="549" y="6"/>
                  </a:lnTo>
                  <a:lnTo>
                    <a:pt x="529" y="2"/>
                  </a:lnTo>
                  <a:lnTo>
                    <a:pt x="505" y="0"/>
                  </a:lnTo>
                  <a:lnTo>
                    <a:pt x="503" y="0"/>
                  </a:lnTo>
                  <a:lnTo>
                    <a:pt x="503" y="0"/>
                  </a:lnTo>
                  <a:lnTo>
                    <a:pt x="465" y="6"/>
                  </a:lnTo>
                  <a:lnTo>
                    <a:pt x="433" y="12"/>
                  </a:lnTo>
                  <a:lnTo>
                    <a:pt x="406" y="22"/>
                  </a:lnTo>
                  <a:lnTo>
                    <a:pt x="384" y="34"/>
                  </a:lnTo>
                  <a:lnTo>
                    <a:pt x="362" y="48"/>
                  </a:lnTo>
                  <a:lnTo>
                    <a:pt x="344" y="62"/>
                  </a:lnTo>
                  <a:lnTo>
                    <a:pt x="326" y="76"/>
                  </a:lnTo>
                  <a:lnTo>
                    <a:pt x="310" y="92"/>
                  </a:lnTo>
                  <a:lnTo>
                    <a:pt x="302" y="100"/>
                  </a:lnTo>
                  <a:lnTo>
                    <a:pt x="294" y="105"/>
                  </a:lnTo>
                  <a:lnTo>
                    <a:pt x="286" y="113"/>
                  </a:lnTo>
                  <a:lnTo>
                    <a:pt x="278" y="121"/>
                  </a:lnTo>
                  <a:lnTo>
                    <a:pt x="268" y="129"/>
                  </a:lnTo>
                  <a:lnTo>
                    <a:pt x="258" y="135"/>
                  </a:lnTo>
                  <a:lnTo>
                    <a:pt x="248" y="143"/>
                  </a:lnTo>
                  <a:lnTo>
                    <a:pt x="236" y="151"/>
                  </a:lnTo>
                  <a:lnTo>
                    <a:pt x="195" y="179"/>
                  </a:lnTo>
                  <a:lnTo>
                    <a:pt x="159" y="209"/>
                  </a:lnTo>
                  <a:lnTo>
                    <a:pt x="129" y="241"/>
                  </a:lnTo>
                  <a:lnTo>
                    <a:pt x="103" y="275"/>
                  </a:lnTo>
                  <a:lnTo>
                    <a:pt x="81" y="311"/>
                  </a:lnTo>
                  <a:lnTo>
                    <a:pt x="65" y="352"/>
                  </a:lnTo>
                  <a:lnTo>
                    <a:pt x="51" y="396"/>
                  </a:lnTo>
                  <a:lnTo>
                    <a:pt x="41" y="446"/>
                  </a:lnTo>
                  <a:lnTo>
                    <a:pt x="29" y="494"/>
                  </a:lnTo>
                  <a:lnTo>
                    <a:pt x="20" y="528"/>
                  </a:lnTo>
                  <a:lnTo>
                    <a:pt x="10" y="567"/>
                  </a:lnTo>
                  <a:lnTo>
                    <a:pt x="2" y="611"/>
                  </a:lnTo>
                  <a:lnTo>
                    <a:pt x="0" y="659"/>
                  </a:lnTo>
                  <a:lnTo>
                    <a:pt x="2" y="691"/>
                  </a:lnTo>
                  <a:lnTo>
                    <a:pt x="6" y="727"/>
                  </a:lnTo>
                  <a:lnTo>
                    <a:pt x="14" y="766"/>
                  </a:lnTo>
                  <a:lnTo>
                    <a:pt x="23" y="806"/>
                  </a:lnTo>
                  <a:lnTo>
                    <a:pt x="29" y="826"/>
                  </a:lnTo>
                  <a:lnTo>
                    <a:pt x="37" y="844"/>
                  </a:lnTo>
                  <a:lnTo>
                    <a:pt x="43" y="860"/>
                  </a:lnTo>
                  <a:lnTo>
                    <a:pt x="51" y="874"/>
                  </a:lnTo>
                  <a:lnTo>
                    <a:pt x="59" y="886"/>
                  </a:lnTo>
                  <a:lnTo>
                    <a:pt x="67" y="900"/>
                  </a:lnTo>
                  <a:lnTo>
                    <a:pt x="75" y="910"/>
                  </a:lnTo>
                  <a:lnTo>
                    <a:pt x="83" y="922"/>
                  </a:lnTo>
                  <a:lnTo>
                    <a:pt x="97" y="940"/>
                  </a:lnTo>
                  <a:lnTo>
                    <a:pt x="109" y="958"/>
                  </a:lnTo>
                  <a:lnTo>
                    <a:pt x="121" y="979"/>
                  </a:lnTo>
                  <a:lnTo>
                    <a:pt x="133" y="1005"/>
                  </a:lnTo>
                  <a:lnTo>
                    <a:pt x="139" y="1021"/>
                  </a:lnTo>
                  <a:lnTo>
                    <a:pt x="147" y="1039"/>
                  </a:lnTo>
                  <a:lnTo>
                    <a:pt x="155" y="1061"/>
                  </a:lnTo>
                  <a:lnTo>
                    <a:pt x="167" y="1083"/>
                  </a:lnTo>
                  <a:lnTo>
                    <a:pt x="181" y="1107"/>
                  </a:lnTo>
                  <a:lnTo>
                    <a:pt x="201" y="1133"/>
                  </a:lnTo>
                  <a:lnTo>
                    <a:pt x="224" y="1157"/>
                  </a:lnTo>
                  <a:lnTo>
                    <a:pt x="252" y="1183"/>
                  </a:lnTo>
                  <a:lnTo>
                    <a:pt x="288" y="1206"/>
                  </a:lnTo>
                  <a:lnTo>
                    <a:pt x="304" y="1218"/>
                  </a:lnTo>
                  <a:lnTo>
                    <a:pt x="318" y="1230"/>
                  </a:lnTo>
                  <a:lnTo>
                    <a:pt x="332" y="1244"/>
                  </a:lnTo>
                  <a:lnTo>
                    <a:pt x="346" y="1258"/>
                  </a:lnTo>
                  <a:lnTo>
                    <a:pt x="362" y="1274"/>
                  </a:lnTo>
                  <a:lnTo>
                    <a:pt x="378" y="1290"/>
                  </a:lnTo>
                  <a:lnTo>
                    <a:pt x="396" y="1304"/>
                  </a:lnTo>
                  <a:lnTo>
                    <a:pt x="413" y="1316"/>
                  </a:lnTo>
                  <a:lnTo>
                    <a:pt x="433" y="1328"/>
                  </a:lnTo>
                  <a:lnTo>
                    <a:pt x="455" y="1338"/>
                  </a:lnTo>
                  <a:lnTo>
                    <a:pt x="479" y="1344"/>
                  </a:lnTo>
                  <a:lnTo>
                    <a:pt x="505" y="1346"/>
                  </a:lnTo>
                  <a:lnTo>
                    <a:pt x="529" y="1344"/>
                  </a:lnTo>
                  <a:lnTo>
                    <a:pt x="549" y="1340"/>
                  </a:lnTo>
                  <a:lnTo>
                    <a:pt x="569" y="1334"/>
                  </a:lnTo>
                  <a:lnTo>
                    <a:pt x="585" y="1326"/>
                  </a:lnTo>
                  <a:lnTo>
                    <a:pt x="601" y="1316"/>
                  </a:lnTo>
                  <a:lnTo>
                    <a:pt x="612" y="1306"/>
                  </a:lnTo>
                  <a:lnTo>
                    <a:pt x="624" y="1294"/>
                  </a:lnTo>
                  <a:lnTo>
                    <a:pt x="634" y="1280"/>
                  </a:lnTo>
                  <a:lnTo>
                    <a:pt x="644" y="1294"/>
                  </a:lnTo>
                  <a:lnTo>
                    <a:pt x="654" y="1306"/>
                  </a:lnTo>
                  <a:lnTo>
                    <a:pt x="666" y="1316"/>
                  </a:lnTo>
                  <a:lnTo>
                    <a:pt x="682" y="1326"/>
                  </a:lnTo>
                  <a:lnTo>
                    <a:pt x="698" y="1334"/>
                  </a:lnTo>
                  <a:lnTo>
                    <a:pt x="718" y="1340"/>
                  </a:lnTo>
                  <a:lnTo>
                    <a:pt x="738" y="1344"/>
                  </a:lnTo>
                  <a:lnTo>
                    <a:pt x="762" y="1346"/>
                  </a:lnTo>
                  <a:lnTo>
                    <a:pt x="788" y="1344"/>
                  </a:lnTo>
                  <a:lnTo>
                    <a:pt x="811" y="1338"/>
                  </a:lnTo>
                  <a:lnTo>
                    <a:pt x="833" y="1328"/>
                  </a:lnTo>
                  <a:lnTo>
                    <a:pt x="853" y="1316"/>
                  </a:lnTo>
                  <a:lnTo>
                    <a:pt x="871" y="1304"/>
                  </a:lnTo>
                  <a:lnTo>
                    <a:pt x="889" y="1290"/>
                  </a:lnTo>
                  <a:lnTo>
                    <a:pt x="905" y="1274"/>
                  </a:lnTo>
                  <a:lnTo>
                    <a:pt x="921" y="1258"/>
                  </a:lnTo>
                  <a:lnTo>
                    <a:pt x="935" y="1244"/>
                  </a:lnTo>
                  <a:lnTo>
                    <a:pt x="949" y="1230"/>
                  </a:lnTo>
                  <a:lnTo>
                    <a:pt x="963" y="1218"/>
                  </a:lnTo>
                  <a:lnTo>
                    <a:pt x="979" y="1206"/>
                  </a:lnTo>
                  <a:lnTo>
                    <a:pt x="1014" y="1183"/>
                  </a:lnTo>
                  <a:lnTo>
                    <a:pt x="1042" y="1157"/>
                  </a:lnTo>
                  <a:lnTo>
                    <a:pt x="1066" y="1133"/>
                  </a:lnTo>
                  <a:lnTo>
                    <a:pt x="1086" y="1107"/>
                  </a:lnTo>
                  <a:lnTo>
                    <a:pt x="1100" y="1083"/>
                  </a:lnTo>
                  <a:lnTo>
                    <a:pt x="1112" y="1061"/>
                  </a:lnTo>
                  <a:lnTo>
                    <a:pt x="1120" y="1039"/>
                  </a:lnTo>
                  <a:lnTo>
                    <a:pt x="1128" y="1021"/>
                  </a:lnTo>
                  <a:lnTo>
                    <a:pt x="1134" y="1005"/>
                  </a:lnTo>
                  <a:lnTo>
                    <a:pt x="1146" y="979"/>
                  </a:lnTo>
                  <a:lnTo>
                    <a:pt x="1160" y="958"/>
                  </a:lnTo>
                  <a:lnTo>
                    <a:pt x="1172" y="940"/>
                  </a:lnTo>
                  <a:lnTo>
                    <a:pt x="1184" y="922"/>
                  </a:lnTo>
                  <a:lnTo>
                    <a:pt x="1192" y="910"/>
                  </a:lnTo>
                  <a:lnTo>
                    <a:pt x="1199" y="900"/>
                  </a:lnTo>
                  <a:lnTo>
                    <a:pt x="1207" y="886"/>
                  </a:lnTo>
                  <a:lnTo>
                    <a:pt x="1215" y="874"/>
                  </a:lnTo>
                  <a:lnTo>
                    <a:pt x="1223" y="860"/>
                  </a:lnTo>
                  <a:lnTo>
                    <a:pt x="1229" y="844"/>
                  </a:lnTo>
                  <a:lnTo>
                    <a:pt x="1237" y="826"/>
                  </a:lnTo>
                  <a:lnTo>
                    <a:pt x="1243" y="806"/>
                  </a:lnTo>
                  <a:lnTo>
                    <a:pt x="1253" y="766"/>
                  </a:lnTo>
                  <a:lnTo>
                    <a:pt x="1261" y="727"/>
                  </a:lnTo>
                  <a:lnTo>
                    <a:pt x="1265" y="691"/>
                  </a:lnTo>
                  <a:lnTo>
                    <a:pt x="1267" y="659"/>
                  </a:lnTo>
                  <a:lnTo>
                    <a:pt x="1265" y="611"/>
                  </a:lnTo>
                  <a:lnTo>
                    <a:pt x="1257" y="567"/>
                  </a:lnTo>
                  <a:lnTo>
                    <a:pt x="1247" y="528"/>
                  </a:lnTo>
                  <a:lnTo>
                    <a:pt x="1237" y="494"/>
                  </a:lnTo>
                  <a:lnTo>
                    <a:pt x="1237" y="494"/>
                  </a:lnTo>
                  <a:close/>
                  <a:moveTo>
                    <a:pt x="145" y="912"/>
                  </a:moveTo>
                  <a:lnTo>
                    <a:pt x="141" y="906"/>
                  </a:lnTo>
                  <a:lnTo>
                    <a:pt x="137" y="900"/>
                  </a:lnTo>
                  <a:lnTo>
                    <a:pt x="133" y="894"/>
                  </a:lnTo>
                  <a:lnTo>
                    <a:pt x="129" y="890"/>
                  </a:lnTo>
                  <a:lnTo>
                    <a:pt x="113" y="870"/>
                  </a:lnTo>
                  <a:lnTo>
                    <a:pt x="101" y="848"/>
                  </a:lnTo>
                  <a:lnTo>
                    <a:pt x="87" y="822"/>
                  </a:lnTo>
                  <a:lnTo>
                    <a:pt x="77" y="792"/>
                  </a:lnTo>
                  <a:lnTo>
                    <a:pt x="77" y="790"/>
                  </a:lnTo>
                  <a:lnTo>
                    <a:pt x="67" y="754"/>
                  </a:lnTo>
                  <a:lnTo>
                    <a:pt x="61" y="721"/>
                  </a:lnTo>
                  <a:lnTo>
                    <a:pt x="57" y="689"/>
                  </a:lnTo>
                  <a:lnTo>
                    <a:pt x="55" y="659"/>
                  </a:lnTo>
                  <a:lnTo>
                    <a:pt x="57" y="615"/>
                  </a:lnTo>
                  <a:lnTo>
                    <a:pt x="63" y="577"/>
                  </a:lnTo>
                  <a:lnTo>
                    <a:pt x="71" y="541"/>
                  </a:lnTo>
                  <a:lnTo>
                    <a:pt x="81" y="510"/>
                  </a:lnTo>
                  <a:lnTo>
                    <a:pt x="103" y="420"/>
                  </a:lnTo>
                  <a:lnTo>
                    <a:pt x="113" y="384"/>
                  </a:lnTo>
                  <a:lnTo>
                    <a:pt x="125" y="350"/>
                  </a:lnTo>
                  <a:lnTo>
                    <a:pt x="139" y="320"/>
                  </a:lnTo>
                  <a:lnTo>
                    <a:pt x="157" y="293"/>
                  </a:lnTo>
                  <a:lnTo>
                    <a:pt x="179" y="267"/>
                  </a:lnTo>
                  <a:lnTo>
                    <a:pt x="203" y="243"/>
                  </a:lnTo>
                  <a:lnTo>
                    <a:pt x="232" y="221"/>
                  </a:lnTo>
                  <a:lnTo>
                    <a:pt x="266" y="199"/>
                  </a:lnTo>
                  <a:lnTo>
                    <a:pt x="278" y="191"/>
                  </a:lnTo>
                  <a:lnTo>
                    <a:pt x="290" y="181"/>
                  </a:lnTo>
                  <a:lnTo>
                    <a:pt x="302" y="173"/>
                  </a:lnTo>
                  <a:lnTo>
                    <a:pt x="312" y="163"/>
                  </a:lnTo>
                  <a:lnTo>
                    <a:pt x="322" y="155"/>
                  </a:lnTo>
                  <a:lnTo>
                    <a:pt x="330" y="147"/>
                  </a:lnTo>
                  <a:lnTo>
                    <a:pt x="340" y="139"/>
                  </a:lnTo>
                  <a:lnTo>
                    <a:pt x="348" y="131"/>
                  </a:lnTo>
                  <a:lnTo>
                    <a:pt x="364" y="117"/>
                  </a:lnTo>
                  <a:lnTo>
                    <a:pt x="378" y="103"/>
                  </a:lnTo>
                  <a:lnTo>
                    <a:pt x="394" y="92"/>
                  </a:lnTo>
                  <a:lnTo>
                    <a:pt x="410" y="82"/>
                  </a:lnTo>
                  <a:lnTo>
                    <a:pt x="429" y="74"/>
                  </a:lnTo>
                  <a:lnTo>
                    <a:pt x="449" y="66"/>
                  </a:lnTo>
                  <a:lnTo>
                    <a:pt x="475" y="60"/>
                  </a:lnTo>
                  <a:lnTo>
                    <a:pt x="505" y="56"/>
                  </a:lnTo>
                  <a:lnTo>
                    <a:pt x="535" y="60"/>
                  </a:lnTo>
                  <a:lnTo>
                    <a:pt x="557" y="68"/>
                  </a:lnTo>
                  <a:lnTo>
                    <a:pt x="575" y="80"/>
                  </a:lnTo>
                  <a:lnTo>
                    <a:pt x="589" y="96"/>
                  </a:lnTo>
                  <a:lnTo>
                    <a:pt x="597" y="111"/>
                  </a:lnTo>
                  <a:lnTo>
                    <a:pt x="603" y="127"/>
                  </a:lnTo>
                  <a:lnTo>
                    <a:pt x="605" y="141"/>
                  </a:lnTo>
                  <a:lnTo>
                    <a:pt x="607" y="151"/>
                  </a:lnTo>
                  <a:lnTo>
                    <a:pt x="607" y="153"/>
                  </a:lnTo>
                  <a:lnTo>
                    <a:pt x="607" y="153"/>
                  </a:lnTo>
                  <a:lnTo>
                    <a:pt x="607" y="155"/>
                  </a:lnTo>
                  <a:lnTo>
                    <a:pt x="607" y="157"/>
                  </a:lnTo>
                  <a:lnTo>
                    <a:pt x="607" y="1188"/>
                  </a:lnTo>
                  <a:lnTo>
                    <a:pt x="607" y="1190"/>
                  </a:lnTo>
                  <a:lnTo>
                    <a:pt x="607" y="1190"/>
                  </a:lnTo>
                  <a:lnTo>
                    <a:pt x="607" y="1192"/>
                  </a:lnTo>
                  <a:lnTo>
                    <a:pt x="607" y="1194"/>
                  </a:lnTo>
                  <a:lnTo>
                    <a:pt x="605" y="1204"/>
                  </a:lnTo>
                  <a:lnTo>
                    <a:pt x="603" y="1218"/>
                  </a:lnTo>
                  <a:lnTo>
                    <a:pt x="597" y="1234"/>
                  </a:lnTo>
                  <a:lnTo>
                    <a:pt x="589" y="1250"/>
                  </a:lnTo>
                  <a:lnTo>
                    <a:pt x="575" y="1266"/>
                  </a:lnTo>
                  <a:lnTo>
                    <a:pt x="557" y="1278"/>
                  </a:lnTo>
                  <a:lnTo>
                    <a:pt x="535" y="1286"/>
                  </a:lnTo>
                  <a:lnTo>
                    <a:pt x="505" y="1290"/>
                  </a:lnTo>
                  <a:lnTo>
                    <a:pt x="505" y="1290"/>
                  </a:lnTo>
                  <a:lnTo>
                    <a:pt x="487" y="1288"/>
                  </a:lnTo>
                  <a:lnTo>
                    <a:pt x="471" y="1284"/>
                  </a:lnTo>
                  <a:lnTo>
                    <a:pt x="455" y="1276"/>
                  </a:lnTo>
                  <a:lnTo>
                    <a:pt x="439" y="1268"/>
                  </a:lnTo>
                  <a:lnTo>
                    <a:pt x="425" y="1256"/>
                  </a:lnTo>
                  <a:lnTo>
                    <a:pt x="412" y="1244"/>
                  </a:lnTo>
                  <a:lnTo>
                    <a:pt x="400" y="1232"/>
                  </a:lnTo>
                  <a:lnTo>
                    <a:pt x="386" y="1218"/>
                  </a:lnTo>
                  <a:lnTo>
                    <a:pt x="378" y="1210"/>
                  </a:lnTo>
                  <a:lnTo>
                    <a:pt x="370" y="1204"/>
                  </a:lnTo>
                  <a:lnTo>
                    <a:pt x="364" y="1196"/>
                  </a:lnTo>
                  <a:lnTo>
                    <a:pt x="356" y="1188"/>
                  </a:lnTo>
                  <a:lnTo>
                    <a:pt x="348" y="1181"/>
                  </a:lnTo>
                  <a:lnTo>
                    <a:pt x="338" y="1175"/>
                  </a:lnTo>
                  <a:lnTo>
                    <a:pt x="330" y="1167"/>
                  </a:lnTo>
                  <a:lnTo>
                    <a:pt x="320" y="1161"/>
                  </a:lnTo>
                  <a:lnTo>
                    <a:pt x="320" y="1161"/>
                  </a:lnTo>
                  <a:lnTo>
                    <a:pt x="320" y="1161"/>
                  </a:lnTo>
                  <a:lnTo>
                    <a:pt x="290" y="1141"/>
                  </a:lnTo>
                  <a:lnTo>
                    <a:pt x="264" y="1119"/>
                  </a:lnTo>
                  <a:lnTo>
                    <a:pt x="244" y="1099"/>
                  </a:lnTo>
                  <a:lnTo>
                    <a:pt x="228" y="1077"/>
                  </a:lnTo>
                  <a:lnTo>
                    <a:pt x="217" y="1057"/>
                  </a:lnTo>
                  <a:lnTo>
                    <a:pt x="207" y="1037"/>
                  </a:lnTo>
                  <a:lnTo>
                    <a:pt x="199" y="1019"/>
                  </a:lnTo>
                  <a:lnTo>
                    <a:pt x="191" y="1001"/>
                  </a:lnTo>
                  <a:lnTo>
                    <a:pt x="187" y="991"/>
                  </a:lnTo>
                  <a:lnTo>
                    <a:pt x="181" y="971"/>
                  </a:lnTo>
                  <a:lnTo>
                    <a:pt x="167" y="946"/>
                  </a:lnTo>
                  <a:lnTo>
                    <a:pt x="151" y="922"/>
                  </a:lnTo>
                  <a:lnTo>
                    <a:pt x="145" y="912"/>
                  </a:lnTo>
                  <a:close/>
                  <a:moveTo>
                    <a:pt x="1080" y="991"/>
                  </a:moveTo>
                  <a:lnTo>
                    <a:pt x="1078" y="995"/>
                  </a:lnTo>
                  <a:lnTo>
                    <a:pt x="1078" y="999"/>
                  </a:lnTo>
                  <a:lnTo>
                    <a:pt x="1076" y="1001"/>
                  </a:lnTo>
                  <a:lnTo>
                    <a:pt x="1076" y="1001"/>
                  </a:lnTo>
                  <a:lnTo>
                    <a:pt x="1068" y="1019"/>
                  </a:lnTo>
                  <a:lnTo>
                    <a:pt x="1060" y="1037"/>
                  </a:lnTo>
                  <a:lnTo>
                    <a:pt x="1050" y="1057"/>
                  </a:lnTo>
                  <a:lnTo>
                    <a:pt x="1038" y="1077"/>
                  </a:lnTo>
                  <a:lnTo>
                    <a:pt x="1022" y="1099"/>
                  </a:lnTo>
                  <a:lnTo>
                    <a:pt x="1002" y="1119"/>
                  </a:lnTo>
                  <a:lnTo>
                    <a:pt x="979" y="1141"/>
                  </a:lnTo>
                  <a:lnTo>
                    <a:pt x="949" y="1161"/>
                  </a:lnTo>
                  <a:lnTo>
                    <a:pt x="947" y="1161"/>
                  </a:lnTo>
                  <a:lnTo>
                    <a:pt x="947" y="1161"/>
                  </a:lnTo>
                  <a:lnTo>
                    <a:pt x="937" y="1167"/>
                  </a:lnTo>
                  <a:lnTo>
                    <a:pt x="929" y="1175"/>
                  </a:lnTo>
                  <a:lnTo>
                    <a:pt x="919" y="1181"/>
                  </a:lnTo>
                  <a:lnTo>
                    <a:pt x="911" y="1188"/>
                  </a:lnTo>
                  <a:lnTo>
                    <a:pt x="903" y="1196"/>
                  </a:lnTo>
                  <a:lnTo>
                    <a:pt x="897" y="1204"/>
                  </a:lnTo>
                  <a:lnTo>
                    <a:pt x="889" y="1210"/>
                  </a:lnTo>
                  <a:lnTo>
                    <a:pt x="881" y="1218"/>
                  </a:lnTo>
                  <a:lnTo>
                    <a:pt x="867" y="1232"/>
                  </a:lnTo>
                  <a:lnTo>
                    <a:pt x="855" y="1244"/>
                  </a:lnTo>
                  <a:lnTo>
                    <a:pt x="841" y="1256"/>
                  </a:lnTo>
                  <a:lnTo>
                    <a:pt x="827" y="1268"/>
                  </a:lnTo>
                  <a:lnTo>
                    <a:pt x="813" y="1276"/>
                  </a:lnTo>
                  <a:lnTo>
                    <a:pt x="798" y="1284"/>
                  </a:lnTo>
                  <a:lnTo>
                    <a:pt x="780" y="1288"/>
                  </a:lnTo>
                  <a:lnTo>
                    <a:pt x="762" y="1290"/>
                  </a:lnTo>
                  <a:lnTo>
                    <a:pt x="732" y="1286"/>
                  </a:lnTo>
                  <a:lnTo>
                    <a:pt x="710" y="1278"/>
                  </a:lnTo>
                  <a:lnTo>
                    <a:pt x="692" y="1266"/>
                  </a:lnTo>
                  <a:lnTo>
                    <a:pt x="678" y="1250"/>
                  </a:lnTo>
                  <a:lnTo>
                    <a:pt x="670" y="1234"/>
                  </a:lnTo>
                  <a:lnTo>
                    <a:pt x="664" y="1218"/>
                  </a:lnTo>
                  <a:lnTo>
                    <a:pt x="662" y="1204"/>
                  </a:lnTo>
                  <a:lnTo>
                    <a:pt x="660" y="1194"/>
                  </a:lnTo>
                  <a:lnTo>
                    <a:pt x="660" y="1192"/>
                  </a:lnTo>
                  <a:lnTo>
                    <a:pt x="662" y="1190"/>
                  </a:lnTo>
                  <a:lnTo>
                    <a:pt x="662" y="1190"/>
                  </a:lnTo>
                  <a:lnTo>
                    <a:pt x="662" y="1188"/>
                  </a:lnTo>
                  <a:lnTo>
                    <a:pt x="662" y="157"/>
                  </a:lnTo>
                  <a:lnTo>
                    <a:pt x="662" y="155"/>
                  </a:lnTo>
                  <a:lnTo>
                    <a:pt x="662" y="153"/>
                  </a:lnTo>
                  <a:lnTo>
                    <a:pt x="660" y="153"/>
                  </a:lnTo>
                  <a:lnTo>
                    <a:pt x="660" y="151"/>
                  </a:lnTo>
                  <a:lnTo>
                    <a:pt x="662" y="141"/>
                  </a:lnTo>
                  <a:lnTo>
                    <a:pt x="664" y="127"/>
                  </a:lnTo>
                  <a:lnTo>
                    <a:pt x="670" y="111"/>
                  </a:lnTo>
                  <a:lnTo>
                    <a:pt x="678" y="96"/>
                  </a:lnTo>
                  <a:lnTo>
                    <a:pt x="692" y="80"/>
                  </a:lnTo>
                  <a:lnTo>
                    <a:pt x="710" y="68"/>
                  </a:lnTo>
                  <a:lnTo>
                    <a:pt x="732" y="60"/>
                  </a:lnTo>
                  <a:lnTo>
                    <a:pt x="762" y="56"/>
                  </a:lnTo>
                  <a:lnTo>
                    <a:pt x="792" y="60"/>
                  </a:lnTo>
                  <a:lnTo>
                    <a:pt x="817" y="66"/>
                  </a:lnTo>
                  <a:lnTo>
                    <a:pt x="837" y="74"/>
                  </a:lnTo>
                  <a:lnTo>
                    <a:pt x="857" y="82"/>
                  </a:lnTo>
                  <a:lnTo>
                    <a:pt x="873" y="92"/>
                  </a:lnTo>
                  <a:lnTo>
                    <a:pt x="889" y="103"/>
                  </a:lnTo>
                  <a:lnTo>
                    <a:pt x="903" y="117"/>
                  </a:lnTo>
                  <a:lnTo>
                    <a:pt x="919" y="131"/>
                  </a:lnTo>
                  <a:lnTo>
                    <a:pt x="927" y="139"/>
                  </a:lnTo>
                  <a:lnTo>
                    <a:pt x="937" y="147"/>
                  </a:lnTo>
                  <a:lnTo>
                    <a:pt x="945" y="155"/>
                  </a:lnTo>
                  <a:lnTo>
                    <a:pt x="955" y="163"/>
                  </a:lnTo>
                  <a:lnTo>
                    <a:pt x="965" y="173"/>
                  </a:lnTo>
                  <a:lnTo>
                    <a:pt x="977" y="181"/>
                  </a:lnTo>
                  <a:lnTo>
                    <a:pt x="989" y="191"/>
                  </a:lnTo>
                  <a:lnTo>
                    <a:pt x="1000" y="199"/>
                  </a:lnTo>
                  <a:lnTo>
                    <a:pt x="1034" y="221"/>
                  </a:lnTo>
                  <a:lnTo>
                    <a:pt x="1064" y="245"/>
                  </a:lnTo>
                  <a:lnTo>
                    <a:pt x="1088" y="269"/>
                  </a:lnTo>
                  <a:lnTo>
                    <a:pt x="1110" y="295"/>
                  </a:lnTo>
                  <a:lnTo>
                    <a:pt x="1128" y="320"/>
                  </a:lnTo>
                  <a:lnTo>
                    <a:pt x="1142" y="350"/>
                  </a:lnTo>
                  <a:lnTo>
                    <a:pt x="1154" y="384"/>
                  </a:lnTo>
                  <a:lnTo>
                    <a:pt x="1164" y="420"/>
                  </a:lnTo>
                  <a:lnTo>
                    <a:pt x="1168" y="432"/>
                  </a:lnTo>
                  <a:lnTo>
                    <a:pt x="1176" y="458"/>
                  </a:lnTo>
                  <a:lnTo>
                    <a:pt x="1182" y="488"/>
                  </a:lnTo>
                  <a:lnTo>
                    <a:pt x="1186" y="510"/>
                  </a:lnTo>
                  <a:lnTo>
                    <a:pt x="1195" y="541"/>
                  </a:lnTo>
                  <a:lnTo>
                    <a:pt x="1203" y="577"/>
                  </a:lnTo>
                  <a:lnTo>
                    <a:pt x="1209" y="617"/>
                  </a:lnTo>
                  <a:lnTo>
                    <a:pt x="1211" y="659"/>
                  </a:lnTo>
                  <a:lnTo>
                    <a:pt x="1209" y="689"/>
                  </a:lnTo>
                  <a:lnTo>
                    <a:pt x="1207" y="721"/>
                  </a:lnTo>
                  <a:lnTo>
                    <a:pt x="1199" y="754"/>
                  </a:lnTo>
                  <a:lnTo>
                    <a:pt x="1190" y="790"/>
                  </a:lnTo>
                  <a:lnTo>
                    <a:pt x="1190" y="790"/>
                  </a:lnTo>
                  <a:lnTo>
                    <a:pt x="1190" y="792"/>
                  </a:lnTo>
                  <a:lnTo>
                    <a:pt x="1180" y="822"/>
                  </a:lnTo>
                  <a:lnTo>
                    <a:pt x="1168" y="848"/>
                  </a:lnTo>
                  <a:lnTo>
                    <a:pt x="1154" y="870"/>
                  </a:lnTo>
                  <a:lnTo>
                    <a:pt x="1138" y="890"/>
                  </a:lnTo>
                  <a:lnTo>
                    <a:pt x="1134" y="894"/>
                  </a:lnTo>
                  <a:lnTo>
                    <a:pt x="1132" y="900"/>
                  </a:lnTo>
                  <a:lnTo>
                    <a:pt x="1128" y="904"/>
                  </a:lnTo>
                  <a:lnTo>
                    <a:pt x="1124" y="910"/>
                  </a:lnTo>
                  <a:lnTo>
                    <a:pt x="1118" y="918"/>
                  </a:lnTo>
                  <a:lnTo>
                    <a:pt x="1106" y="940"/>
                  </a:lnTo>
                  <a:lnTo>
                    <a:pt x="1092" y="968"/>
                  </a:lnTo>
                  <a:lnTo>
                    <a:pt x="1080" y="991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7605200">
              <a:off x="6921000" y="3430800"/>
              <a:ext cx="718200" cy="1227960"/>
            </a:xfrm>
            <a:custGeom>
              <a:avLst/>
              <a:gdLst/>
              <a:ahLst/>
              <a:rect l="l" t="t" r="r" b="b"/>
              <a:pathLst>
                <a:path w="313" h="535">
                  <a:moveTo>
                    <a:pt x="235" y="121"/>
                  </a:moveTo>
                  <a:lnTo>
                    <a:pt x="247" y="123"/>
                  </a:lnTo>
                  <a:lnTo>
                    <a:pt x="261" y="123"/>
                  </a:lnTo>
                  <a:lnTo>
                    <a:pt x="275" y="123"/>
                  </a:lnTo>
                  <a:lnTo>
                    <a:pt x="289" y="123"/>
                  </a:lnTo>
                  <a:lnTo>
                    <a:pt x="297" y="121"/>
                  </a:lnTo>
                  <a:lnTo>
                    <a:pt x="303" y="117"/>
                  </a:lnTo>
                  <a:lnTo>
                    <a:pt x="307" y="109"/>
                  </a:lnTo>
                  <a:lnTo>
                    <a:pt x="307" y="101"/>
                  </a:lnTo>
                  <a:lnTo>
                    <a:pt x="305" y="94"/>
                  </a:lnTo>
                  <a:lnTo>
                    <a:pt x="301" y="88"/>
                  </a:lnTo>
                  <a:lnTo>
                    <a:pt x="293" y="84"/>
                  </a:lnTo>
                  <a:lnTo>
                    <a:pt x="285" y="82"/>
                  </a:lnTo>
                  <a:lnTo>
                    <a:pt x="247" y="82"/>
                  </a:lnTo>
                  <a:lnTo>
                    <a:pt x="215" y="76"/>
                  </a:lnTo>
                  <a:lnTo>
                    <a:pt x="187" y="64"/>
                  </a:lnTo>
                  <a:lnTo>
                    <a:pt x="165" y="52"/>
                  </a:lnTo>
                  <a:lnTo>
                    <a:pt x="148" y="38"/>
                  </a:lnTo>
                  <a:lnTo>
                    <a:pt x="134" y="24"/>
                  </a:lnTo>
                  <a:lnTo>
                    <a:pt x="128" y="14"/>
                  </a:lnTo>
                  <a:lnTo>
                    <a:pt x="124" y="10"/>
                  </a:lnTo>
                  <a:lnTo>
                    <a:pt x="118" y="4"/>
                  </a:lnTo>
                  <a:lnTo>
                    <a:pt x="110" y="0"/>
                  </a:lnTo>
                  <a:lnTo>
                    <a:pt x="102" y="0"/>
                  </a:lnTo>
                  <a:lnTo>
                    <a:pt x="94" y="4"/>
                  </a:lnTo>
                  <a:lnTo>
                    <a:pt x="88" y="10"/>
                  </a:lnTo>
                  <a:lnTo>
                    <a:pt x="86" y="18"/>
                  </a:lnTo>
                  <a:lnTo>
                    <a:pt x="86" y="26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4" y="42"/>
                  </a:lnTo>
                  <a:lnTo>
                    <a:pt x="100" y="50"/>
                  </a:lnTo>
                  <a:lnTo>
                    <a:pt x="110" y="60"/>
                  </a:lnTo>
                  <a:lnTo>
                    <a:pt x="110" y="68"/>
                  </a:lnTo>
                  <a:lnTo>
                    <a:pt x="108" y="78"/>
                  </a:lnTo>
                  <a:lnTo>
                    <a:pt x="102" y="94"/>
                  </a:lnTo>
                  <a:lnTo>
                    <a:pt x="94" y="109"/>
                  </a:lnTo>
                  <a:lnTo>
                    <a:pt x="84" y="125"/>
                  </a:lnTo>
                  <a:lnTo>
                    <a:pt x="66" y="139"/>
                  </a:lnTo>
                  <a:lnTo>
                    <a:pt x="46" y="149"/>
                  </a:lnTo>
                  <a:lnTo>
                    <a:pt x="18" y="155"/>
                  </a:lnTo>
                  <a:lnTo>
                    <a:pt x="10" y="157"/>
                  </a:lnTo>
                  <a:lnTo>
                    <a:pt x="4" y="161"/>
                  </a:lnTo>
                  <a:lnTo>
                    <a:pt x="0" y="169"/>
                  </a:lnTo>
                  <a:lnTo>
                    <a:pt x="0" y="177"/>
                  </a:lnTo>
                  <a:lnTo>
                    <a:pt x="2" y="185"/>
                  </a:lnTo>
                  <a:lnTo>
                    <a:pt x="8" y="191"/>
                  </a:lnTo>
                  <a:lnTo>
                    <a:pt x="14" y="195"/>
                  </a:lnTo>
                  <a:lnTo>
                    <a:pt x="22" y="195"/>
                  </a:lnTo>
                  <a:lnTo>
                    <a:pt x="50" y="191"/>
                  </a:lnTo>
                  <a:lnTo>
                    <a:pt x="74" y="183"/>
                  </a:lnTo>
                  <a:lnTo>
                    <a:pt x="94" y="171"/>
                  </a:lnTo>
                  <a:lnTo>
                    <a:pt x="110" y="157"/>
                  </a:lnTo>
                  <a:lnTo>
                    <a:pt x="124" y="141"/>
                  </a:lnTo>
                  <a:lnTo>
                    <a:pt x="134" y="123"/>
                  </a:lnTo>
                  <a:lnTo>
                    <a:pt x="142" y="105"/>
                  </a:lnTo>
                  <a:lnTo>
                    <a:pt x="148" y="90"/>
                  </a:lnTo>
                  <a:lnTo>
                    <a:pt x="157" y="96"/>
                  </a:lnTo>
                  <a:lnTo>
                    <a:pt x="169" y="101"/>
                  </a:lnTo>
                  <a:lnTo>
                    <a:pt x="181" y="107"/>
                  </a:lnTo>
                  <a:lnTo>
                    <a:pt x="195" y="111"/>
                  </a:lnTo>
                  <a:lnTo>
                    <a:pt x="191" y="123"/>
                  </a:lnTo>
                  <a:lnTo>
                    <a:pt x="187" y="135"/>
                  </a:lnTo>
                  <a:lnTo>
                    <a:pt x="185" y="147"/>
                  </a:lnTo>
                  <a:lnTo>
                    <a:pt x="185" y="161"/>
                  </a:lnTo>
                  <a:lnTo>
                    <a:pt x="187" y="187"/>
                  </a:lnTo>
                  <a:lnTo>
                    <a:pt x="195" y="213"/>
                  </a:lnTo>
                  <a:lnTo>
                    <a:pt x="211" y="239"/>
                  </a:lnTo>
                  <a:lnTo>
                    <a:pt x="233" y="261"/>
                  </a:lnTo>
                  <a:lnTo>
                    <a:pt x="217" y="273"/>
                  </a:lnTo>
                  <a:lnTo>
                    <a:pt x="203" y="285"/>
                  </a:lnTo>
                  <a:lnTo>
                    <a:pt x="191" y="299"/>
                  </a:lnTo>
                  <a:lnTo>
                    <a:pt x="179" y="311"/>
                  </a:lnTo>
                  <a:lnTo>
                    <a:pt x="171" y="322"/>
                  </a:lnTo>
                  <a:lnTo>
                    <a:pt x="161" y="334"/>
                  </a:lnTo>
                  <a:lnTo>
                    <a:pt x="155" y="346"/>
                  </a:lnTo>
                  <a:lnTo>
                    <a:pt x="150" y="356"/>
                  </a:lnTo>
                  <a:lnTo>
                    <a:pt x="142" y="346"/>
                  </a:lnTo>
                  <a:lnTo>
                    <a:pt x="132" y="336"/>
                  </a:lnTo>
                  <a:lnTo>
                    <a:pt x="122" y="328"/>
                  </a:lnTo>
                  <a:lnTo>
                    <a:pt x="112" y="318"/>
                  </a:lnTo>
                  <a:lnTo>
                    <a:pt x="100" y="311"/>
                  </a:lnTo>
                  <a:lnTo>
                    <a:pt x="88" y="303"/>
                  </a:lnTo>
                  <a:lnTo>
                    <a:pt x="76" y="297"/>
                  </a:lnTo>
                  <a:lnTo>
                    <a:pt x="62" y="289"/>
                  </a:lnTo>
                  <a:lnTo>
                    <a:pt x="54" y="287"/>
                  </a:lnTo>
                  <a:lnTo>
                    <a:pt x="46" y="287"/>
                  </a:lnTo>
                  <a:lnTo>
                    <a:pt x="38" y="291"/>
                  </a:lnTo>
                  <a:lnTo>
                    <a:pt x="34" y="297"/>
                  </a:lnTo>
                  <a:lnTo>
                    <a:pt x="32" y="305"/>
                  </a:lnTo>
                  <a:lnTo>
                    <a:pt x="32" y="313"/>
                  </a:lnTo>
                  <a:lnTo>
                    <a:pt x="36" y="320"/>
                  </a:lnTo>
                  <a:lnTo>
                    <a:pt x="42" y="324"/>
                  </a:lnTo>
                  <a:lnTo>
                    <a:pt x="68" y="338"/>
                  </a:lnTo>
                  <a:lnTo>
                    <a:pt x="92" y="356"/>
                  </a:lnTo>
                  <a:lnTo>
                    <a:pt x="112" y="376"/>
                  </a:lnTo>
                  <a:lnTo>
                    <a:pt x="132" y="398"/>
                  </a:lnTo>
                  <a:lnTo>
                    <a:pt x="150" y="424"/>
                  </a:lnTo>
                  <a:lnTo>
                    <a:pt x="165" y="452"/>
                  </a:lnTo>
                  <a:lnTo>
                    <a:pt x="179" y="484"/>
                  </a:lnTo>
                  <a:lnTo>
                    <a:pt x="191" y="520"/>
                  </a:lnTo>
                  <a:lnTo>
                    <a:pt x="195" y="528"/>
                  </a:lnTo>
                  <a:lnTo>
                    <a:pt x="201" y="532"/>
                  </a:lnTo>
                  <a:lnTo>
                    <a:pt x="209" y="535"/>
                  </a:lnTo>
                  <a:lnTo>
                    <a:pt x="217" y="534"/>
                  </a:lnTo>
                  <a:lnTo>
                    <a:pt x="223" y="530"/>
                  </a:lnTo>
                  <a:lnTo>
                    <a:pt x="229" y="524"/>
                  </a:lnTo>
                  <a:lnTo>
                    <a:pt x="231" y="516"/>
                  </a:lnTo>
                  <a:lnTo>
                    <a:pt x="231" y="508"/>
                  </a:lnTo>
                  <a:lnTo>
                    <a:pt x="221" y="480"/>
                  </a:lnTo>
                  <a:lnTo>
                    <a:pt x="209" y="450"/>
                  </a:lnTo>
                  <a:lnTo>
                    <a:pt x="195" y="422"/>
                  </a:lnTo>
                  <a:lnTo>
                    <a:pt x="177" y="392"/>
                  </a:lnTo>
                  <a:lnTo>
                    <a:pt x="181" y="382"/>
                  </a:lnTo>
                  <a:lnTo>
                    <a:pt x="189" y="372"/>
                  </a:lnTo>
                  <a:lnTo>
                    <a:pt x="197" y="358"/>
                  </a:lnTo>
                  <a:lnTo>
                    <a:pt x="207" y="342"/>
                  </a:lnTo>
                  <a:lnTo>
                    <a:pt x="221" y="326"/>
                  </a:lnTo>
                  <a:lnTo>
                    <a:pt x="237" y="311"/>
                  </a:lnTo>
                  <a:lnTo>
                    <a:pt x="257" y="295"/>
                  </a:lnTo>
                  <a:lnTo>
                    <a:pt x="279" y="281"/>
                  </a:lnTo>
                  <a:lnTo>
                    <a:pt x="313" y="261"/>
                  </a:lnTo>
                  <a:lnTo>
                    <a:pt x="279" y="243"/>
                  </a:lnTo>
                  <a:lnTo>
                    <a:pt x="257" y="227"/>
                  </a:lnTo>
                  <a:lnTo>
                    <a:pt x="241" y="211"/>
                  </a:lnTo>
                  <a:lnTo>
                    <a:pt x="233" y="193"/>
                  </a:lnTo>
                  <a:lnTo>
                    <a:pt x="229" y="175"/>
                  </a:lnTo>
                  <a:lnTo>
                    <a:pt x="227" y="157"/>
                  </a:lnTo>
                  <a:lnTo>
                    <a:pt x="229" y="143"/>
                  </a:lnTo>
                  <a:lnTo>
                    <a:pt x="233" y="129"/>
                  </a:lnTo>
                  <a:lnTo>
                    <a:pt x="235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7605200">
              <a:off x="6073920" y="3728880"/>
              <a:ext cx="502200" cy="883800"/>
            </a:xfrm>
            <a:custGeom>
              <a:avLst/>
              <a:gdLst/>
              <a:ahLst/>
              <a:rect l="l" t="t" r="r" b="b"/>
              <a:pathLst>
                <a:path w="219" h="385">
                  <a:moveTo>
                    <a:pt x="219" y="229"/>
                  </a:moveTo>
                  <a:lnTo>
                    <a:pt x="171" y="215"/>
                  </a:lnTo>
                  <a:lnTo>
                    <a:pt x="143" y="203"/>
                  </a:lnTo>
                  <a:lnTo>
                    <a:pt x="126" y="187"/>
                  </a:lnTo>
                  <a:lnTo>
                    <a:pt x="112" y="169"/>
                  </a:lnTo>
                  <a:lnTo>
                    <a:pt x="106" y="152"/>
                  </a:lnTo>
                  <a:lnTo>
                    <a:pt x="104" y="134"/>
                  </a:lnTo>
                  <a:lnTo>
                    <a:pt x="104" y="118"/>
                  </a:lnTo>
                  <a:lnTo>
                    <a:pt x="104" y="106"/>
                  </a:lnTo>
                  <a:lnTo>
                    <a:pt x="106" y="100"/>
                  </a:lnTo>
                  <a:lnTo>
                    <a:pt x="108" y="98"/>
                  </a:lnTo>
                  <a:lnTo>
                    <a:pt x="108" y="96"/>
                  </a:lnTo>
                  <a:lnTo>
                    <a:pt x="108" y="94"/>
                  </a:lnTo>
                  <a:lnTo>
                    <a:pt x="106" y="92"/>
                  </a:lnTo>
                  <a:lnTo>
                    <a:pt x="122" y="80"/>
                  </a:lnTo>
                  <a:lnTo>
                    <a:pt x="135" y="66"/>
                  </a:lnTo>
                  <a:lnTo>
                    <a:pt x="149" y="50"/>
                  </a:lnTo>
                  <a:lnTo>
                    <a:pt x="159" y="30"/>
                  </a:lnTo>
                  <a:lnTo>
                    <a:pt x="161" y="22"/>
                  </a:lnTo>
                  <a:lnTo>
                    <a:pt x="161" y="14"/>
                  </a:lnTo>
                  <a:lnTo>
                    <a:pt x="157" y="8"/>
                  </a:lnTo>
                  <a:lnTo>
                    <a:pt x="149" y="2"/>
                  </a:lnTo>
                  <a:lnTo>
                    <a:pt x="141" y="0"/>
                  </a:lnTo>
                  <a:lnTo>
                    <a:pt x="133" y="2"/>
                  </a:lnTo>
                  <a:lnTo>
                    <a:pt x="127" y="6"/>
                  </a:lnTo>
                  <a:lnTo>
                    <a:pt x="122" y="12"/>
                  </a:lnTo>
                  <a:lnTo>
                    <a:pt x="116" y="26"/>
                  </a:lnTo>
                  <a:lnTo>
                    <a:pt x="106" y="38"/>
                  </a:lnTo>
                  <a:lnTo>
                    <a:pt x="98" y="48"/>
                  </a:lnTo>
                  <a:lnTo>
                    <a:pt x="86" y="56"/>
                  </a:lnTo>
                  <a:lnTo>
                    <a:pt x="74" y="64"/>
                  </a:lnTo>
                  <a:lnTo>
                    <a:pt x="62" y="72"/>
                  </a:lnTo>
                  <a:lnTo>
                    <a:pt x="50" y="80"/>
                  </a:lnTo>
                  <a:lnTo>
                    <a:pt x="36" y="86"/>
                  </a:lnTo>
                  <a:lnTo>
                    <a:pt x="10" y="100"/>
                  </a:lnTo>
                  <a:lnTo>
                    <a:pt x="4" y="106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2" y="128"/>
                  </a:lnTo>
                  <a:lnTo>
                    <a:pt x="8" y="134"/>
                  </a:lnTo>
                  <a:lnTo>
                    <a:pt x="14" y="138"/>
                  </a:lnTo>
                  <a:lnTo>
                    <a:pt x="22" y="138"/>
                  </a:lnTo>
                  <a:lnTo>
                    <a:pt x="30" y="136"/>
                  </a:lnTo>
                  <a:lnTo>
                    <a:pt x="56" y="124"/>
                  </a:lnTo>
                  <a:lnTo>
                    <a:pt x="58" y="122"/>
                  </a:lnTo>
                  <a:lnTo>
                    <a:pt x="60" y="122"/>
                  </a:lnTo>
                  <a:lnTo>
                    <a:pt x="60" y="120"/>
                  </a:lnTo>
                  <a:lnTo>
                    <a:pt x="62" y="120"/>
                  </a:lnTo>
                  <a:lnTo>
                    <a:pt x="62" y="122"/>
                  </a:lnTo>
                  <a:lnTo>
                    <a:pt x="62" y="122"/>
                  </a:lnTo>
                  <a:lnTo>
                    <a:pt x="62" y="124"/>
                  </a:lnTo>
                  <a:lnTo>
                    <a:pt x="62" y="126"/>
                  </a:lnTo>
                  <a:lnTo>
                    <a:pt x="62" y="140"/>
                  </a:lnTo>
                  <a:lnTo>
                    <a:pt x="64" y="156"/>
                  </a:lnTo>
                  <a:lnTo>
                    <a:pt x="68" y="171"/>
                  </a:lnTo>
                  <a:lnTo>
                    <a:pt x="76" y="185"/>
                  </a:lnTo>
                  <a:lnTo>
                    <a:pt x="84" y="201"/>
                  </a:lnTo>
                  <a:lnTo>
                    <a:pt x="94" y="215"/>
                  </a:lnTo>
                  <a:lnTo>
                    <a:pt x="108" y="227"/>
                  </a:lnTo>
                  <a:lnTo>
                    <a:pt x="124" y="239"/>
                  </a:lnTo>
                  <a:lnTo>
                    <a:pt x="104" y="259"/>
                  </a:lnTo>
                  <a:lnTo>
                    <a:pt x="90" y="279"/>
                  </a:lnTo>
                  <a:lnTo>
                    <a:pt x="78" y="301"/>
                  </a:lnTo>
                  <a:lnTo>
                    <a:pt x="72" y="319"/>
                  </a:lnTo>
                  <a:lnTo>
                    <a:pt x="66" y="335"/>
                  </a:lnTo>
                  <a:lnTo>
                    <a:pt x="64" y="349"/>
                  </a:lnTo>
                  <a:lnTo>
                    <a:pt x="62" y="359"/>
                  </a:lnTo>
                  <a:lnTo>
                    <a:pt x="62" y="363"/>
                  </a:lnTo>
                  <a:lnTo>
                    <a:pt x="62" y="363"/>
                  </a:lnTo>
                  <a:lnTo>
                    <a:pt x="62" y="363"/>
                  </a:lnTo>
                  <a:lnTo>
                    <a:pt x="62" y="363"/>
                  </a:lnTo>
                  <a:lnTo>
                    <a:pt x="62" y="365"/>
                  </a:lnTo>
                  <a:lnTo>
                    <a:pt x="64" y="373"/>
                  </a:lnTo>
                  <a:lnTo>
                    <a:pt x="68" y="379"/>
                  </a:lnTo>
                  <a:lnTo>
                    <a:pt x="74" y="383"/>
                  </a:lnTo>
                  <a:lnTo>
                    <a:pt x="82" y="385"/>
                  </a:lnTo>
                  <a:lnTo>
                    <a:pt x="90" y="383"/>
                  </a:lnTo>
                  <a:lnTo>
                    <a:pt x="98" y="379"/>
                  </a:lnTo>
                  <a:lnTo>
                    <a:pt x="102" y="373"/>
                  </a:lnTo>
                  <a:lnTo>
                    <a:pt x="104" y="365"/>
                  </a:lnTo>
                  <a:lnTo>
                    <a:pt x="104" y="361"/>
                  </a:lnTo>
                  <a:lnTo>
                    <a:pt x="106" y="353"/>
                  </a:lnTo>
                  <a:lnTo>
                    <a:pt x="108" y="339"/>
                  </a:lnTo>
                  <a:lnTo>
                    <a:pt x="114" y="323"/>
                  </a:lnTo>
                  <a:lnTo>
                    <a:pt x="124" y="305"/>
                  </a:lnTo>
                  <a:lnTo>
                    <a:pt x="135" y="287"/>
                  </a:lnTo>
                  <a:lnTo>
                    <a:pt x="153" y="269"/>
                  </a:lnTo>
                  <a:lnTo>
                    <a:pt x="175" y="253"/>
                  </a:lnTo>
                  <a:lnTo>
                    <a:pt x="219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17605200">
              <a:off x="5917320" y="3115440"/>
              <a:ext cx="640800" cy="959400"/>
            </a:xfrm>
            <a:custGeom>
              <a:avLst/>
              <a:gdLst/>
              <a:ahLst/>
              <a:rect l="l" t="t" r="r" b="b"/>
              <a:pathLst>
                <a:path w="279" h="418">
                  <a:moveTo>
                    <a:pt x="165" y="125"/>
                  </a:moveTo>
                  <a:lnTo>
                    <a:pt x="171" y="141"/>
                  </a:lnTo>
                  <a:lnTo>
                    <a:pt x="181" y="157"/>
                  </a:lnTo>
                  <a:lnTo>
                    <a:pt x="189" y="171"/>
                  </a:lnTo>
                  <a:lnTo>
                    <a:pt x="201" y="185"/>
                  </a:lnTo>
                  <a:lnTo>
                    <a:pt x="181" y="205"/>
                  </a:lnTo>
                  <a:lnTo>
                    <a:pt x="165" y="225"/>
                  </a:lnTo>
                  <a:lnTo>
                    <a:pt x="155" y="247"/>
                  </a:lnTo>
                  <a:lnTo>
                    <a:pt x="147" y="267"/>
                  </a:lnTo>
                  <a:lnTo>
                    <a:pt x="136" y="253"/>
                  </a:lnTo>
                  <a:lnTo>
                    <a:pt x="124" y="241"/>
                  </a:lnTo>
                  <a:lnTo>
                    <a:pt x="112" y="231"/>
                  </a:lnTo>
                  <a:lnTo>
                    <a:pt x="102" y="223"/>
                  </a:lnTo>
                  <a:lnTo>
                    <a:pt x="92" y="217"/>
                  </a:lnTo>
                  <a:lnTo>
                    <a:pt x="86" y="213"/>
                  </a:lnTo>
                  <a:lnTo>
                    <a:pt x="80" y="209"/>
                  </a:lnTo>
                  <a:lnTo>
                    <a:pt x="78" y="209"/>
                  </a:lnTo>
                  <a:lnTo>
                    <a:pt x="70" y="207"/>
                  </a:lnTo>
                  <a:lnTo>
                    <a:pt x="62" y="209"/>
                  </a:lnTo>
                  <a:lnTo>
                    <a:pt x="56" y="213"/>
                  </a:lnTo>
                  <a:lnTo>
                    <a:pt x="52" y="219"/>
                  </a:lnTo>
                  <a:lnTo>
                    <a:pt x="50" y="227"/>
                  </a:lnTo>
                  <a:lnTo>
                    <a:pt x="52" y="235"/>
                  </a:lnTo>
                  <a:lnTo>
                    <a:pt x="56" y="243"/>
                  </a:lnTo>
                  <a:lnTo>
                    <a:pt x="62" y="247"/>
                  </a:lnTo>
                  <a:lnTo>
                    <a:pt x="66" y="249"/>
                  </a:lnTo>
                  <a:lnTo>
                    <a:pt x="76" y="255"/>
                  </a:lnTo>
                  <a:lnTo>
                    <a:pt x="90" y="265"/>
                  </a:lnTo>
                  <a:lnTo>
                    <a:pt x="106" y="281"/>
                  </a:lnTo>
                  <a:lnTo>
                    <a:pt x="122" y="301"/>
                  </a:lnTo>
                  <a:lnTo>
                    <a:pt x="137" y="328"/>
                  </a:lnTo>
                  <a:lnTo>
                    <a:pt x="151" y="360"/>
                  </a:lnTo>
                  <a:lnTo>
                    <a:pt x="163" y="402"/>
                  </a:lnTo>
                  <a:lnTo>
                    <a:pt x="167" y="408"/>
                  </a:lnTo>
                  <a:lnTo>
                    <a:pt x="173" y="414"/>
                  </a:lnTo>
                  <a:lnTo>
                    <a:pt x="181" y="418"/>
                  </a:lnTo>
                  <a:lnTo>
                    <a:pt x="189" y="418"/>
                  </a:lnTo>
                  <a:lnTo>
                    <a:pt x="197" y="414"/>
                  </a:lnTo>
                  <a:lnTo>
                    <a:pt x="201" y="408"/>
                  </a:lnTo>
                  <a:lnTo>
                    <a:pt x="205" y="400"/>
                  </a:lnTo>
                  <a:lnTo>
                    <a:pt x="205" y="392"/>
                  </a:lnTo>
                  <a:lnTo>
                    <a:pt x="199" y="370"/>
                  </a:lnTo>
                  <a:lnTo>
                    <a:pt x="193" y="350"/>
                  </a:lnTo>
                  <a:lnTo>
                    <a:pt x="185" y="332"/>
                  </a:lnTo>
                  <a:lnTo>
                    <a:pt x="177" y="315"/>
                  </a:lnTo>
                  <a:lnTo>
                    <a:pt x="179" y="309"/>
                  </a:lnTo>
                  <a:lnTo>
                    <a:pt x="181" y="297"/>
                  </a:lnTo>
                  <a:lnTo>
                    <a:pt x="185" y="283"/>
                  </a:lnTo>
                  <a:lnTo>
                    <a:pt x="191" y="267"/>
                  </a:lnTo>
                  <a:lnTo>
                    <a:pt x="199" y="249"/>
                  </a:lnTo>
                  <a:lnTo>
                    <a:pt x="211" y="233"/>
                  </a:lnTo>
                  <a:lnTo>
                    <a:pt x="227" y="217"/>
                  </a:lnTo>
                  <a:lnTo>
                    <a:pt x="245" y="205"/>
                  </a:lnTo>
                  <a:lnTo>
                    <a:pt x="279" y="187"/>
                  </a:lnTo>
                  <a:lnTo>
                    <a:pt x="247" y="169"/>
                  </a:lnTo>
                  <a:lnTo>
                    <a:pt x="227" y="151"/>
                  </a:lnTo>
                  <a:lnTo>
                    <a:pt x="211" y="129"/>
                  </a:lnTo>
                  <a:lnTo>
                    <a:pt x="201" y="105"/>
                  </a:lnTo>
                  <a:lnTo>
                    <a:pt x="193" y="82"/>
                  </a:lnTo>
                  <a:lnTo>
                    <a:pt x="189" y="58"/>
                  </a:lnTo>
                  <a:lnTo>
                    <a:pt x="187" y="40"/>
                  </a:lnTo>
                  <a:lnTo>
                    <a:pt x="187" y="26"/>
                  </a:lnTo>
                  <a:lnTo>
                    <a:pt x="187" y="22"/>
                  </a:lnTo>
                  <a:lnTo>
                    <a:pt x="185" y="14"/>
                  </a:lnTo>
                  <a:lnTo>
                    <a:pt x="181" y="6"/>
                  </a:lnTo>
                  <a:lnTo>
                    <a:pt x="175" y="2"/>
                  </a:lnTo>
                  <a:lnTo>
                    <a:pt x="167" y="0"/>
                  </a:lnTo>
                  <a:lnTo>
                    <a:pt x="159" y="2"/>
                  </a:lnTo>
                  <a:lnTo>
                    <a:pt x="153" y="6"/>
                  </a:lnTo>
                  <a:lnTo>
                    <a:pt x="147" y="12"/>
                  </a:lnTo>
                  <a:lnTo>
                    <a:pt x="145" y="20"/>
                  </a:lnTo>
                  <a:lnTo>
                    <a:pt x="145" y="20"/>
                  </a:lnTo>
                  <a:lnTo>
                    <a:pt x="145" y="22"/>
                  </a:lnTo>
                  <a:lnTo>
                    <a:pt x="145" y="22"/>
                  </a:lnTo>
                  <a:lnTo>
                    <a:pt x="145" y="24"/>
                  </a:lnTo>
                  <a:lnTo>
                    <a:pt x="145" y="32"/>
                  </a:lnTo>
                  <a:lnTo>
                    <a:pt x="147" y="46"/>
                  </a:lnTo>
                  <a:lnTo>
                    <a:pt x="149" y="64"/>
                  </a:lnTo>
                  <a:lnTo>
                    <a:pt x="153" y="84"/>
                  </a:lnTo>
                  <a:lnTo>
                    <a:pt x="141" y="84"/>
                  </a:lnTo>
                  <a:lnTo>
                    <a:pt x="126" y="82"/>
                  </a:lnTo>
                  <a:lnTo>
                    <a:pt x="112" y="78"/>
                  </a:lnTo>
                  <a:lnTo>
                    <a:pt x="96" y="72"/>
                  </a:lnTo>
                  <a:lnTo>
                    <a:pt x="80" y="64"/>
                  </a:lnTo>
                  <a:lnTo>
                    <a:pt x="64" y="52"/>
                  </a:lnTo>
                  <a:lnTo>
                    <a:pt x="52" y="36"/>
                  </a:lnTo>
                  <a:lnTo>
                    <a:pt x="42" y="16"/>
                  </a:lnTo>
                  <a:lnTo>
                    <a:pt x="36" y="10"/>
                  </a:lnTo>
                  <a:lnTo>
                    <a:pt x="30" y="4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2" y="14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16" y="60"/>
                  </a:lnTo>
                  <a:lnTo>
                    <a:pt x="34" y="82"/>
                  </a:lnTo>
                  <a:lnTo>
                    <a:pt x="54" y="98"/>
                  </a:lnTo>
                  <a:lnTo>
                    <a:pt x="78" y="109"/>
                  </a:lnTo>
                  <a:lnTo>
                    <a:pt x="100" y="117"/>
                  </a:lnTo>
                  <a:lnTo>
                    <a:pt x="124" y="123"/>
                  </a:lnTo>
                  <a:lnTo>
                    <a:pt x="145" y="125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7605200">
              <a:off x="6874200" y="1906200"/>
              <a:ext cx="479880" cy="883800"/>
            </a:xfrm>
            <a:custGeom>
              <a:avLst/>
              <a:gdLst/>
              <a:ahLst/>
              <a:rect l="l" t="t" r="r" b="b"/>
              <a:pathLst>
                <a:path w="209" h="385">
                  <a:moveTo>
                    <a:pt x="199" y="96"/>
                  </a:moveTo>
                  <a:lnTo>
                    <a:pt x="181" y="86"/>
                  </a:lnTo>
                  <a:lnTo>
                    <a:pt x="169" y="80"/>
                  </a:lnTo>
                  <a:lnTo>
                    <a:pt x="155" y="72"/>
                  </a:lnTo>
                  <a:lnTo>
                    <a:pt x="143" y="64"/>
                  </a:lnTo>
                  <a:lnTo>
                    <a:pt x="133" y="56"/>
                  </a:lnTo>
                  <a:lnTo>
                    <a:pt x="121" y="48"/>
                  </a:lnTo>
                  <a:lnTo>
                    <a:pt x="111" y="38"/>
                  </a:lnTo>
                  <a:lnTo>
                    <a:pt x="103" y="26"/>
                  </a:lnTo>
                  <a:lnTo>
                    <a:pt x="95" y="12"/>
                  </a:lnTo>
                  <a:lnTo>
                    <a:pt x="91" y="6"/>
                  </a:lnTo>
                  <a:lnTo>
                    <a:pt x="83" y="2"/>
                  </a:lnTo>
                  <a:lnTo>
                    <a:pt x="75" y="0"/>
                  </a:lnTo>
                  <a:lnTo>
                    <a:pt x="67" y="2"/>
                  </a:lnTo>
                  <a:lnTo>
                    <a:pt x="61" y="8"/>
                  </a:lnTo>
                  <a:lnTo>
                    <a:pt x="57" y="14"/>
                  </a:lnTo>
                  <a:lnTo>
                    <a:pt x="55" y="22"/>
                  </a:lnTo>
                  <a:lnTo>
                    <a:pt x="57" y="30"/>
                  </a:lnTo>
                  <a:lnTo>
                    <a:pt x="69" y="50"/>
                  </a:lnTo>
                  <a:lnTo>
                    <a:pt x="81" y="66"/>
                  </a:lnTo>
                  <a:lnTo>
                    <a:pt x="95" y="80"/>
                  </a:lnTo>
                  <a:lnTo>
                    <a:pt x="111" y="92"/>
                  </a:lnTo>
                  <a:lnTo>
                    <a:pt x="111" y="94"/>
                  </a:lnTo>
                  <a:lnTo>
                    <a:pt x="111" y="96"/>
                  </a:lnTo>
                  <a:lnTo>
                    <a:pt x="111" y="98"/>
                  </a:lnTo>
                  <a:lnTo>
                    <a:pt x="111" y="100"/>
                  </a:lnTo>
                  <a:lnTo>
                    <a:pt x="113" y="106"/>
                  </a:lnTo>
                  <a:lnTo>
                    <a:pt x="113" y="118"/>
                  </a:lnTo>
                  <a:lnTo>
                    <a:pt x="113" y="134"/>
                  </a:lnTo>
                  <a:lnTo>
                    <a:pt x="111" y="152"/>
                  </a:lnTo>
                  <a:lnTo>
                    <a:pt x="105" y="169"/>
                  </a:lnTo>
                  <a:lnTo>
                    <a:pt x="93" y="187"/>
                  </a:lnTo>
                  <a:lnTo>
                    <a:pt x="73" y="203"/>
                  </a:lnTo>
                  <a:lnTo>
                    <a:pt x="47" y="215"/>
                  </a:lnTo>
                  <a:lnTo>
                    <a:pt x="0" y="229"/>
                  </a:lnTo>
                  <a:lnTo>
                    <a:pt x="41" y="253"/>
                  </a:lnTo>
                  <a:lnTo>
                    <a:pt x="63" y="269"/>
                  </a:lnTo>
                  <a:lnTo>
                    <a:pt x="81" y="287"/>
                  </a:lnTo>
                  <a:lnTo>
                    <a:pt x="95" y="305"/>
                  </a:lnTo>
                  <a:lnTo>
                    <a:pt x="103" y="323"/>
                  </a:lnTo>
                  <a:lnTo>
                    <a:pt x="109" y="339"/>
                  </a:lnTo>
                  <a:lnTo>
                    <a:pt x="113" y="353"/>
                  </a:lnTo>
                  <a:lnTo>
                    <a:pt x="115" y="361"/>
                  </a:lnTo>
                  <a:lnTo>
                    <a:pt x="115" y="365"/>
                  </a:lnTo>
                  <a:lnTo>
                    <a:pt x="117" y="373"/>
                  </a:lnTo>
                  <a:lnTo>
                    <a:pt x="121" y="379"/>
                  </a:lnTo>
                  <a:lnTo>
                    <a:pt x="129" y="383"/>
                  </a:lnTo>
                  <a:lnTo>
                    <a:pt x="137" y="385"/>
                  </a:lnTo>
                  <a:lnTo>
                    <a:pt x="145" y="383"/>
                  </a:lnTo>
                  <a:lnTo>
                    <a:pt x="151" y="379"/>
                  </a:lnTo>
                  <a:lnTo>
                    <a:pt x="155" y="373"/>
                  </a:lnTo>
                  <a:lnTo>
                    <a:pt x="157" y="365"/>
                  </a:lnTo>
                  <a:lnTo>
                    <a:pt x="157" y="363"/>
                  </a:lnTo>
                  <a:lnTo>
                    <a:pt x="157" y="363"/>
                  </a:lnTo>
                  <a:lnTo>
                    <a:pt x="157" y="363"/>
                  </a:lnTo>
                  <a:lnTo>
                    <a:pt x="155" y="363"/>
                  </a:lnTo>
                  <a:lnTo>
                    <a:pt x="155" y="359"/>
                  </a:lnTo>
                  <a:lnTo>
                    <a:pt x="153" y="349"/>
                  </a:lnTo>
                  <a:lnTo>
                    <a:pt x="151" y="335"/>
                  </a:lnTo>
                  <a:lnTo>
                    <a:pt x="147" y="319"/>
                  </a:lnTo>
                  <a:lnTo>
                    <a:pt x="139" y="301"/>
                  </a:lnTo>
                  <a:lnTo>
                    <a:pt x="129" y="279"/>
                  </a:lnTo>
                  <a:lnTo>
                    <a:pt x="113" y="259"/>
                  </a:lnTo>
                  <a:lnTo>
                    <a:pt x="93" y="239"/>
                  </a:lnTo>
                  <a:lnTo>
                    <a:pt x="109" y="227"/>
                  </a:lnTo>
                  <a:lnTo>
                    <a:pt x="123" y="215"/>
                  </a:lnTo>
                  <a:lnTo>
                    <a:pt x="135" y="201"/>
                  </a:lnTo>
                  <a:lnTo>
                    <a:pt x="143" y="185"/>
                  </a:lnTo>
                  <a:lnTo>
                    <a:pt x="149" y="171"/>
                  </a:lnTo>
                  <a:lnTo>
                    <a:pt x="153" y="156"/>
                  </a:lnTo>
                  <a:lnTo>
                    <a:pt x="157" y="140"/>
                  </a:lnTo>
                  <a:lnTo>
                    <a:pt x="157" y="126"/>
                  </a:lnTo>
                  <a:lnTo>
                    <a:pt x="157" y="124"/>
                  </a:lnTo>
                  <a:lnTo>
                    <a:pt x="157" y="122"/>
                  </a:lnTo>
                  <a:lnTo>
                    <a:pt x="157" y="122"/>
                  </a:lnTo>
                  <a:lnTo>
                    <a:pt x="155" y="120"/>
                  </a:lnTo>
                  <a:lnTo>
                    <a:pt x="157" y="120"/>
                  </a:lnTo>
                  <a:lnTo>
                    <a:pt x="159" y="122"/>
                  </a:lnTo>
                  <a:lnTo>
                    <a:pt x="161" y="122"/>
                  </a:lnTo>
                  <a:lnTo>
                    <a:pt x="163" y="124"/>
                  </a:lnTo>
                  <a:lnTo>
                    <a:pt x="179" y="132"/>
                  </a:lnTo>
                  <a:lnTo>
                    <a:pt x="187" y="134"/>
                  </a:lnTo>
                  <a:lnTo>
                    <a:pt x="195" y="134"/>
                  </a:lnTo>
                  <a:lnTo>
                    <a:pt x="203" y="130"/>
                  </a:lnTo>
                  <a:lnTo>
                    <a:pt x="207" y="124"/>
                  </a:lnTo>
                  <a:lnTo>
                    <a:pt x="209" y="116"/>
                  </a:lnTo>
                  <a:lnTo>
                    <a:pt x="209" y="108"/>
                  </a:lnTo>
                  <a:lnTo>
                    <a:pt x="205" y="100"/>
                  </a:lnTo>
                  <a:lnTo>
                    <a:pt x="199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17605200">
              <a:off x="7321680" y="2508840"/>
              <a:ext cx="716040" cy="1227960"/>
            </a:xfrm>
            <a:custGeom>
              <a:avLst/>
              <a:gdLst/>
              <a:ahLst/>
              <a:rect l="l" t="t" r="r" b="b"/>
              <a:pathLst>
                <a:path w="312" h="535">
                  <a:moveTo>
                    <a:pt x="293" y="155"/>
                  </a:moveTo>
                  <a:lnTo>
                    <a:pt x="267" y="149"/>
                  </a:lnTo>
                  <a:lnTo>
                    <a:pt x="245" y="139"/>
                  </a:lnTo>
                  <a:lnTo>
                    <a:pt x="229" y="125"/>
                  </a:lnTo>
                  <a:lnTo>
                    <a:pt x="217" y="109"/>
                  </a:lnTo>
                  <a:lnTo>
                    <a:pt x="209" y="94"/>
                  </a:lnTo>
                  <a:lnTo>
                    <a:pt x="205" y="78"/>
                  </a:lnTo>
                  <a:lnTo>
                    <a:pt x="203" y="68"/>
                  </a:lnTo>
                  <a:lnTo>
                    <a:pt x="201" y="60"/>
                  </a:lnTo>
                  <a:lnTo>
                    <a:pt x="211" y="50"/>
                  </a:lnTo>
                  <a:lnTo>
                    <a:pt x="217" y="42"/>
                  </a:lnTo>
                  <a:lnTo>
                    <a:pt x="221" y="36"/>
                  </a:lnTo>
                  <a:lnTo>
                    <a:pt x="223" y="34"/>
                  </a:lnTo>
                  <a:lnTo>
                    <a:pt x="227" y="26"/>
                  </a:lnTo>
                  <a:lnTo>
                    <a:pt x="227" y="18"/>
                  </a:lnTo>
                  <a:lnTo>
                    <a:pt x="223" y="10"/>
                  </a:lnTo>
                  <a:lnTo>
                    <a:pt x="217" y="4"/>
                  </a:lnTo>
                  <a:lnTo>
                    <a:pt x="211" y="0"/>
                  </a:lnTo>
                  <a:lnTo>
                    <a:pt x="203" y="0"/>
                  </a:lnTo>
                  <a:lnTo>
                    <a:pt x="195" y="4"/>
                  </a:lnTo>
                  <a:lnTo>
                    <a:pt x="189" y="10"/>
                  </a:lnTo>
                  <a:lnTo>
                    <a:pt x="185" y="14"/>
                  </a:lnTo>
                  <a:lnTo>
                    <a:pt x="177" y="24"/>
                  </a:lnTo>
                  <a:lnTo>
                    <a:pt x="165" y="38"/>
                  </a:lnTo>
                  <a:lnTo>
                    <a:pt x="147" y="52"/>
                  </a:lnTo>
                  <a:lnTo>
                    <a:pt x="123" y="64"/>
                  </a:lnTo>
                  <a:lnTo>
                    <a:pt x="96" y="76"/>
                  </a:lnTo>
                  <a:lnTo>
                    <a:pt x="64" y="82"/>
                  </a:lnTo>
                  <a:lnTo>
                    <a:pt x="26" y="82"/>
                  </a:lnTo>
                  <a:lnTo>
                    <a:pt x="18" y="84"/>
                  </a:lnTo>
                  <a:lnTo>
                    <a:pt x="12" y="88"/>
                  </a:lnTo>
                  <a:lnTo>
                    <a:pt x="6" y="94"/>
                  </a:lnTo>
                  <a:lnTo>
                    <a:pt x="4" y="101"/>
                  </a:lnTo>
                  <a:lnTo>
                    <a:pt x="6" y="109"/>
                  </a:lnTo>
                  <a:lnTo>
                    <a:pt x="10" y="117"/>
                  </a:lnTo>
                  <a:lnTo>
                    <a:pt x="16" y="121"/>
                  </a:lnTo>
                  <a:lnTo>
                    <a:pt x="24" y="123"/>
                  </a:lnTo>
                  <a:lnTo>
                    <a:pt x="38" y="123"/>
                  </a:lnTo>
                  <a:lnTo>
                    <a:pt x="52" y="123"/>
                  </a:lnTo>
                  <a:lnTo>
                    <a:pt x="64" y="123"/>
                  </a:lnTo>
                  <a:lnTo>
                    <a:pt x="78" y="121"/>
                  </a:lnTo>
                  <a:lnTo>
                    <a:pt x="80" y="129"/>
                  </a:lnTo>
                  <a:lnTo>
                    <a:pt x="84" y="143"/>
                  </a:lnTo>
                  <a:lnTo>
                    <a:pt x="86" y="157"/>
                  </a:lnTo>
                  <a:lnTo>
                    <a:pt x="84" y="175"/>
                  </a:lnTo>
                  <a:lnTo>
                    <a:pt x="80" y="193"/>
                  </a:lnTo>
                  <a:lnTo>
                    <a:pt x="70" y="211"/>
                  </a:lnTo>
                  <a:lnTo>
                    <a:pt x="54" y="227"/>
                  </a:lnTo>
                  <a:lnTo>
                    <a:pt x="32" y="243"/>
                  </a:lnTo>
                  <a:lnTo>
                    <a:pt x="0" y="261"/>
                  </a:lnTo>
                  <a:lnTo>
                    <a:pt x="32" y="281"/>
                  </a:lnTo>
                  <a:lnTo>
                    <a:pt x="54" y="295"/>
                  </a:lnTo>
                  <a:lnTo>
                    <a:pt x="74" y="311"/>
                  </a:lnTo>
                  <a:lnTo>
                    <a:pt x="90" y="326"/>
                  </a:lnTo>
                  <a:lnTo>
                    <a:pt x="104" y="342"/>
                  </a:lnTo>
                  <a:lnTo>
                    <a:pt x="115" y="358"/>
                  </a:lnTo>
                  <a:lnTo>
                    <a:pt x="123" y="372"/>
                  </a:lnTo>
                  <a:lnTo>
                    <a:pt x="129" y="382"/>
                  </a:lnTo>
                  <a:lnTo>
                    <a:pt x="133" y="392"/>
                  </a:lnTo>
                  <a:lnTo>
                    <a:pt x="117" y="422"/>
                  </a:lnTo>
                  <a:lnTo>
                    <a:pt x="104" y="450"/>
                  </a:lnTo>
                  <a:lnTo>
                    <a:pt x="92" y="480"/>
                  </a:lnTo>
                  <a:lnTo>
                    <a:pt x="82" y="508"/>
                  </a:lnTo>
                  <a:lnTo>
                    <a:pt x="80" y="516"/>
                  </a:lnTo>
                  <a:lnTo>
                    <a:pt x="84" y="524"/>
                  </a:lnTo>
                  <a:lnTo>
                    <a:pt x="88" y="530"/>
                  </a:lnTo>
                  <a:lnTo>
                    <a:pt x="96" y="534"/>
                  </a:lnTo>
                  <a:lnTo>
                    <a:pt x="104" y="535"/>
                  </a:lnTo>
                  <a:lnTo>
                    <a:pt x="111" y="532"/>
                  </a:lnTo>
                  <a:lnTo>
                    <a:pt x="117" y="528"/>
                  </a:lnTo>
                  <a:lnTo>
                    <a:pt x="121" y="520"/>
                  </a:lnTo>
                  <a:lnTo>
                    <a:pt x="133" y="484"/>
                  </a:lnTo>
                  <a:lnTo>
                    <a:pt x="147" y="452"/>
                  </a:lnTo>
                  <a:lnTo>
                    <a:pt x="163" y="424"/>
                  </a:lnTo>
                  <a:lnTo>
                    <a:pt x="181" y="398"/>
                  </a:lnTo>
                  <a:lnTo>
                    <a:pt x="199" y="376"/>
                  </a:lnTo>
                  <a:lnTo>
                    <a:pt x="221" y="356"/>
                  </a:lnTo>
                  <a:lnTo>
                    <a:pt x="243" y="338"/>
                  </a:lnTo>
                  <a:lnTo>
                    <a:pt x="269" y="324"/>
                  </a:lnTo>
                  <a:lnTo>
                    <a:pt x="275" y="320"/>
                  </a:lnTo>
                  <a:lnTo>
                    <a:pt x="281" y="313"/>
                  </a:lnTo>
                  <a:lnTo>
                    <a:pt x="281" y="305"/>
                  </a:lnTo>
                  <a:lnTo>
                    <a:pt x="279" y="297"/>
                  </a:lnTo>
                  <a:lnTo>
                    <a:pt x="273" y="291"/>
                  </a:lnTo>
                  <a:lnTo>
                    <a:pt x="267" y="287"/>
                  </a:lnTo>
                  <a:lnTo>
                    <a:pt x="259" y="287"/>
                  </a:lnTo>
                  <a:lnTo>
                    <a:pt x="251" y="289"/>
                  </a:lnTo>
                  <a:lnTo>
                    <a:pt x="237" y="297"/>
                  </a:lnTo>
                  <a:lnTo>
                    <a:pt x="225" y="303"/>
                  </a:lnTo>
                  <a:lnTo>
                    <a:pt x="213" y="311"/>
                  </a:lnTo>
                  <a:lnTo>
                    <a:pt x="201" y="318"/>
                  </a:lnTo>
                  <a:lnTo>
                    <a:pt x="191" y="328"/>
                  </a:lnTo>
                  <a:lnTo>
                    <a:pt x="179" y="336"/>
                  </a:lnTo>
                  <a:lnTo>
                    <a:pt x="171" y="346"/>
                  </a:lnTo>
                  <a:lnTo>
                    <a:pt x="161" y="356"/>
                  </a:lnTo>
                  <a:lnTo>
                    <a:pt x="155" y="346"/>
                  </a:lnTo>
                  <a:lnTo>
                    <a:pt x="149" y="334"/>
                  </a:lnTo>
                  <a:lnTo>
                    <a:pt x="139" y="322"/>
                  </a:lnTo>
                  <a:lnTo>
                    <a:pt x="131" y="311"/>
                  </a:lnTo>
                  <a:lnTo>
                    <a:pt x="119" y="299"/>
                  </a:lnTo>
                  <a:lnTo>
                    <a:pt x="107" y="285"/>
                  </a:lnTo>
                  <a:lnTo>
                    <a:pt x="96" y="273"/>
                  </a:lnTo>
                  <a:lnTo>
                    <a:pt x="80" y="261"/>
                  </a:lnTo>
                  <a:lnTo>
                    <a:pt x="102" y="239"/>
                  </a:lnTo>
                  <a:lnTo>
                    <a:pt x="115" y="213"/>
                  </a:lnTo>
                  <a:lnTo>
                    <a:pt x="123" y="187"/>
                  </a:lnTo>
                  <a:lnTo>
                    <a:pt x="125" y="161"/>
                  </a:lnTo>
                  <a:lnTo>
                    <a:pt x="125" y="147"/>
                  </a:lnTo>
                  <a:lnTo>
                    <a:pt x="123" y="135"/>
                  </a:lnTo>
                  <a:lnTo>
                    <a:pt x="119" y="123"/>
                  </a:lnTo>
                  <a:lnTo>
                    <a:pt x="117" y="111"/>
                  </a:lnTo>
                  <a:lnTo>
                    <a:pt x="131" y="107"/>
                  </a:lnTo>
                  <a:lnTo>
                    <a:pt x="143" y="101"/>
                  </a:lnTo>
                  <a:lnTo>
                    <a:pt x="155" y="96"/>
                  </a:lnTo>
                  <a:lnTo>
                    <a:pt x="165" y="90"/>
                  </a:lnTo>
                  <a:lnTo>
                    <a:pt x="171" y="105"/>
                  </a:lnTo>
                  <a:lnTo>
                    <a:pt x="177" y="123"/>
                  </a:lnTo>
                  <a:lnTo>
                    <a:pt x="189" y="141"/>
                  </a:lnTo>
                  <a:lnTo>
                    <a:pt x="201" y="157"/>
                  </a:lnTo>
                  <a:lnTo>
                    <a:pt x="219" y="171"/>
                  </a:lnTo>
                  <a:lnTo>
                    <a:pt x="239" y="183"/>
                  </a:lnTo>
                  <a:lnTo>
                    <a:pt x="261" y="191"/>
                  </a:lnTo>
                  <a:lnTo>
                    <a:pt x="289" y="195"/>
                  </a:lnTo>
                  <a:lnTo>
                    <a:pt x="297" y="195"/>
                  </a:lnTo>
                  <a:lnTo>
                    <a:pt x="304" y="191"/>
                  </a:lnTo>
                  <a:lnTo>
                    <a:pt x="310" y="185"/>
                  </a:lnTo>
                  <a:lnTo>
                    <a:pt x="312" y="177"/>
                  </a:lnTo>
                  <a:lnTo>
                    <a:pt x="310" y="169"/>
                  </a:lnTo>
                  <a:lnTo>
                    <a:pt x="306" y="161"/>
                  </a:lnTo>
                  <a:lnTo>
                    <a:pt x="300" y="157"/>
                  </a:lnTo>
                  <a:lnTo>
                    <a:pt x="29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7605200">
              <a:off x="6320520" y="2190600"/>
              <a:ext cx="635400" cy="959400"/>
            </a:xfrm>
            <a:custGeom>
              <a:avLst/>
              <a:gdLst/>
              <a:ahLst/>
              <a:rect l="l" t="t" r="r" b="b"/>
              <a:pathLst>
                <a:path w="277" h="418">
                  <a:moveTo>
                    <a:pt x="99" y="315"/>
                  </a:moveTo>
                  <a:lnTo>
                    <a:pt x="91" y="332"/>
                  </a:lnTo>
                  <a:lnTo>
                    <a:pt x="86" y="350"/>
                  </a:lnTo>
                  <a:lnTo>
                    <a:pt x="80" y="370"/>
                  </a:lnTo>
                  <a:lnTo>
                    <a:pt x="74" y="392"/>
                  </a:lnTo>
                  <a:lnTo>
                    <a:pt x="74" y="400"/>
                  </a:lnTo>
                  <a:lnTo>
                    <a:pt x="76" y="408"/>
                  </a:lnTo>
                  <a:lnTo>
                    <a:pt x="82" y="414"/>
                  </a:lnTo>
                  <a:lnTo>
                    <a:pt x="89" y="418"/>
                  </a:lnTo>
                  <a:lnTo>
                    <a:pt x="97" y="418"/>
                  </a:lnTo>
                  <a:lnTo>
                    <a:pt x="105" y="414"/>
                  </a:lnTo>
                  <a:lnTo>
                    <a:pt x="109" y="408"/>
                  </a:lnTo>
                  <a:lnTo>
                    <a:pt x="113" y="402"/>
                  </a:lnTo>
                  <a:lnTo>
                    <a:pt x="125" y="360"/>
                  </a:lnTo>
                  <a:lnTo>
                    <a:pt x="139" y="328"/>
                  </a:lnTo>
                  <a:lnTo>
                    <a:pt x="157" y="301"/>
                  </a:lnTo>
                  <a:lnTo>
                    <a:pt x="173" y="281"/>
                  </a:lnTo>
                  <a:lnTo>
                    <a:pt x="189" y="265"/>
                  </a:lnTo>
                  <a:lnTo>
                    <a:pt x="203" y="255"/>
                  </a:lnTo>
                  <a:lnTo>
                    <a:pt x="213" y="249"/>
                  </a:lnTo>
                  <a:lnTo>
                    <a:pt x="217" y="247"/>
                  </a:lnTo>
                  <a:lnTo>
                    <a:pt x="223" y="243"/>
                  </a:lnTo>
                  <a:lnTo>
                    <a:pt x="227" y="235"/>
                  </a:lnTo>
                  <a:lnTo>
                    <a:pt x="229" y="227"/>
                  </a:lnTo>
                  <a:lnTo>
                    <a:pt x="227" y="219"/>
                  </a:lnTo>
                  <a:lnTo>
                    <a:pt x="221" y="213"/>
                  </a:lnTo>
                  <a:lnTo>
                    <a:pt x="215" y="209"/>
                  </a:lnTo>
                  <a:lnTo>
                    <a:pt x="207" y="207"/>
                  </a:lnTo>
                  <a:lnTo>
                    <a:pt x="199" y="209"/>
                  </a:lnTo>
                  <a:lnTo>
                    <a:pt x="197" y="209"/>
                  </a:lnTo>
                  <a:lnTo>
                    <a:pt x="193" y="213"/>
                  </a:lnTo>
                  <a:lnTo>
                    <a:pt x="185" y="217"/>
                  </a:lnTo>
                  <a:lnTo>
                    <a:pt x="177" y="223"/>
                  </a:lnTo>
                  <a:lnTo>
                    <a:pt x="167" y="231"/>
                  </a:lnTo>
                  <a:lnTo>
                    <a:pt x="155" y="241"/>
                  </a:lnTo>
                  <a:lnTo>
                    <a:pt x="143" y="253"/>
                  </a:lnTo>
                  <a:lnTo>
                    <a:pt x="131" y="267"/>
                  </a:lnTo>
                  <a:lnTo>
                    <a:pt x="123" y="247"/>
                  </a:lnTo>
                  <a:lnTo>
                    <a:pt x="111" y="225"/>
                  </a:lnTo>
                  <a:lnTo>
                    <a:pt x="95" y="205"/>
                  </a:lnTo>
                  <a:lnTo>
                    <a:pt x="76" y="185"/>
                  </a:lnTo>
                  <a:lnTo>
                    <a:pt x="87" y="171"/>
                  </a:lnTo>
                  <a:lnTo>
                    <a:pt x="97" y="157"/>
                  </a:lnTo>
                  <a:lnTo>
                    <a:pt x="107" y="141"/>
                  </a:lnTo>
                  <a:lnTo>
                    <a:pt x="113" y="125"/>
                  </a:lnTo>
                  <a:lnTo>
                    <a:pt x="133" y="125"/>
                  </a:lnTo>
                  <a:lnTo>
                    <a:pt x="155" y="123"/>
                  </a:lnTo>
                  <a:lnTo>
                    <a:pt x="177" y="117"/>
                  </a:lnTo>
                  <a:lnTo>
                    <a:pt x="201" y="109"/>
                  </a:lnTo>
                  <a:lnTo>
                    <a:pt x="223" y="98"/>
                  </a:lnTo>
                  <a:lnTo>
                    <a:pt x="243" y="82"/>
                  </a:lnTo>
                  <a:lnTo>
                    <a:pt x="261" y="60"/>
                  </a:lnTo>
                  <a:lnTo>
                    <a:pt x="275" y="32"/>
                  </a:lnTo>
                  <a:lnTo>
                    <a:pt x="277" y="24"/>
                  </a:lnTo>
                  <a:lnTo>
                    <a:pt x="275" y="14"/>
                  </a:lnTo>
                  <a:lnTo>
                    <a:pt x="271" y="8"/>
                  </a:lnTo>
                  <a:lnTo>
                    <a:pt x="263" y="4"/>
                  </a:lnTo>
                  <a:lnTo>
                    <a:pt x="255" y="2"/>
                  </a:lnTo>
                  <a:lnTo>
                    <a:pt x="247" y="4"/>
                  </a:lnTo>
                  <a:lnTo>
                    <a:pt x="241" y="10"/>
                  </a:lnTo>
                  <a:lnTo>
                    <a:pt x="237" y="16"/>
                  </a:lnTo>
                  <a:lnTo>
                    <a:pt x="227" y="36"/>
                  </a:lnTo>
                  <a:lnTo>
                    <a:pt x="213" y="52"/>
                  </a:lnTo>
                  <a:lnTo>
                    <a:pt x="199" y="64"/>
                  </a:lnTo>
                  <a:lnTo>
                    <a:pt x="183" y="72"/>
                  </a:lnTo>
                  <a:lnTo>
                    <a:pt x="167" y="78"/>
                  </a:lnTo>
                  <a:lnTo>
                    <a:pt x="151" y="82"/>
                  </a:lnTo>
                  <a:lnTo>
                    <a:pt x="137" y="84"/>
                  </a:lnTo>
                  <a:lnTo>
                    <a:pt x="125" y="84"/>
                  </a:lnTo>
                  <a:lnTo>
                    <a:pt x="129" y="64"/>
                  </a:lnTo>
                  <a:lnTo>
                    <a:pt x="131" y="46"/>
                  </a:lnTo>
                  <a:lnTo>
                    <a:pt x="131" y="32"/>
                  </a:lnTo>
                  <a:lnTo>
                    <a:pt x="131" y="24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29" y="12"/>
                  </a:lnTo>
                  <a:lnTo>
                    <a:pt x="125" y="6"/>
                  </a:lnTo>
                  <a:lnTo>
                    <a:pt x="117" y="2"/>
                  </a:lnTo>
                  <a:lnTo>
                    <a:pt x="109" y="0"/>
                  </a:lnTo>
                  <a:lnTo>
                    <a:pt x="101" y="2"/>
                  </a:lnTo>
                  <a:lnTo>
                    <a:pt x="95" y="6"/>
                  </a:lnTo>
                  <a:lnTo>
                    <a:pt x="91" y="14"/>
                  </a:lnTo>
                  <a:lnTo>
                    <a:pt x="89" y="22"/>
                  </a:lnTo>
                  <a:lnTo>
                    <a:pt x="89" y="26"/>
                  </a:lnTo>
                  <a:lnTo>
                    <a:pt x="89" y="40"/>
                  </a:lnTo>
                  <a:lnTo>
                    <a:pt x="87" y="58"/>
                  </a:lnTo>
                  <a:lnTo>
                    <a:pt x="84" y="82"/>
                  </a:lnTo>
                  <a:lnTo>
                    <a:pt x="76" y="105"/>
                  </a:lnTo>
                  <a:lnTo>
                    <a:pt x="66" y="129"/>
                  </a:lnTo>
                  <a:lnTo>
                    <a:pt x="50" y="151"/>
                  </a:lnTo>
                  <a:lnTo>
                    <a:pt x="30" y="169"/>
                  </a:lnTo>
                  <a:lnTo>
                    <a:pt x="0" y="187"/>
                  </a:lnTo>
                  <a:lnTo>
                    <a:pt x="32" y="205"/>
                  </a:lnTo>
                  <a:lnTo>
                    <a:pt x="52" y="217"/>
                  </a:lnTo>
                  <a:lnTo>
                    <a:pt x="68" y="233"/>
                  </a:lnTo>
                  <a:lnTo>
                    <a:pt x="80" y="249"/>
                  </a:lnTo>
                  <a:lnTo>
                    <a:pt x="87" y="267"/>
                  </a:lnTo>
                  <a:lnTo>
                    <a:pt x="93" y="283"/>
                  </a:lnTo>
                  <a:lnTo>
                    <a:pt x="97" y="297"/>
                  </a:lnTo>
                  <a:lnTo>
                    <a:pt x="99" y="309"/>
                  </a:lnTo>
                  <a:lnTo>
                    <a:pt x="99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5214960" y="1704960"/>
            <a:ext cx="3460680" cy="3195720"/>
          </a:xfrm>
          <a:prstGeom prst="ellipse">
            <a:avLst/>
          </a:prstGeom>
          <a:solidFill>
            <a:srgbClr val="ffffff">
              <a:alpha val="78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72080" y="2475000"/>
            <a:ext cx="310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6600"/>
                </a:solidFill>
                <a:latin typeface="Arial"/>
              </a:rPr>
              <a:t>Zastosu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5651640" y="3178080"/>
            <a:ext cx="2706480" cy="4730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5557680" y="3651120"/>
            <a:ext cx="31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6600"/>
                </a:solidFill>
                <a:latin typeface="Arial"/>
              </a:rPr>
              <a:t>na swoim po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202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Zastosuj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319480" y="4346640"/>
            <a:ext cx="6410160" cy="11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Para 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na wilgotną gleb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282400" y="5735520"/>
            <a:ext cx="64105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dycja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1628640"/>
            <a:ext cx="8048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04880" indent="-704880">
              <a:lnSpc>
                <a:spcPct val="135000"/>
              </a:lnSpc>
              <a:spcBef>
                <a:spcPts val="1463"/>
              </a:spcBef>
              <a:spcAft>
                <a:spcPts val="1125"/>
              </a:spcAft>
              <a:buSzPct val="20562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pewnia pole bez chwastów już od wschodów kukurydz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04880" indent="-704880">
              <a:spcBef>
                <a:spcPts val="1463"/>
              </a:spcBef>
              <a:spcAft>
                <a:spcPts val="1125"/>
              </a:spcAft>
              <a:buSzPct val="20562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lcza zarówno chwasty dwuliścienne, jak i jednoliścienne (prosowa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04880" indent="-704880">
              <a:spcBef>
                <a:spcPts val="1463"/>
              </a:spcBef>
              <a:spcAft>
                <a:spcPts val="451"/>
              </a:spcAft>
              <a:buSzPct val="20562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pewnia długotrwałe działanie poprzez efek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aktywniania substancji biologicznie czynnej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z z kolejnymi opadami deszc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04880" indent="-704880">
              <a:spcBef>
                <a:spcPts val="1463"/>
              </a:spcBef>
              <a:buSzPct val="20562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utecznie zwalcza chwasty uodpornione na triazyny, sulfonylomoczniki i glifos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04880" indent="-704880">
              <a:spcBef>
                <a:spcPts val="1463"/>
              </a:spcBef>
              <a:buSzPct val="20562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soka jakość i wielkość plo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202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Zastosuj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732360" y="3416400"/>
            <a:ext cx="1903680" cy="2249280"/>
            <a:chOff x="6732360" y="3416400"/>
            <a:chExt cx="1903680" cy="2249280"/>
          </a:xfrm>
        </p:grpSpPr>
        <p:grpSp>
          <p:nvGrpSpPr>
            <p:cNvPr id="105" name=""/>
            <p:cNvGrpSpPr/>
            <p:nvPr/>
          </p:nvGrpSpPr>
          <p:grpSpPr>
            <a:xfrm>
              <a:off x="6732360" y="3416400"/>
              <a:ext cx="1368360" cy="1231920"/>
              <a:chOff x="6732360" y="3416400"/>
              <a:chExt cx="1368360" cy="1231920"/>
            </a:xfrm>
          </p:grpSpPr>
          <p:sp>
            <p:nvSpPr>
              <p:cNvPr id="106" name=""/>
              <p:cNvSpPr/>
              <p:nvPr/>
            </p:nvSpPr>
            <p:spPr>
              <a:xfrm flipH="1">
                <a:off x="6732000" y="3416400"/>
                <a:ext cx="1368360" cy="1231920"/>
              </a:xfrm>
              <a:custGeom>
                <a:avLst/>
                <a:gdLst/>
                <a:ahLst/>
                <a:rect l="l" t="t" r="r" b="b"/>
                <a:pathLst>
                  <a:path w="1601" h="1396">
                    <a:moveTo>
                      <a:pt x="1594" y="789"/>
                    </a:moveTo>
                    <a:lnTo>
                      <a:pt x="1588" y="767"/>
                    </a:lnTo>
                    <a:lnTo>
                      <a:pt x="1581" y="745"/>
                    </a:lnTo>
                    <a:lnTo>
                      <a:pt x="1572" y="724"/>
                    </a:lnTo>
                    <a:lnTo>
                      <a:pt x="1561" y="705"/>
                    </a:lnTo>
                    <a:lnTo>
                      <a:pt x="1550" y="686"/>
                    </a:lnTo>
                    <a:lnTo>
                      <a:pt x="1536" y="668"/>
                    </a:lnTo>
                    <a:lnTo>
                      <a:pt x="1521" y="651"/>
                    </a:lnTo>
                    <a:lnTo>
                      <a:pt x="1505" y="635"/>
                    </a:lnTo>
                    <a:lnTo>
                      <a:pt x="1507" y="615"/>
                    </a:lnTo>
                    <a:lnTo>
                      <a:pt x="1507" y="594"/>
                    </a:lnTo>
                    <a:lnTo>
                      <a:pt x="1505" y="573"/>
                    </a:lnTo>
                    <a:lnTo>
                      <a:pt x="1502" y="554"/>
                    </a:lnTo>
                    <a:lnTo>
                      <a:pt x="1497" y="538"/>
                    </a:lnTo>
                    <a:lnTo>
                      <a:pt x="1492" y="522"/>
                    </a:lnTo>
                    <a:lnTo>
                      <a:pt x="1487" y="507"/>
                    </a:lnTo>
                    <a:lnTo>
                      <a:pt x="1478" y="492"/>
                    </a:lnTo>
                    <a:lnTo>
                      <a:pt x="1470" y="478"/>
                    </a:lnTo>
                    <a:lnTo>
                      <a:pt x="1461" y="465"/>
                    </a:lnTo>
                    <a:lnTo>
                      <a:pt x="1451" y="452"/>
                    </a:lnTo>
                    <a:lnTo>
                      <a:pt x="1439" y="441"/>
                    </a:lnTo>
                    <a:lnTo>
                      <a:pt x="1452" y="411"/>
                    </a:lnTo>
                    <a:lnTo>
                      <a:pt x="1459" y="379"/>
                    </a:lnTo>
                    <a:lnTo>
                      <a:pt x="1460" y="346"/>
                    </a:lnTo>
                    <a:lnTo>
                      <a:pt x="1455" y="314"/>
                    </a:lnTo>
                    <a:lnTo>
                      <a:pt x="1451" y="297"/>
                    </a:lnTo>
                    <a:lnTo>
                      <a:pt x="1444" y="280"/>
                    </a:lnTo>
                    <a:lnTo>
                      <a:pt x="1436" y="263"/>
                    </a:lnTo>
                    <a:lnTo>
                      <a:pt x="1427" y="247"/>
                    </a:lnTo>
                    <a:lnTo>
                      <a:pt x="1415" y="233"/>
                    </a:lnTo>
                    <a:lnTo>
                      <a:pt x="1402" y="220"/>
                    </a:lnTo>
                    <a:lnTo>
                      <a:pt x="1389" y="208"/>
                    </a:lnTo>
                    <a:lnTo>
                      <a:pt x="1374" y="197"/>
                    </a:lnTo>
                    <a:lnTo>
                      <a:pt x="1357" y="187"/>
                    </a:lnTo>
                    <a:lnTo>
                      <a:pt x="1341" y="180"/>
                    </a:lnTo>
                    <a:lnTo>
                      <a:pt x="1324" y="175"/>
                    </a:lnTo>
                    <a:lnTo>
                      <a:pt x="1306" y="170"/>
                    </a:lnTo>
                    <a:lnTo>
                      <a:pt x="1288" y="168"/>
                    </a:lnTo>
                    <a:lnTo>
                      <a:pt x="1270" y="168"/>
                    </a:lnTo>
                    <a:lnTo>
                      <a:pt x="1251" y="169"/>
                    </a:lnTo>
                    <a:lnTo>
                      <a:pt x="1233" y="172"/>
                    </a:lnTo>
                    <a:lnTo>
                      <a:pt x="1226" y="174"/>
                    </a:lnTo>
                    <a:lnTo>
                      <a:pt x="1219" y="176"/>
                    </a:lnTo>
                    <a:lnTo>
                      <a:pt x="1212" y="178"/>
                    </a:lnTo>
                    <a:lnTo>
                      <a:pt x="1207" y="180"/>
                    </a:lnTo>
                    <a:lnTo>
                      <a:pt x="1200" y="183"/>
                    </a:lnTo>
                    <a:lnTo>
                      <a:pt x="1194" y="185"/>
                    </a:lnTo>
                    <a:lnTo>
                      <a:pt x="1187" y="189"/>
                    </a:lnTo>
                    <a:lnTo>
                      <a:pt x="1181" y="192"/>
                    </a:lnTo>
                    <a:lnTo>
                      <a:pt x="1169" y="167"/>
                    </a:lnTo>
                    <a:lnTo>
                      <a:pt x="1154" y="142"/>
                    </a:lnTo>
                    <a:lnTo>
                      <a:pt x="1136" y="119"/>
                    </a:lnTo>
                    <a:lnTo>
                      <a:pt x="1118" y="99"/>
                    </a:lnTo>
                    <a:lnTo>
                      <a:pt x="1098" y="80"/>
                    </a:lnTo>
                    <a:lnTo>
                      <a:pt x="1076" y="63"/>
                    </a:lnTo>
                    <a:lnTo>
                      <a:pt x="1053" y="48"/>
                    </a:lnTo>
                    <a:lnTo>
                      <a:pt x="1030" y="34"/>
                    </a:lnTo>
                    <a:lnTo>
                      <a:pt x="1005" y="23"/>
                    </a:lnTo>
                    <a:lnTo>
                      <a:pt x="978" y="13"/>
                    </a:lnTo>
                    <a:lnTo>
                      <a:pt x="952" y="6"/>
                    </a:lnTo>
                    <a:lnTo>
                      <a:pt x="924" y="2"/>
                    </a:lnTo>
                    <a:lnTo>
                      <a:pt x="897" y="0"/>
                    </a:lnTo>
                    <a:lnTo>
                      <a:pt x="868" y="0"/>
                    </a:lnTo>
                    <a:lnTo>
                      <a:pt x="839" y="3"/>
                    </a:lnTo>
                    <a:lnTo>
                      <a:pt x="810" y="8"/>
                    </a:lnTo>
                    <a:lnTo>
                      <a:pt x="785" y="14"/>
                    </a:lnTo>
                    <a:lnTo>
                      <a:pt x="759" y="24"/>
                    </a:lnTo>
                    <a:lnTo>
                      <a:pt x="735" y="34"/>
                    </a:lnTo>
                    <a:lnTo>
                      <a:pt x="712" y="47"/>
                    </a:lnTo>
                    <a:lnTo>
                      <a:pt x="691" y="61"/>
                    </a:lnTo>
                    <a:lnTo>
                      <a:pt x="671" y="76"/>
                    </a:lnTo>
                    <a:lnTo>
                      <a:pt x="652" y="93"/>
                    </a:lnTo>
                    <a:lnTo>
                      <a:pt x="634" y="111"/>
                    </a:lnTo>
                    <a:lnTo>
                      <a:pt x="618" y="132"/>
                    </a:lnTo>
                    <a:lnTo>
                      <a:pt x="604" y="153"/>
                    </a:lnTo>
                    <a:lnTo>
                      <a:pt x="591" y="175"/>
                    </a:lnTo>
                    <a:lnTo>
                      <a:pt x="580" y="198"/>
                    </a:lnTo>
                    <a:lnTo>
                      <a:pt x="570" y="222"/>
                    </a:lnTo>
                    <a:lnTo>
                      <a:pt x="564" y="247"/>
                    </a:lnTo>
                    <a:lnTo>
                      <a:pt x="558" y="273"/>
                    </a:lnTo>
                    <a:lnTo>
                      <a:pt x="554" y="299"/>
                    </a:lnTo>
                    <a:lnTo>
                      <a:pt x="553" y="299"/>
                    </a:lnTo>
                    <a:lnTo>
                      <a:pt x="551" y="299"/>
                    </a:lnTo>
                    <a:lnTo>
                      <a:pt x="550" y="300"/>
                    </a:lnTo>
                    <a:lnTo>
                      <a:pt x="547" y="300"/>
                    </a:lnTo>
                    <a:lnTo>
                      <a:pt x="530" y="305"/>
                    </a:lnTo>
                    <a:lnTo>
                      <a:pt x="513" y="311"/>
                    </a:lnTo>
                    <a:lnTo>
                      <a:pt x="497" y="319"/>
                    </a:lnTo>
                    <a:lnTo>
                      <a:pt x="481" y="327"/>
                    </a:lnTo>
                    <a:lnTo>
                      <a:pt x="466" y="337"/>
                    </a:lnTo>
                    <a:lnTo>
                      <a:pt x="452" y="349"/>
                    </a:lnTo>
                    <a:lnTo>
                      <a:pt x="439" y="361"/>
                    </a:lnTo>
                    <a:lnTo>
                      <a:pt x="426" y="375"/>
                    </a:lnTo>
                    <a:lnTo>
                      <a:pt x="405" y="368"/>
                    </a:lnTo>
                    <a:lnTo>
                      <a:pt x="383" y="363"/>
                    </a:lnTo>
                    <a:lnTo>
                      <a:pt x="361" y="358"/>
                    </a:lnTo>
                    <a:lnTo>
                      <a:pt x="338" y="356"/>
                    </a:lnTo>
                    <a:lnTo>
                      <a:pt x="316" y="354"/>
                    </a:lnTo>
                    <a:lnTo>
                      <a:pt x="293" y="356"/>
                    </a:lnTo>
                    <a:lnTo>
                      <a:pt x="271" y="358"/>
                    </a:lnTo>
                    <a:lnTo>
                      <a:pt x="248" y="363"/>
                    </a:lnTo>
                    <a:lnTo>
                      <a:pt x="233" y="366"/>
                    </a:lnTo>
                    <a:lnTo>
                      <a:pt x="218" y="371"/>
                    </a:lnTo>
                    <a:lnTo>
                      <a:pt x="203" y="376"/>
                    </a:lnTo>
                    <a:lnTo>
                      <a:pt x="188" y="382"/>
                    </a:lnTo>
                    <a:lnTo>
                      <a:pt x="174" y="389"/>
                    </a:lnTo>
                    <a:lnTo>
                      <a:pt x="160" y="396"/>
                    </a:lnTo>
                    <a:lnTo>
                      <a:pt x="148" y="404"/>
                    </a:lnTo>
                    <a:lnTo>
                      <a:pt x="135" y="412"/>
                    </a:lnTo>
                    <a:lnTo>
                      <a:pt x="122" y="421"/>
                    </a:lnTo>
                    <a:lnTo>
                      <a:pt x="111" y="431"/>
                    </a:lnTo>
                    <a:lnTo>
                      <a:pt x="99" y="441"/>
                    </a:lnTo>
                    <a:lnTo>
                      <a:pt x="88" y="452"/>
                    </a:lnTo>
                    <a:lnTo>
                      <a:pt x="77" y="464"/>
                    </a:lnTo>
                    <a:lnTo>
                      <a:pt x="68" y="475"/>
                    </a:lnTo>
                    <a:lnTo>
                      <a:pt x="59" y="488"/>
                    </a:lnTo>
                    <a:lnTo>
                      <a:pt x="50" y="501"/>
                    </a:lnTo>
                    <a:lnTo>
                      <a:pt x="35" y="529"/>
                    </a:lnTo>
                    <a:lnTo>
                      <a:pt x="22" y="557"/>
                    </a:lnTo>
                    <a:lnTo>
                      <a:pt x="12" y="586"/>
                    </a:lnTo>
                    <a:lnTo>
                      <a:pt x="5" y="616"/>
                    </a:lnTo>
                    <a:lnTo>
                      <a:pt x="1" y="647"/>
                    </a:lnTo>
                    <a:lnTo>
                      <a:pt x="0" y="677"/>
                    </a:lnTo>
                    <a:lnTo>
                      <a:pt x="2" y="708"/>
                    </a:lnTo>
                    <a:lnTo>
                      <a:pt x="8" y="739"/>
                    </a:lnTo>
                    <a:lnTo>
                      <a:pt x="14" y="762"/>
                    </a:lnTo>
                    <a:lnTo>
                      <a:pt x="21" y="784"/>
                    </a:lnTo>
                    <a:lnTo>
                      <a:pt x="30" y="805"/>
                    </a:lnTo>
                    <a:lnTo>
                      <a:pt x="40" y="826"/>
                    </a:lnTo>
                    <a:lnTo>
                      <a:pt x="53" y="845"/>
                    </a:lnTo>
                    <a:lnTo>
                      <a:pt x="66" y="864"/>
                    </a:lnTo>
                    <a:lnTo>
                      <a:pt x="80" y="881"/>
                    </a:lnTo>
                    <a:lnTo>
                      <a:pt x="96" y="897"/>
                    </a:lnTo>
                    <a:lnTo>
                      <a:pt x="113" y="912"/>
                    </a:lnTo>
                    <a:lnTo>
                      <a:pt x="130" y="926"/>
                    </a:lnTo>
                    <a:lnTo>
                      <a:pt x="149" y="939"/>
                    </a:lnTo>
                    <a:lnTo>
                      <a:pt x="169" y="950"/>
                    </a:lnTo>
                    <a:lnTo>
                      <a:pt x="189" y="960"/>
                    </a:lnTo>
                    <a:lnTo>
                      <a:pt x="211" y="969"/>
                    </a:lnTo>
                    <a:lnTo>
                      <a:pt x="233" y="976"/>
                    </a:lnTo>
                    <a:lnTo>
                      <a:pt x="256" y="980"/>
                    </a:lnTo>
                    <a:lnTo>
                      <a:pt x="256" y="989"/>
                    </a:lnTo>
                    <a:lnTo>
                      <a:pt x="257" y="999"/>
                    </a:lnTo>
                    <a:lnTo>
                      <a:pt x="258" y="1008"/>
                    </a:lnTo>
                    <a:lnTo>
                      <a:pt x="260" y="1017"/>
                    </a:lnTo>
                    <a:lnTo>
                      <a:pt x="265" y="1037"/>
                    </a:lnTo>
                    <a:lnTo>
                      <a:pt x="272" y="1055"/>
                    </a:lnTo>
                    <a:lnTo>
                      <a:pt x="280" y="1072"/>
                    </a:lnTo>
                    <a:lnTo>
                      <a:pt x="289" y="1089"/>
                    </a:lnTo>
                    <a:lnTo>
                      <a:pt x="300" y="1105"/>
                    </a:lnTo>
                    <a:lnTo>
                      <a:pt x="312" y="1120"/>
                    </a:lnTo>
                    <a:lnTo>
                      <a:pt x="325" y="1134"/>
                    </a:lnTo>
                    <a:lnTo>
                      <a:pt x="339" y="1146"/>
                    </a:lnTo>
                    <a:lnTo>
                      <a:pt x="354" y="1158"/>
                    </a:lnTo>
                    <a:lnTo>
                      <a:pt x="369" y="1168"/>
                    </a:lnTo>
                    <a:lnTo>
                      <a:pt x="386" y="1177"/>
                    </a:lnTo>
                    <a:lnTo>
                      <a:pt x="403" y="1185"/>
                    </a:lnTo>
                    <a:lnTo>
                      <a:pt x="421" y="1192"/>
                    </a:lnTo>
                    <a:lnTo>
                      <a:pt x="440" y="1197"/>
                    </a:lnTo>
                    <a:lnTo>
                      <a:pt x="459" y="1200"/>
                    </a:lnTo>
                    <a:lnTo>
                      <a:pt x="478" y="1203"/>
                    </a:lnTo>
                    <a:lnTo>
                      <a:pt x="490" y="1219"/>
                    </a:lnTo>
                    <a:lnTo>
                      <a:pt x="504" y="1233"/>
                    </a:lnTo>
                    <a:lnTo>
                      <a:pt x="517" y="1247"/>
                    </a:lnTo>
                    <a:lnTo>
                      <a:pt x="532" y="1259"/>
                    </a:lnTo>
                    <a:lnTo>
                      <a:pt x="547" y="1271"/>
                    </a:lnTo>
                    <a:lnTo>
                      <a:pt x="565" y="1280"/>
                    </a:lnTo>
                    <a:lnTo>
                      <a:pt x="581" y="1289"/>
                    </a:lnTo>
                    <a:lnTo>
                      <a:pt x="599" y="1297"/>
                    </a:lnTo>
                    <a:lnTo>
                      <a:pt x="618" y="1303"/>
                    </a:lnTo>
                    <a:lnTo>
                      <a:pt x="636" y="1308"/>
                    </a:lnTo>
                    <a:lnTo>
                      <a:pt x="655" y="1312"/>
                    </a:lnTo>
                    <a:lnTo>
                      <a:pt x="674" y="1314"/>
                    </a:lnTo>
                    <a:lnTo>
                      <a:pt x="694" y="1314"/>
                    </a:lnTo>
                    <a:lnTo>
                      <a:pt x="713" y="1314"/>
                    </a:lnTo>
                    <a:lnTo>
                      <a:pt x="733" y="1312"/>
                    </a:lnTo>
                    <a:lnTo>
                      <a:pt x="753" y="1309"/>
                    </a:lnTo>
                    <a:lnTo>
                      <a:pt x="755" y="1308"/>
                    </a:lnTo>
                    <a:lnTo>
                      <a:pt x="758" y="1306"/>
                    </a:lnTo>
                    <a:lnTo>
                      <a:pt x="762" y="1306"/>
                    </a:lnTo>
                    <a:lnTo>
                      <a:pt x="765" y="1305"/>
                    </a:lnTo>
                    <a:lnTo>
                      <a:pt x="782" y="1319"/>
                    </a:lnTo>
                    <a:lnTo>
                      <a:pt x="800" y="1332"/>
                    </a:lnTo>
                    <a:lnTo>
                      <a:pt x="817" y="1343"/>
                    </a:lnTo>
                    <a:lnTo>
                      <a:pt x="837" y="1355"/>
                    </a:lnTo>
                    <a:lnTo>
                      <a:pt x="855" y="1364"/>
                    </a:lnTo>
                    <a:lnTo>
                      <a:pt x="875" y="1372"/>
                    </a:lnTo>
                    <a:lnTo>
                      <a:pt x="895" y="1379"/>
                    </a:lnTo>
                    <a:lnTo>
                      <a:pt x="916" y="1385"/>
                    </a:lnTo>
                    <a:lnTo>
                      <a:pt x="937" y="1389"/>
                    </a:lnTo>
                    <a:lnTo>
                      <a:pt x="958" y="1394"/>
                    </a:lnTo>
                    <a:lnTo>
                      <a:pt x="978" y="1396"/>
                    </a:lnTo>
                    <a:lnTo>
                      <a:pt x="1000" y="1396"/>
                    </a:lnTo>
                    <a:lnTo>
                      <a:pt x="1022" y="1396"/>
                    </a:lnTo>
                    <a:lnTo>
                      <a:pt x="1043" y="1395"/>
                    </a:lnTo>
                    <a:lnTo>
                      <a:pt x="1065" y="1393"/>
                    </a:lnTo>
                    <a:lnTo>
                      <a:pt x="1087" y="1388"/>
                    </a:lnTo>
                    <a:lnTo>
                      <a:pt x="1110" y="1382"/>
                    </a:lnTo>
                    <a:lnTo>
                      <a:pt x="1133" y="1374"/>
                    </a:lnTo>
                    <a:lnTo>
                      <a:pt x="1155" y="1366"/>
                    </a:lnTo>
                    <a:lnTo>
                      <a:pt x="1177" y="1356"/>
                    </a:lnTo>
                    <a:lnTo>
                      <a:pt x="1197" y="1344"/>
                    </a:lnTo>
                    <a:lnTo>
                      <a:pt x="1217" y="1332"/>
                    </a:lnTo>
                    <a:lnTo>
                      <a:pt x="1235" y="1317"/>
                    </a:lnTo>
                    <a:lnTo>
                      <a:pt x="1254" y="1302"/>
                    </a:lnTo>
                    <a:lnTo>
                      <a:pt x="1270" y="1286"/>
                    </a:lnTo>
                    <a:lnTo>
                      <a:pt x="1286" y="1268"/>
                    </a:lnTo>
                    <a:lnTo>
                      <a:pt x="1300" y="1250"/>
                    </a:lnTo>
                    <a:lnTo>
                      <a:pt x="1314" y="1230"/>
                    </a:lnTo>
                    <a:lnTo>
                      <a:pt x="1325" y="1210"/>
                    </a:lnTo>
                    <a:lnTo>
                      <a:pt x="1337" y="1189"/>
                    </a:lnTo>
                    <a:lnTo>
                      <a:pt x="1346" y="1167"/>
                    </a:lnTo>
                    <a:lnTo>
                      <a:pt x="1354" y="1144"/>
                    </a:lnTo>
                    <a:lnTo>
                      <a:pt x="1359" y="1144"/>
                    </a:lnTo>
                    <a:lnTo>
                      <a:pt x="1362" y="1143"/>
                    </a:lnTo>
                    <a:lnTo>
                      <a:pt x="1366" y="1143"/>
                    </a:lnTo>
                    <a:lnTo>
                      <a:pt x="1369" y="1142"/>
                    </a:lnTo>
                    <a:lnTo>
                      <a:pt x="1383" y="1138"/>
                    </a:lnTo>
                    <a:lnTo>
                      <a:pt x="1398" y="1135"/>
                    </a:lnTo>
                    <a:lnTo>
                      <a:pt x="1412" y="1129"/>
                    </a:lnTo>
                    <a:lnTo>
                      <a:pt x="1424" y="1124"/>
                    </a:lnTo>
                    <a:lnTo>
                      <a:pt x="1438" y="1119"/>
                    </a:lnTo>
                    <a:lnTo>
                      <a:pt x="1451" y="1112"/>
                    </a:lnTo>
                    <a:lnTo>
                      <a:pt x="1464" y="1104"/>
                    </a:lnTo>
                    <a:lnTo>
                      <a:pt x="1475" y="1096"/>
                    </a:lnTo>
                    <a:lnTo>
                      <a:pt x="1487" y="1087"/>
                    </a:lnTo>
                    <a:lnTo>
                      <a:pt x="1498" y="1078"/>
                    </a:lnTo>
                    <a:lnTo>
                      <a:pt x="1508" y="1069"/>
                    </a:lnTo>
                    <a:lnTo>
                      <a:pt x="1519" y="1059"/>
                    </a:lnTo>
                    <a:lnTo>
                      <a:pt x="1529" y="1048"/>
                    </a:lnTo>
                    <a:lnTo>
                      <a:pt x="1537" y="1037"/>
                    </a:lnTo>
                    <a:lnTo>
                      <a:pt x="1546" y="1025"/>
                    </a:lnTo>
                    <a:lnTo>
                      <a:pt x="1555" y="1013"/>
                    </a:lnTo>
                    <a:lnTo>
                      <a:pt x="1570" y="987"/>
                    </a:lnTo>
                    <a:lnTo>
                      <a:pt x="1581" y="961"/>
                    </a:lnTo>
                    <a:lnTo>
                      <a:pt x="1590" y="933"/>
                    </a:lnTo>
                    <a:lnTo>
                      <a:pt x="1597" y="904"/>
                    </a:lnTo>
                    <a:lnTo>
                      <a:pt x="1601" y="877"/>
                    </a:lnTo>
                    <a:lnTo>
                      <a:pt x="1601" y="847"/>
                    </a:lnTo>
                    <a:lnTo>
                      <a:pt x="1598" y="818"/>
                    </a:lnTo>
                    <a:lnTo>
                      <a:pt x="1594" y="78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6781680" y="3467160"/>
                <a:ext cx="1270080" cy="1131840"/>
              </a:xfrm>
              <a:custGeom>
                <a:avLst/>
                <a:gdLst/>
                <a:ahLst/>
                <a:rect l="l" t="t" r="r" b="b"/>
                <a:pathLst>
                  <a:path w="1488" h="1285">
                    <a:moveTo>
                      <a:pt x="1450" y="927"/>
                    </a:moveTo>
                    <a:lnTo>
                      <a:pt x="1436" y="946"/>
                    </a:lnTo>
                    <a:lnTo>
                      <a:pt x="1421" y="963"/>
                    </a:lnTo>
                    <a:lnTo>
                      <a:pt x="1404" y="980"/>
                    </a:lnTo>
                    <a:lnTo>
                      <a:pt x="1386" y="995"/>
                    </a:lnTo>
                    <a:lnTo>
                      <a:pt x="1366" y="1006"/>
                    </a:lnTo>
                    <a:lnTo>
                      <a:pt x="1345" y="1016"/>
                    </a:lnTo>
                    <a:lnTo>
                      <a:pt x="1324" y="1026"/>
                    </a:lnTo>
                    <a:lnTo>
                      <a:pt x="1300" y="1031"/>
                    </a:lnTo>
                    <a:lnTo>
                      <a:pt x="1295" y="1033"/>
                    </a:lnTo>
                    <a:lnTo>
                      <a:pt x="1288" y="1034"/>
                    </a:lnTo>
                    <a:lnTo>
                      <a:pt x="1281" y="1035"/>
                    </a:lnTo>
                    <a:lnTo>
                      <a:pt x="1273" y="1036"/>
                    </a:lnTo>
                    <a:lnTo>
                      <a:pt x="1253" y="1038"/>
                    </a:lnTo>
                    <a:lnTo>
                      <a:pt x="1249" y="1057"/>
                    </a:lnTo>
                    <a:lnTo>
                      <a:pt x="1243" y="1078"/>
                    </a:lnTo>
                    <a:lnTo>
                      <a:pt x="1235" y="1097"/>
                    </a:lnTo>
                    <a:lnTo>
                      <a:pt x="1226" y="1116"/>
                    </a:lnTo>
                    <a:lnTo>
                      <a:pt x="1215" y="1134"/>
                    </a:lnTo>
                    <a:lnTo>
                      <a:pt x="1205" y="1152"/>
                    </a:lnTo>
                    <a:lnTo>
                      <a:pt x="1192" y="1169"/>
                    </a:lnTo>
                    <a:lnTo>
                      <a:pt x="1178" y="1185"/>
                    </a:lnTo>
                    <a:lnTo>
                      <a:pt x="1165" y="1200"/>
                    </a:lnTo>
                    <a:lnTo>
                      <a:pt x="1148" y="1214"/>
                    </a:lnTo>
                    <a:lnTo>
                      <a:pt x="1132" y="1226"/>
                    </a:lnTo>
                    <a:lnTo>
                      <a:pt x="1115" y="1238"/>
                    </a:lnTo>
                    <a:lnTo>
                      <a:pt x="1097" y="1248"/>
                    </a:lnTo>
                    <a:lnTo>
                      <a:pt x="1078" y="1257"/>
                    </a:lnTo>
                    <a:lnTo>
                      <a:pt x="1058" y="1265"/>
                    </a:lnTo>
                    <a:lnTo>
                      <a:pt x="1038" y="1272"/>
                    </a:lnTo>
                    <a:lnTo>
                      <a:pt x="1017" y="1278"/>
                    </a:lnTo>
                    <a:lnTo>
                      <a:pt x="997" y="1282"/>
                    </a:lnTo>
                    <a:lnTo>
                      <a:pt x="979" y="1284"/>
                    </a:lnTo>
                    <a:lnTo>
                      <a:pt x="959" y="1285"/>
                    </a:lnTo>
                    <a:lnTo>
                      <a:pt x="941" y="1285"/>
                    </a:lnTo>
                    <a:lnTo>
                      <a:pt x="921" y="1284"/>
                    </a:lnTo>
                    <a:lnTo>
                      <a:pt x="903" y="1282"/>
                    </a:lnTo>
                    <a:lnTo>
                      <a:pt x="884" y="1278"/>
                    </a:lnTo>
                    <a:lnTo>
                      <a:pt x="866" y="1273"/>
                    </a:lnTo>
                    <a:lnTo>
                      <a:pt x="848" y="1268"/>
                    </a:lnTo>
                    <a:lnTo>
                      <a:pt x="830" y="1261"/>
                    </a:lnTo>
                    <a:lnTo>
                      <a:pt x="813" y="1253"/>
                    </a:lnTo>
                    <a:lnTo>
                      <a:pt x="796" y="1244"/>
                    </a:lnTo>
                    <a:lnTo>
                      <a:pt x="780" y="1233"/>
                    </a:lnTo>
                    <a:lnTo>
                      <a:pt x="765" y="1223"/>
                    </a:lnTo>
                    <a:lnTo>
                      <a:pt x="749" y="1210"/>
                    </a:lnTo>
                    <a:lnTo>
                      <a:pt x="735" y="1197"/>
                    </a:lnTo>
                    <a:lnTo>
                      <a:pt x="722" y="1186"/>
                    </a:lnTo>
                    <a:lnTo>
                      <a:pt x="706" y="1191"/>
                    </a:lnTo>
                    <a:lnTo>
                      <a:pt x="700" y="1193"/>
                    </a:lnTo>
                    <a:lnTo>
                      <a:pt x="694" y="1195"/>
                    </a:lnTo>
                    <a:lnTo>
                      <a:pt x="689" y="1196"/>
                    </a:lnTo>
                    <a:lnTo>
                      <a:pt x="683" y="1197"/>
                    </a:lnTo>
                    <a:lnTo>
                      <a:pt x="667" y="1201"/>
                    </a:lnTo>
                    <a:lnTo>
                      <a:pt x="651" y="1202"/>
                    </a:lnTo>
                    <a:lnTo>
                      <a:pt x="634" y="1202"/>
                    </a:lnTo>
                    <a:lnTo>
                      <a:pt x="618" y="1202"/>
                    </a:lnTo>
                    <a:lnTo>
                      <a:pt x="602" y="1200"/>
                    </a:lnTo>
                    <a:lnTo>
                      <a:pt x="587" y="1196"/>
                    </a:lnTo>
                    <a:lnTo>
                      <a:pt x="571" y="1192"/>
                    </a:lnTo>
                    <a:lnTo>
                      <a:pt x="556" y="1186"/>
                    </a:lnTo>
                    <a:lnTo>
                      <a:pt x="542" y="1179"/>
                    </a:lnTo>
                    <a:lnTo>
                      <a:pt x="528" y="1172"/>
                    </a:lnTo>
                    <a:lnTo>
                      <a:pt x="515" y="1163"/>
                    </a:lnTo>
                    <a:lnTo>
                      <a:pt x="502" y="1152"/>
                    </a:lnTo>
                    <a:lnTo>
                      <a:pt x="490" y="1142"/>
                    </a:lnTo>
                    <a:lnTo>
                      <a:pt x="480" y="1131"/>
                    </a:lnTo>
                    <a:lnTo>
                      <a:pt x="470" y="1118"/>
                    </a:lnTo>
                    <a:lnTo>
                      <a:pt x="460" y="1104"/>
                    </a:lnTo>
                    <a:lnTo>
                      <a:pt x="452" y="1091"/>
                    </a:lnTo>
                    <a:lnTo>
                      <a:pt x="437" y="1091"/>
                    </a:lnTo>
                    <a:lnTo>
                      <a:pt x="406" y="1089"/>
                    </a:lnTo>
                    <a:lnTo>
                      <a:pt x="376" y="1081"/>
                    </a:lnTo>
                    <a:lnTo>
                      <a:pt x="348" y="1068"/>
                    </a:lnTo>
                    <a:lnTo>
                      <a:pt x="322" y="1051"/>
                    </a:lnTo>
                    <a:lnTo>
                      <a:pt x="300" y="1030"/>
                    </a:lnTo>
                    <a:lnTo>
                      <a:pt x="282" y="1006"/>
                    </a:lnTo>
                    <a:lnTo>
                      <a:pt x="267" y="978"/>
                    </a:lnTo>
                    <a:lnTo>
                      <a:pt x="258" y="948"/>
                    </a:lnTo>
                    <a:lnTo>
                      <a:pt x="255" y="937"/>
                    </a:lnTo>
                    <a:lnTo>
                      <a:pt x="254" y="925"/>
                    </a:lnTo>
                    <a:lnTo>
                      <a:pt x="254" y="914"/>
                    </a:lnTo>
                    <a:lnTo>
                      <a:pt x="254" y="901"/>
                    </a:lnTo>
                    <a:lnTo>
                      <a:pt x="255" y="876"/>
                    </a:lnTo>
                    <a:lnTo>
                      <a:pt x="229" y="872"/>
                    </a:lnTo>
                    <a:lnTo>
                      <a:pt x="208" y="869"/>
                    </a:lnTo>
                    <a:lnTo>
                      <a:pt x="188" y="864"/>
                    </a:lnTo>
                    <a:lnTo>
                      <a:pt x="170" y="859"/>
                    </a:lnTo>
                    <a:lnTo>
                      <a:pt x="152" y="851"/>
                    </a:lnTo>
                    <a:lnTo>
                      <a:pt x="133" y="842"/>
                    </a:lnTo>
                    <a:lnTo>
                      <a:pt x="116" y="832"/>
                    </a:lnTo>
                    <a:lnTo>
                      <a:pt x="100" y="821"/>
                    </a:lnTo>
                    <a:lnTo>
                      <a:pt x="85" y="808"/>
                    </a:lnTo>
                    <a:lnTo>
                      <a:pt x="71" y="794"/>
                    </a:lnTo>
                    <a:lnTo>
                      <a:pt x="58" y="779"/>
                    </a:lnTo>
                    <a:lnTo>
                      <a:pt x="46" y="763"/>
                    </a:lnTo>
                    <a:lnTo>
                      <a:pt x="35" y="747"/>
                    </a:lnTo>
                    <a:lnTo>
                      <a:pt x="26" y="730"/>
                    </a:lnTo>
                    <a:lnTo>
                      <a:pt x="17" y="711"/>
                    </a:lnTo>
                    <a:lnTo>
                      <a:pt x="11" y="691"/>
                    </a:lnTo>
                    <a:lnTo>
                      <a:pt x="5" y="672"/>
                    </a:lnTo>
                    <a:lnTo>
                      <a:pt x="1" y="647"/>
                    </a:lnTo>
                    <a:lnTo>
                      <a:pt x="0" y="621"/>
                    </a:lnTo>
                    <a:lnTo>
                      <a:pt x="0" y="595"/>
                    </a:lnTo>
                    <a:lnTo>
                      <a:pt x="3" y="570"/>
                    </a:lnTo>
                    <a:lnTo>
                      <a:pt x="9" y="545"/>
                    </a:lnTo>
                    <a:lnTo>
                      <a:pt x="17" y="521"/>
                    </a:lnTo>
                    <a:lnTo>
                      <a:pt x="27" y="498"/>
                    </a:lnTo>
                    <a:lnTo>
                      <a:pt x="40" y="476"/>
                    </a:lnTo>
                    <a:lnTo>
                      <a:pt x="55" y="455"/>
                    </a:lnTo>
                    <a:lnTo>
                      <a:pt x="71" y="436"/>
                    </a:lnTo>
                    <a:lnTo>
                      <a:pt x="89" y="417"/>
                    </a:lnTo>
                    <a:lnTo>
                      <a:pt x="110" y="402"/>
                    </a:lnTo>
                    <a:lnTo>
                      <a:pt x="131" y="388"/>
                    </a:lnTo>
                    <a:lnTo>
                      <a:pt x="154" y="377"/>
                    </a:lnTo>
                    <a:lnTo>
                      <a:pt x="178" y="368"/>
                    </a:lnTo>
                    <a:lnTo>
                      <a:pt x="202" y="361"/>
                    </a:lnTo>
                    <a:lnTo>
                      <a:pt x="223" y="357"/>
                    </a:lnTo>
                    <a:lnTo>
                      <a:pt x="245" y="355"/>
                    </a:lnTo>
                    <a:lnTo>
                      <a:pt x="266" y="355"/>
                    </a:lnTo>
                    <a:lnTo>
                      <a:pt x="286" y="356"/>
                    </a:lnTo>
                    <a:lnTo>
                      <a:pt x="307" y="360"/>
                    </a:lnTo>
                    <a:lnTo>
                      <a:pt x="328" y="364"/>
                    </a:lnTo>
                    <a:lnTo>
                      <a:pt x="348" y="371"/>
                    </a:lnTo>
                    <a:lnTo>
                      <a:pt x="367" y="379"/>
                    </a:lnTo>
                    <a:lnTo>
                      <a:pt x="389" y="388"/>
                    </a:lnTo>
                    <a:lnTo>
                      <a:pt x="403" y="369"/>
                    </a:lnTo>
                    <a:lnTo>
                      <a:pt x="412" y="356"/>
                    </a:lnTo>
                    <a:lnTo>
                      <a:pt x="422" y="345"/>
                    </a:lnTo>
                    <a:lnTo>
                      <a:pt x="434" y="334"/>
                    </a:lnTo>
                    <a:lnTo>
                      <a:pt x="445" y="324"/>
                    </a:lnTo>
                    <a:lnTo>
                      <a:pt x="459" y="316"/>
                    </a:lnTo>
                    <a:lnTo>
                      <a:pt x="473" y="309"/>
                    </a:lnTo>
                    <a:lnTo>
                      <a:pt x="487" y="304"/>
                    </a:lnTo>
                    <a:lnTo>
                      <a:pt x="502" y="300"/>
                    </a:lnTo>
                    <a:lnTo>
                      <a:pt x="508" y="298"/>
                    </a:lnTo>
                    <a:lnTo>
                      <a:pt x="513" y="297"/>
                    </a:lnTo>
                    <a:lnTo>
                      <a:pt x="519" y="296"/>
                    </a:lnTo>
                    <a:lnTo>
                      <a:pt x="526" y="296"/>
                    </a:lnTo>
                    <a:lnTo>
                      <a:pt x="551" y="294"/>
                    </a:lnTo>
                    <a:lnTo>
                      <a:pt x="551" y="269"/>
                    </a:lnTo>
                    <a:lnTo>
                      <a:pt x="553" y="245"/>
                    </a:lnTo>
                    <a:lnTo>
                      <a:pt x="556" y="222"/>
                    </a:lnTo>
                    <a:lnTo>
                      <a:pt x="562" y="199"/>
                    </a:lnTo>
                    <a:lnTo>
                      <a:pt x="569" y="177"/>
                    </a:lnTo>
                    <a:lnTo>
                      <a:pt x="577" y="157"/>
                    </a:lnTo>
                    <a:lnTo>
                      <a:pt x="587" y="137"/>
                    </a:lnTo>
                    <a:lnTo>
                      <a:pt x="600" y="118"/>
                    </a:lnTo>
                    <a:lnTo>
                      <a:pt x="613" y="100"/>
                    </a:lnTo>
                    <a:lnTo>
                      <a:pt x="628" y="83"/>
                    </a:lnTo>
                    <a:lnTo>
                      <a:pt x="644" y="68"/>
                    </a:lnTo>
                    <a:lnTo>
                      <a:pt x="661" y="54"/>
                    </a:lnTo>
                    <a:lnTo>
                      <a:pt x="681" y="41"/>
                    </a:lnTo>
                    <a:lnTo>
                      <a:pt x="700" y="30"/>
                    </a:lnTo>
                    <a:lnTo>
                      <a:pt x="721" y="21"/>
                    </a:lnTo>
                    <a:lnTo>
                      <a:pt x="743" y="13"/>
                    </a:lnTo>
                    <a:lnTo>
                      <a:pt x="766" y="7"/>
                    </a:lnTo>
                    <a:lnTo>
                      <a:pt x="791" y="2"/>
                    </a:lnTo>
                    <a:lnTo>
                      <a:pt x="818" y="0"/>
                    </a:lnTo>
                    <a:lnTo>
                      <a:pt x="843" y="1"/>
                    </a:lnTo>
                    <a:lnTo>
                      <a:pt x="868" y="3"/>
                    </a:lnTo>
                    <a:lnTo>
                      <a:pt x="893" y="8"/>
                    </a:lnTo>
                    <a:lnTo>
                      <a:pt x="916" y="15"/>
                    </a:lnTo>
                    <a:lnTo>
                      <a:pt x="939" y="24"/>
                    </a:lnTo>
                    <a:lnTo>
                      <a:pt x="961" y="36"/>
                    </a:lnTo>
                    <a:lnTo>
                      <a:pt x="981" y="48"/>
                    </a:lnTo>
                    <a:lnTo>
                      <a:pt x="1001" y="63"/>
                    </a:lnTo>
                    <a:lnTo>
                      <a:pt x="1019" y="81"/>
                    </a:lnTo>
                    <a:lnTo>
                      <a:pt x="1035" y="99"/>
                    </a:lnTo>
                    <a:lnTo>
                      <a:pt x="1050" y="120"/>
                    </a:lnTo>
                    <a:lnTo>
                      <a:pt x="1063" y="142"/>
                    </a:lnTo>
                    <a:lnTo>
                      <a:pt x="1075" y="165"/>
                    </a:lnTo>
                    <a:lnTo>
                      <a:pt x="1084" y="189"/>
                    </a:lnTo>
                    <a:lnTo>
                      <a:pt x="1098" y="229"/>
                    </a:lnTo>
                    <a:lnTo>
                      <a:pt x="1130" y="201"/>
                    </a:lnTo>
                    <a:lnTo>
                      <a:pt x="1136" y="196"/>
                    </a:lnTo>
                    <a:lnTo>
                      <a:pt x="1143" y="191"/>
                    </a:lnTo>
                    <a:lnTo>
                      <a:pt x="1150" y="187"/>
                    </a:lnTo>
                    <a:lnTo>
                      <a:pt x="1158" y="182"/>
                    </a:lnTo>
                    <a:lnTo>
                      <a:pt x="1165" y="179"/>
                    </a:lnTo>
                    <a:lnTo>
                      <a:pt x="1173" y="175"/>
                    </a:lnTo>
                    <a:lnTo>
                      <a:pt x="1179" y="173"/>
                    </a:lnTo>
                    <a:lnTo>
                      <a:pt x="1188" y="171"/>
                    </a:lnTo>
                    <a:lnTo>
                      <a:pt x="1200" y="168"/>
                    </a:lnTo>
                    <a:lnTo>
                      <a:pt x="1213" y="168"/>
                    </a:lnTo>
                    <a:lnTo>
                      <a:pt x="1227" y="168"/>
                    </a:lnTo>
                    <a:lnTo>
                      <a:pt x="1239" y="169"/>
                    </a:lnTo>
                    <a:lnTo>
                      <a:pt x="1251" y="173"/>
                    </a:lnTo>
                    <a:lnTo>
                      <a:pt x="1264" y="176"/>
                    </a:lnTo>
                    <a:lnTo>
                      <a:pt x="1275" y="182"/>
                    </a:lnTo>
                    <a:lnTo>
                      <a:pt x="1287" y="188"/>
                    </a:lnTo>
                    <a:lnTo>
                      <a:pt x="1297" y="196"/>
                    </a:lnTo>
                    <a:lnTo>
                      <a:pt x="1307" y="204"/>
                    </a:lnTo>
                    <a:lnTo>
                      <a:pt x="1315" y="213"/>
                    </a:lnTo>
                    <a:lnTo>
                      <a:pt x="1324" y="224"/>
                    </a:lnTo>
                    <a:lnTo>
                      <a:pt x="1330" y="235"/>
                    </a:lnTo>
                    <a:lnTo>
                      <a:pt x="1336" y="245"/>
                    </a:lnTo>
                    <a:lnTo>
                      <a:pt x="1341" y="258"/>
                    </a:lnTo>
                    <a:lnTo>
                      <a:pt x="1344" y="271"/>
                    </a:lnTo>
                    <a:lnTo>
                      <a:pt x="1348" y="297"/>
                    </a:lnTo>
                    <a:lnTo>
                      <a:pt x="1344" y="324"/>
                    </a:lnTo>
                    <a:lnTo>
                      <a:pt x="1336" y="350"/>
                    </a:lnTo>
                    <a:lnTo>
                      <a:pt x="1324" y="375"/>
                    </a:lnTo>
                    <a:lnTo>
                      <a:pt x="1307" y="395"/>
                    </a:lnTo>
                    <a:lnTo>
                      <a:pt x="1328" y="413"/>
                    </a:lnTo>
                    <a:lnTo>
                      <a:pt x="1340" y="422"/>
                    </a:lnTo>
                    <a:lnTo>
                      <a:pt x="1350" y="432"/>
                    </a:lnTo>
                    <a:lnTo>
                      <a:pt x="1359" y="444"/>
                    </a:lnTo>
                    <a:lnTo>
                      <a:pt x="1367" y="455"/>
                    </a:lnTo>
                    <a:lnTo>
                      <a:pt x="1375" y="468"/>
                    </a:lnTo>
                    <a:lnTo>
                      <a:pt x="1381" y="482"/>
                    </a:lnTo>
                    <a:lnTo>
                      <a:pt x="1386" y="496"/>
                    </a:lnTo>
                    <a:lnTo>
                      <a:pt x="1390" y="509"/>
                    </a:lnTo>
                    <a:lnTo>
                      <a:pt x="1393" y="528"/>
                    </a:lnTo>
                    <a:lnTo>
                      <a:pt x="1394" y="546"/>
                    </a:lnTo>
                    <a:lnTo>
                      <a:pt x="1393" y="565"/>
                    </a:lnTo>
                    <a:lnTo>
                      <a:pt x="1389" y="583"/>
                    </a:lnTo>
                    <a:lnTo>
                      <a:pt x="1386" y="600"/>
                    </a:lnTo>
                    <a:lnTo>
                      <a:pt x="1400" y="612"/>
                    </a:lnTo>
                    <a:lnTo>
                      <a:pt x="1415" y="626"/>
                    </a:lnTo>
                    <a:lnTo>
                      <a:pt x="1428" y="640"/>
                    </a:lnTo>
                    <a:lnTo>
                      <a:pt x="1441" y="656"/>
                    </a:lnTo>
                    <a:lnTo>
                      <a:pt x="1453" y="672"/>
                    </a:lnTo>
                    <a:lnTo>
                      <a:pt x="1463" y="689"/>
                    </a:lnTo>
                    <a:lnTo>
                      <a:pt x="1471" y="708"/>
                    </a:lnTo>
                    <a:lnTo>
                      <a:pt x="1478" y="726"/>
                    </a:lnTo>
                    <a:lnTo>
                      <a:pt x="1483" y="746"/>
                    </a:lnTo>
                    <a:lnTo>
                      <a:pt x="1486" y="769"/>
                    </a:lnTo>
                    <a:lnTo>
                      <a:pt x="1488" y="793"/>
                    </a:lnTo>
                    <a:lnTo>
                      <a:pt x="1487" y="816"/>
                    </a:lnTo>
                    <a:lnTo>
                      <a:pt x="1485" y="839"/>
                    </a:lnTo>
                    <a:lnTo>
                      <a:pt x="1479" y="862"/>
                    </a:lnTo>
                    <a:lnTo>
                      <a:pt x="1472" y="884"/>
                    </a:lnTo>
                    <a:lnTo>
                      <a:pt x="1462" y="906"/>
                    </a:lnTo>
                    <a:lnTo>
                      <a:pt x="1450" y="9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7122600" y="3763800"/>
              <a:ext cx="460440" cy="699840"/>
              <a:chOff x="7122600" y="3763800"/>
              <a:chExt cx="460440" cy="699840"/>
            </a:xfrm>
          </p:grpSpPr>
          <p:sp>
            <p:nvSpPr>
              <p:cNvPr id="109" name=""/>
              <p:cNvSpPr/>
              <p:nvPr/>
            </p:nvSpPr>
            <p:spPr>
              <a:xfrm flipH="1">
                <a:off x="7122240" y="3763800"/>
                <a:ext cx="460440" cy="699840"/>
              </a:xfrm>
              <a:custGeom>
                <a:avLst/>
                <a:gdLst/>
                <a:ahLst/>
                <a:rect l="l" t="t" r="r" b="b"/>
                <a:pathLst>
                  <a:path w="539" h="796">
                    <a:moveTo>
                      <a:pt x="473" y="74"/>
                    </a:moveTo>
                    <a:lnTo>
                      <a:pt x="463" y="66"/>
                    </a:lnTo>
                    <a:lnTo>
                      <a:pt x="453" y="58"/>
                    </a:lnTo>
                    <a:lnTo>
                      <a:pt x="441" y="50"/>
                    </a:lnTo>
                    <a:lnTo>
                      <a:pt x="431" y="43"/>
                    </a:lnTo>
                    <a:lnTo>
                      <a:pt x="420" y="37"/>
                    </a:lnTo>
                    <a:lnTo>
                      <a:pt x="408" y="32"/>
                    </a:lnTo>
                    <a:lnTo>
                      <a:pt x="395" y="26"/>
                    </a:lnTo>
                    <a:lnTo>
                      <a:pt x="383" y="21"/>
                    </a:lnTo>
                    <a:lnTo>
                      <a:pt x="370" y="17"/>
                    </a:lnTo>
                    <a:lnTo>
                      <a:pt x="356" y="13"/>
                    </a:lnTo>
                    <a:lnTo>
                      <a:pt x="343" y="10"/>
                    </a:lnTo>
                    <a:lnTo>
                      <a:pt x="330" y="6"/>
                    </a:lnTo>
                    <a:lnTo>
                      <a:pt x="316" y="4"/>
                    </a:lnTo>
                    <a:lnTo>
                      <a:pt x="301" y="3"/>
                    </a:lnTo>
                    <a:lnTo>
                      <a:pt x="287" y="2"/>
                    </a:lnTo>
                    <a:lnTo>
                      <a:pt x="272" y="0"/>
                    </a:lnTo>
                    <a:lnTo>
                      <a:pt x="242" y="2"/>
                    </a:lnTo>
                    <a:lnTo>
                      <a:pt x="213" y="4"/>
                    </a:lnTo>
                    <a:lnTo>
                      <a:pt x="186" y="10"/>
                    </a:lnTo>
                    <a:lnTo>
                      <a:pt x="160" y="18"/>
                    </a:lnTo>
                    <a:lnTo>
                      <a:pt x="135" y="27"/>
                    </a:lnTo>
                    <a:lnTo>
                      <a:pt x="112" y="39"/>
                    </a:lnTo>
                    <a:lnTo>
                      <a:pt x="91" y="52"/>
                    </a:lnTo>
                    <a:lnTo>
                      <a:pt x="72" y="67"/>
                    </a:lnTo>
                    <a:lnTo>
                      <a:pt x="54" y="83"/>
                    </a:lnTo>
                    <a:lnTo>
                      <a:pt x="39" y="102"/>
                    </a:lnTo>
                    <a:lnTo>
                      <a:pt x="27" y="121"/>
                    </a:lnTo>
                    <a:lnTo>
                      <a:pt x="15" y="142"/>
                    </a:lnTo>
                    <a:lnTo>
                      <a:pt x="7" y="164"/>
                    </a:lnTo>
                    <a:lnTo>
                      <a:pt x="2" y="186"/>
                    </a:lnTo>
                    <a:lnTo>
                      <a:pt x="0" y="210"/>
                    </a:lnTo>
                    <a:lnTo>
                      <a:pt x="0" y="234"/>
                    </a:lnTo>
                    <a:lnTo>
                      <a:pt x="2" y="255"/>
                    </a:lnTo>
                    <a:lnTo>
                      <a:pt x="7" y="276"/>
                    </a:lnTo>
                    <a:lnTo>
                      <a:pt x="14" y="297"/>
                    </a:lnTo>
                    <a:lnTo>
                      <a:pt x="23" y="316"/>
                    </a:lnTo>
                    <a:lnTo>
                      <a:pt x="32" y="336"/>
                    </a:lnTo>
                    <a:lnTo>
                      <a:pt x="45" y="354"/>
                    </a:lnTo>
                    <a:lnTo>
                      <a:pt x="58" y="373"/>
                    </a:lnTo>
                    <a:lnTo>
                      <a:pt x="73" y="389"/>
                    </a:lnTo>
                    <a:lnTo>
                      <a:pt x="81" y="399"/>
                    </a:lnTo>
                    <a:lnTo>
                      <a:pt x="89" y="411"/>
                    </a:lnTo>
                    <a:lnTo>
                      <a:pt x="98" y="425"/>
                    </a:lnTo>
                    <a:lnTo>
                      <a:pt x="108" y="440"/>
                    </a:lnTo>
                    <a:lnTo>
                      <a:pt x="118" y="456"/>
                    </a:lnTo>
                    <a:lnTo>
                      <a:pt x="127" y="472"/>
                    </a:lnTo>
                    <a:lnTo>
                      <a:pt x="135" y="489"/>
                    </a:lnTo>
                    <a:lnTo>
                      <a:pt x="143" y="506"/>
                    </a:lnTo>
                    <a:lnTo>
                      <a:pt x="157" y="554"/>
                    </a:lnTo>
                    <a:lnTo>
                      <a:pt x="165" y="595"/>
                    </a:lnTo>
                    <a:lnTo>
                      <a:pt x="167" y="624"/>
                    </a:lnTo>
                    <a:lnTo>
                      <a:pt x="168" y="635"/>
                    </a:lnTo>
                    <a:lnTo>
                      <a:pt x="168" y="644"/>
                    </a:lnTo>
                    <a:lnTo>
                      <a:pt x="169" y="644"/>
                    </a:lnTo>
                    <a:lnTo>
                      <a:pt x="171" y="645"/>
                    </a:lnTo>
                    <a:lnTo>
                      <a:pt x="172" y="647"/>
                    </a:lnTo>
                    <a:lnTo>
                      <a:pt x="174" y="648"/>
                    </a:lnTo>
                    <a:lnTo>
                      <a:pt x="174" y="648"/>
                    </a:lnTo>
                    <a:lnTo>
                      <a:pt x="174" y="648"/>
                    </a:lnTo>
                    <a:lnTo>
                      <a:pt x="174" y="648"/>
                    </a:lnTo>
                    <a:lnTo>
                      <a:pt x="174" y="649"/>
                    </a:lnTo>
                    <a:lnTo>
                      <a:pt x="172" y="654"/>
                    </a:lnTo>
                    <a:lnTo>
                      <a:pt x="171" y="659"/>
                    </a:lnTo>
                    <a:lnTo>
                      <a:pt x="169" y="663"/>
                    </a:lnTo>
                    <a:lnTo>
                      <a:pt x="169" y="668"/>
                    </a:lnTo>
                    <a:lnTo>
                      <a:pt x="171" y="671"/>
                    </a:lnTo>
                    <a:lnTo>
                      <a:pt x="172" y="676"/>
                    </a:lnTo>
                    <a:lnTo>
                      <a:pt x="173" y="680"/>
                    </a:lnTo>
                    <a:lnTo>
                      <a:pt x="175" y="685"/>
                    </a:lnTo>
                    <a:lnTo>
                      <a:pt x="173" y="690"/>
                    </a:lnTo>
                    <a:lnTo>
                      <a:pt x="172" y="695"/>
                    </a:lnTo>
                    <a:lnTo>
                      <a:pt x="171" y="700"/>
                    </a:lnTo>
                    <a:lnTo>
                      <a:pt x="171" y="703"/>
                    </a:lnTo>
                    <a:lnTo>
                      <a:pt x="172" y="708"/>
                    </a:lnTo>
                    <a:lnTo>
                      <a:pt x="173" y="713"/>
                    </a:lnTo>
                    <a:lnTo>
                      <a:pt x="174" y="717"/>
                    </a:lnTo>
                    <a:lnTo>
                      <a:pt x="176" y="722"/>
                    </a:lnTo>
                    <a:lnTo>
                      <a:pt x="174" y="727"/>
                    </a:lnTo>
                    <a:lnTo>
                      <a:pt x="173" y="732"/>
                    </a:lnTo>
                    <a:lnTo>
                      <a:pt x="172" y="737"/>
                    </a:lnTo>
                    <a:lnTo>
                      <a:pt x="172" y="740"/>
                    </a:lnTo>
                    <a:lnTo>
                      <a:pt x="173" y="748"/>
                    </a:lnTo>
                    <a:lnTo>
                      <a:pt x="175" y="755"/>
                    </a:lnTo>
                    <a:lnTo>
                      <a:pt x="179" y="762"/>
                    </a:lnTo>
                    <a:lnTo>
                      <a:pt x="184" y="769"/>
                    </a:lnTo>
                    <a:lnTo>
                      <a:pt x="191" y="775"/>
                    </a:lnTo>
                    <a:lnTo>
                      <a:pt x="198" y="780"/>
                    </a:lnTo>
                    <a:lnTo>
                      <a:pt x="207" y="784"/>
                    </a:lnTo>
                    <a:lnTo>
                      <a:pt x="217" y="789"/>
                    </a:lnTo>
                    <a:lnTo>
                      <a:pt x="227" y="791"/>
                    </a:lnTo>
                    <a:lnTo>
                      <a:pt x="239" y="793"/>
                    </a:lnTo>
                    <a:lnTo>
                      <a:pt x="250" y="796"/>
                    </a:lnTo>
                    <a:lnTo>
                      <a:pt x="262" y="796"/>
                    </a:lnTo>
                    <a:lnTo>
                      <a:pt x="273" y="796"/>
                    </a:lnTo>
                    <a:lnTo>
                      <a:pt x="285" y="793"/>
                    </a:lnTo>
                    <a:lnTo>
                      <a:pt x="296" y="791"/>
                    </a:lnTo>
                    <a:lnTo>
                      <a:pt x="307" y="789"/>
                    </a:lnTo>
                    <a:lnTo>
                      <a:pt x="316" y="785"/>
                    </a:lnTo>
                    <a:lnTo>
                      <a:pt x="325" y="781"/>
                    </a:lnTo>
                    <a:lnTo>
                      <a:pt x="332" y="776"/>
                    </a:lnTo>
                    <a:lnTo>
                      <a:pt x="339" y="770"/>
                    </a:lnTo>
                    <a:lnTo>
                      <a:pt x="345" y="763"/>
                    </a:lnTo>
                    <a:lnTo>
                      <a:pt x="348" y="755"/>
                    </a:lnTo>
                    <a:lnTo>
                      <a:pt x="352" y="748"/>
                    </a:lnTo>
                    <a:lnTo>
                      <a:pt x="353" y="740"/>
                    </a:lnTo>
                    <a:lnTo>
                      <a:pt x="353" y="737"/>
                    </a:lnTo>
                    <a:lnTo>
                      <a:pt x="352" y="732"/>
                    </a:lnTo>
                    <a:lnTo>
                      <a:pt x="350" y="728"/>
                    </a:lnTo>
                    <a:lnTo>
                      <a:pt x="348" y="723"/>
                    </a:lnTo>
                    <a:lnTo>
                      <a:pt x="350" y="718"/>
                    </a:lnTo>
                    <a:lnTo>
                      <a:pt x="353" y="713"/>
                    </a:lnTo>
                    <a:lnTo>
                      <a:pt x="354" y="708"/>
                    </a:lnTo>
                    <a:lnTo>
                      <a:pt x="354" y="705"/>
                    </a:lnTo>
                    <a:lnTo>
                      <a:pt x="354" y="700"/>
                    </a:lnTo>
                    <a:lnTo>
                      <a:pt x="354" y="695"/>
                    </a:lnTo>
                    <a:lnTo>
                      <a:pt x="353" y="691"/>
                    </a:lnTo>
                    <a:lnTo>
                      <a:pt x="350" y="686"/>
                    </a:lnTo>
                    <a:lnTo>
                      <a:pt x="353" y="682"/>
                    </a:lnTo>
                    <a:lnTo>
                      <a:pt x="354" y="676"/>
                    </a:lnTo>
                    <a:lnTo>
                      <a:pt x="355" y="671"/>
                    </a:lnTo>
                    <a:lnTo>
                      <a:pt x="356" y="668"/>
                    </a:lnTo>
                    <a:lnTo>
                      <a:pt x="356" y="664"/>
                    </a:lnTo>
                    <a:lnTo>
                      <a:pt x="355" y="660"/>
                    </a:lnTo>
                    <a:lnTo>
                      <a:pt x="354" y="654"/>
                    </a:lnTo>
                    <a:lnTo>
                      <a:pt x="352" y="649"/>
                    </a:lnTo>
                    <a:lnTo>
                      <a:pt x="354" y="645"/>
                    </a:lnTo>
                    <a:lnTo>
                      <a:pt x="356" y="640"/>
                    </a:lnTo>
                    <a:lnTo>
                      <a:pt x="357" y="635"/>
                    </a:lnTo>
                    <a:lnTo>
                      <a:pt x="357" y="631"/>
                    </a:lnTo>
                    <a:lnTo>
                      <a:pt x="354" y="631"/>
                    </a:lnTo>
                    <a:lnTo>
                      <a:pt x="356" y="614"/>
                    </a:lnTo>
                    <a:lnTo>
                      <a:pt x="362" y="584"/>
                    </a:lnTo>
                    <a:lnTo>
                      <a:pt x="371" y="548"/>
                    </a:lnTo>
                    <a:lnTo>
                      <a:pt x="385" y="510"/>
                    </a:lnTo>
                    <a:lnTo>
                      <a:pt x="396" y="488"/>
                    </a:lnTo>
                    <a:lnTo>
                      <a:pt x="411" y="465"/>
                    </a:lnTo>
                    <a:lnTo>
                      <a:pt x="428" y="441"/>
                    </a:lnTo>
                    <a:lnTo>
                      <a:pt x="444" y="419"/>
                    </a:lnTo>
                    <a:lnTo>
                      <a:pt x="459" y="400"/>
                    </a:lnTo>
                    <a:lnTo>
                      <a:pt x="471" y="384"/>
                    </a:lnTo>
                    <a:lnTo>
                      <a:pt x="479" y="374"/>
                    </a:lnTo>
                    <a:lnTo>
                      <a:pt x="483" y="370"/>
                    </a:lnTo>
                    <a:lnTo>
                      <a:pt x="494" y="355"/>
                    </a:lnTo>
                    <a:lnTo>
                      <a:pt x="505" y="340"/>
                    </a:lnTo>
                    <a:lnTo>
                      <a:pt x="513" y="324"/>
                    </a:lnTo>
                    <a:lnTo>
                      <a:pt x="521" y="308"/>
                    </a:lnTo>
                    <a:lnTo>
                      <a:pt x="527" y="292"/>
                    </a:lnTo>
                    <a:lnTo>
                      <a:pt x="532" y="276"/>
                    </a:lnTo>
                    <a:lnTo>
                      <a:pt x="536" y="260"/>
                    </a:lnTo>
                    <a:lnTo>
                      <a:pt x="538" y="242"/>
                    </a:lnTo>
                    <a:lnTo>
                      <a:pt x="539" y="219"/>
                    </a:lnTo>
                    <a:lnTo>
                      <a:pt x="538" y="195"/>
                    </a:lnTo>
                    <a:lnTo>
                      <a:pt x="534" y="173"/>
                    </a:lnTo>
                    <a:lnTo>
                      <a:pt x="527" y="151"/>
                    </a:lnTo>
                    <a:lnTo>
                      <a:pt x="517" y="131"/>
                    </a:lnTo>
                    <a:lnTo>
                      <a:pt x="505" y="111"/>
                    </a:lnTo>
                    <a:lnTo>
                      <a:pt x="490" y="92"/>
                    </a:lnTo>
                    <a:lnTo>
                      <a:pt x="473" y="74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7306560" y="4349520"/>
                <a:ext cx="103320" cy="85680"/>
              </a:xfrm>
              <a:custGeom>
                <a:avLst/>
                <a:gdLst/>
                <a:ahLst/>
                <a:rect l="l" t="t" r="r" b="b"/>
                <a:pathLst>
                  <a:path w="120" h="98">
                    <a:moveTo>
                      <a:pt x="115" y="35"/>
                    </a:moveTo>
                    <a:lnTo>
                      <a:pt x="116" y="36"/>
                    </a:lnTo>
                    <a:lnTo>
                      <a:pt x="117" y="37"/>
                    </a:lnTo>
                    <a:lnTo>
                      <a:pt x="119" y="39"/>
                    </a:lnTo>
                    <a:lnTo>
                      <a:pt x="119" y="41"/>
                    </a:lnTo>
                    <a:lnTo>
                      <a:pt x="119" y="42"/>
                    </a:lnTo>
                    <a:lnTo>
                      <a:pt x="117" y="43"/>
                    </a:lnTo>
                    <a:lnTo>
                      <a:pt x="116" y="45"/>
                    </a:lnTo>
                    <a:lnTo>
                      <a:pt x="115" y="46"/>
                    </a:lnTo>
                    <a:lnTo>
                      <a:pt x="101" y="58"/>
                    </a:lnTo>
                    <a:lnTo>
                      <a:pt x="114" y="71"/>
                    </a:lnTo>
                    <a:lnTo>
                      <a:pt x="115" y="72"/>
                    </a:lnTo>
                    <a:lnTo>
                      <a:pt x="116" y="74"/>
                    </a:lnTo>
                    <a:lnTo>
                      <a:pt x="117" y="75"/>
                    </a:lnTo>
                    <a:lnTo>
                      <a:pt x="117" y="76"/>
                    </a:lnTo>
                    <a:lnTo>
                      <a:pt x="116" y="80"/>
                    </a:lnTo>
                    <a:lnTo>
                      <a:pt x="114" y="82"/>
                    </a:lnTo>
                    <a:lnTo>
                      <a:pt x="109" y="87"/>
                    </a:lnTo>
                    <a:lnTo>
                      <a:pt x="102" y="90"/>
                    </a:lnTo>
                    <a:lnTo>
                      <a:pt x="94" y="94"/>
                    </a:lnTo>
                    <a:lnTo>
                      <a:pt x="84" y="96"/>
                    </a:lnTo>
                    <a:lnTo>
                      <a:pt x="72" y="97"/>
                    </a:lnTo>
                    <a:lnTo>
                      <a:pt x="59" y="98"/>
                    </a:lnTo>
                    <a:lnTo>
                      <a:pt x="49" y="98"/>
                    </a:lnTo>
                    <a:lnTo>
                      <a:pt x="40" y="97"/>
                    </a:lnTo>
                    <a:lnTo>
                      <a:pt x="32" y="95"/>
                    </a:lnTo>
                    <a:lnTo>
                      <a:pt x="24" y="94"/>
                    </a:lnTo>
                    <a:lnTo>
                      <a:pt x="17" y="91"/>
                    </a:lnTo>
                    <a:lnTo>
                      <a:pt x="11" y="88"/>
                    </a:lnTo>
                    <a:lnTo>
                      <a:pt x="7" y="86"/>
                    </a:lnTo>
                    <a:lnTo>
                      <a:pt x="3" y="82"/>
                    </a:lnTo>
                    <a:lnTo>
                      <a:pt x="2" y="81"/>
                    </a:lnTo>
                    <a:lnTo>
                      <a:pt x="2" y="79"/>
                    </a:lnTo>
                    <a:lnTo>
                      <a:pt x="1" y="78"/>
                    </a:lnTo>
                    <a:lnTo>
                      <a:pt x="1" y="76"/>
                    </a:lnTo>
                    <a:lnTo>
                      <a:pt x="1" y="75"/>
                    </a:lnTo>
                    <a:lnTo>
                      <a:pt x="2" y="74"/>
                    </a:lnTo>
                    <a:lnTo>
                      <a:pt x="3" y="72"/>
                    </a:lnTo>
                    <a:lnTo>
                      <a:pt x="4" y="71"/>
                    </a:lnTo>
                    <a:lnTo>
                      <a:pt x="17" y="58"/>
                    </a:lnTo>
                    <a:lnTo>
                      <a:pt x="4" y="45"/>
                    </a:lnTo>
                    <a:lnTo>
                      <a:pt x="3" y="44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1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17" y="22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6" y="5"/>
                    </a:lnTo>
                    <a:lnTo>
                      <a:pt x="13" y="8"/>
                    </a:lnTo>
                    <a:lnTo>
                      <a:pt x="19" y="11"/>
                    </a:lnTo>
                    <a:lnTo>
                      <a:pt x="26" y="13"/>
                    </a:lnTo>
                    <a:lnTo>
                      <a:pt x="34" y="14"/>
                    </a:lnTo>
                    <a:lnTo>
                      <a:pt x="41" y="16"/>
                    </a:lnTo>
                    <a:lnTo>
                      <a:pt x="51" y="18"/>
                    </a:lnTo>
                    <a:lnTo>
                      <a:pt x="59" y="18"/>
                    </a:lnTo>
                    <a:lnTo>
                      <a:pt x="68" y="18"/>
                    </a:lnTo>
                    <a:lnTo>
                      <a:pt x="76" y="16"/>
                    </a:lnTo>
                    <a:lnTo>
                      <a:pt x="84" y="14"/>
                    </a:lnTo>
                    <a:lnTo>
                      <a:pt x="92" y="12"/>
                    </a:lnTo>
                    <a:lnTo>
                      <a:pt x="99" y="10"/>
                    </a:lnTo>
                    <a:lnTo>
                      <a:pt x="106" y="7"/>
                    </a:lnTo>
                    <a:lnTo>
                      <a:pt x="113" y="4"/>
                    </a:lnTo>
                    <a:lnTo>
                      <a:pt x="119" y="0"/>
                    </a:lnTo>
                    <a:lnTo>
                      <a:pt x="120" y="1"/>
                    </a:lnTo>
                    <a:lnTo>
                      <a:pt x="120" y="1"/>
                    </a:lnTo>
                    <a:lnTo>
                      <a:pt x="120" y="3"/>
                    </a:lnTo>
                    <a:lnTo>
                      <a:pt x="120" y="4"/>
                    </a:lnTo>
                    <a:lnTo>
                      <a:pt x="120" y="5"/>
                    </a:lnTo>
                    <a:lnTo>
                      <a:pt x="119" y="6"/>
                    </a:lnTo>
                    <a:lnTo>
                      <a:pt x="117" y="8"/>
                    </a:lnTo>
                    <a:lnTo>
                      <a:pt x="116" y="10"/>
                    </a:lnTo>
                    <a:lnTo>
                      <a:pt x="102" y="22"/>
                    </a:lnTo>
                    <a:lnTo>
                      <a:pt x="11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7155000" y="3794040"/>
                <a:ext cx="395280" cy="539280"/>
              </a:xfrm>
              <a:custGeom>
                <a:avLst/>
                <a:gdLst/>
                <a:ahLst/>
                <a:rect l="l" t="t" r="r" b="b"/>
                <a:pathLst>
                  <a:path w="462" h="612">
                    <a:moveTo>
                      <a:pt x="416" y="315"/>
                    </a:moveTo>
                    <a:lnTo>
                      <a:pt x="412" y="319"/>
                    </a:lnTo>
                    <a:lnTo>
                      <a:pt x="402" y="331"/>
                    </a:lnTo>
                    <a:lnTo>
                      <a:pt x="390" y="347"/>
                    </a:lnTo>
                    <a:lnTo>
                      <a:pt x="374" y="367"/>
                    </a:lnTo>
                    <a:lnTo>
                      <a:pt x="356" y="390"/>
                    </a:lnTo>
                    <a:lnTo>
                      <a:pt x="340" y="414"/>
                    </a:lnTo>
                    <a:lnTo>
                      <a:pt x="325" y="438"/>
                    </a:lnTo>
                    <a:lnTo>
                      <a:pt x="314" y="462"/>
                    </a:lnTo>
                    <a:lnTo>
                      <a:pt x="300" y="501"/>
                    </a:lnTo>
                    <a:lnTo>
                      <a:pt x="291" y="538"/>
                    </a:lnTo>
                    <a:lnTo>
                      <a:pt x="285" y="569"/>
                    </a:lnTo>
                    <a:lnTo>
                      <a:pt x="283" y="590"/>
                    </a:lnTo>
                    <a:lnTo>
                      <a:pt x="278" y="594"/>
                    </a:lnTo>
                    <a:lnTo>
                      <a:pt x="273" y="596"/>
                    </a:lnTo>
                    <a:lnTo>
                      <a:pt x="268" y="600"/>
                    </a:lnTo>
                    <a:lnTo>
                      <a:pt x="261" y="604"/>
                    </a:lnTo>
                    <a:lnTo>
                      <a:pt x="253" y="607"/>
                    </a:lnTo>
                    <a:lnTo>
                      <a:pt x="243" y="610"/>
                    </a:lnTo>
                    <a:lnTo>
                      <a:pt x="234" y="611"/>
                    </a:lnTo>
                    <a:lnTo>
                      <a:pt x="224" y="612"/>
                    </a:lnTo>
                    <a:lnTo>
                      <a:pt x="213" y="611"/>
                    </a:lnTo>
                    <a:lnTo>
                      <a:pt x="204" y="610"/>
                    </a:lnTo>
                    <a:lnTo>
                      <a:pt x="195" y="607"/>
                    </a:lnTo>
                    <a:lnTo>
                      <a:pt x="187" y="604"/>
                    </a:lnTo>
                    <a:lnTo>
                      <a:pt x="179" y="600"/>
                    </a:lnTo>
                    <a:lnTo>
                      <a:pt x="173" y="597"/>
                    </a:lnTo>
                    <a:lnTo>
                      <a:pt x="167" y="594"/>
                    </a:lnTo>
                    <a:lnTo>
                      <a:pt x="163" y="591"/>
                    </a:lnTo>
                    <a:lnTo>
                      <a:pt x="160" y="571"/>
                    </a:lnTo>
                    <a:lnTo>
                      <a:pt x="157" y="539"/>
                    </a:lnTo>
                    <a:lnTo>
                      <a:pt x="149" y="503"/>
                    </a:lnTo>
                    <a:lnTo>
                      <a:pt x="136" y="461"/>
                    </a:lnTo>
                    <a:lnTo>
                      <a:pt x="128" y="443"/>
                    </a:lnTo>
                    <a:lnTo>
                      <a:pt x="120" y="423"/>
                    </a:lnTo>
                    <a:lnTo>
                      <a:pt x="110" y="406"/>
                    </a:lnTo>
                    <a:lnTo>
                      <a:pt x="99" y="388"/>
                    </a:lnTo>
                    <a:lnTo>
                      <a:pt x="90" y="373"/>
                    </a:lnTo>
                    <a:lnTo>
                      <a:pt x="80" y="358"/>
                    </a:lnTo>
                    <a:lnTo>
                      <a:pt x="71" y="346"/>
                    </a:lnTo>
                    <a:lnTo>
                      <a:pt x="62" y="335"/>
                    </a:lnTo>
                    <a:lnTo>
                      <a:pt x="62" y="334"/>
                    </a:lnTo>
                    <a:lnTo>
                      <a:pt x="61" y="333"/>
                    </a:lnTo>
                    <a:lnTo>
                      <a:pt x="49" y="319"/>
                    </a:lnTo>
                    <a:lnTo>
                      <a:pt x="37" y="303"/>
                    </a:lnTo>
                    <a:lnTo>
                      <a:pt x="27" y="288"/>
                    </a:lnTo>
                    <a:lnTo>
                      <a:pt x="19" y="271"/>
                    </a:lnTo>
                    <a:lnTo>
                      <a:pt x="12" y="254"/>
                    </a:lnTo>
                    <a:lnTo>
                      <a:pt x="6" y="236"/>
                    </a:lnTo>
                    <a:lnTo>
                      <a:pt x="3" y="219"/>
                    </a:lnTo>
                    <a:lnTo>
                      <a:pt x="0" y="201"/>
                    </a:lnTo>
                    <a:lnTo>
                      <a:pt x="0" y="180"/>
                    </a:lnTo>
                    <a:lnTo>
                      <a:pt x="1" y="160"/>
                    </a:lnTo>
                    <a:lnTo>
                      <a:pt x="6" y="141"/>
                    </a:lnTo>
                    <a:lnTo>
                      <a:pt x="13" y="122"/>
                    </a:lnTo>
                    <a:lnTo>
                      <a:pt x="21" y="104"/>
                    </a:lnTo>
                    <a:lnTo>
                      <a:pt x="33" y="88"/>
                    </a:lnTo>
                    <a:lnTo>
                      <a:pt x="45" y="72"/>
                    </a:lnTo>
                    <a:lnTo>
                      <a:pt x="60" y="57"/>
                    </a:lnTo>
                    <a:lnTo>
                      <a:pt x="77" y="43"/>
                    </a:lnTo>
                    <a:lnTo>
                      <a:pt x="97" y="31"/>
                    </a:lnTo>
                    <a:lnTo>
                      <a:pt x="117" y="22"/>
                    </a:lnTo>
                    <a:lnTo>
                      <a:pt x="139" y="14"/>
                    </a:lnTo>
                    <a:lnTo>
                      <a:pt x="160" y="7"/>
                    </a:lnTo>
                    <a:lnTo>
                      <a:pt x="185" y="4"/>
                    </a:lnTo>
                    <a:lnTo>
                      <a:pt x="209" y="0"/>
                    </a:lnTo>
                    <a:lnTo>
                      <a:pt x="233" y="0"/>
                    </a:lnTo>
                    <a:lnTo>
                      <a:pt x="257" y="1"/>
                    </a:lnTo>
                    <a:lnTo>
                      <a:pt x="281" y="5"/>
                    </a:lnTo>
                    <a:lnTo>
                      <a:pt x="304" y="10"/>
                    </a:lnTo>
                    <a:lnTo>
                      <a:pt x="326" y="17"/>
                    </a:lnTo>
                    <a:lnTo>
                      <a:pt x="348" y="25"/>
                    </a:lnTo>
                    <a:lnTo>
                      <a:pt x="368" y="36"/>
                    </a:lnTo>
                    <a:lnTo>
                      <a:pt x="386" y="48"/>
                    </a:lnTo>
                    <a:lnTo>
                      <a:pt x="404" y="62"/>
                    </a:lnTo>
                    <a:lnTo>
                      <a:pt x="419" y="77"/>
                    </a:lnTo>
                    <a:lnTo>
                      <a:pt x="431" y="93"/>
                    </a:lnTo>
                    <a:lnTo>
                      <a:pt x="442" y="111"/>
                    </a:lnTo>
                    <a:lnTo>
                      <a:pt x="450" y="129"/>
                    </a:lnTo>
                    <a:lnTo>
                      <a:pt x="457" y="148"/>
                    </a:lnTo>
                    <a:lnTo>
                      <a:pt x="460" y="166"/>
                    </a:lnTo>
                    <a:lnTo>
                      <a:pt x="462" y="187"/>
                    </a:lnTo>
                    <a:lnTo>
                      <a:pt x="461" y="206"/>
                    </a:lnTo>
                    <a:lnTo>
                      <a:pt x="459" y="221"/>
                    </a:lnTo>
                    <a:lnTo>
                      <a:pt x="457" y="235"/>
                    </a:lnTo>
                    <a:lnTo>
                      <a:pt x="452" y="250"/>
                    </a:lnTo>
                    <a:lnTo>
                      <a:pt x="447" y="264"/>
                    </a:lnTo>
                    <a:lnTo>
                      <a:pt x="440" y="277"/>
                    </a:lnTo>
                    <a:lnTo>
                      <a:pt x="434" y="290"/>
                    </a:lnTo>
                    <a:lnTo>
                      <a:pt x="425" y="303"/>
                    </a:lnTo>
                    <a:lnTo>
                      <a:pt x="416" y="3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408440" y="4330800"/>
              <a:ext cx="1227600" cy="1334880"/>
              <a:chOff x="7408440" y="4330800"/>
              <a:chExt cx="1227600" cy="1334880"/>
            </a:xfrm>
          </p:grpSpPr>
          <p:sp>
            <p:nvSpPr>
              <p:cNvPr id="113" name=""/>
              <p:cNvSpPr/>
              <p:nvPr/>
            </p:nvSpPr>
            <p:spPr>
              <a:xfrm flipH="1">
                <a:off x="7567560" y="4330800"/>
                <a:ext cx="1068480" cy="1131840"/>
              </a:xfrm>
              <a:custGeom>
                <a:avLst/>
                <a:gdLst/>
                <a:ahLst/>
                <a:rect l="l" t="t" r="r" b="b"/>
                <a:pathLst>
                  <a:path w="1251" h="1285">
                    <a:moveTo>
                      <a:pt x="965" y="802"/>
                    </a:moveTo>
                    <a:lnTo>
                      <a:pt x="979" y="803"/>
                    </a:lnTo>
                    <a:lnTo>
                      <a:pt x="995" y="804"/>
                    </a:lnTo>
                    <a:lnTo>
                      <a:pt x="1012" y="806"/>
                    </a:lnTo>
                    <a:lnTo>
                      <a:pt x="1031" y="806"/>
                    </a:lnTo>
                    <a:lnTo>
                      <a:pt x="1050" y="806"/>
                    </a:lnTo>
                    <a:lnTo>
                      <a:pt x="1070" y="804"/>
                    </a:lnTo>
                    <a:lnTo>
                      <a:pt x="1090" y="802"/>
                    </a:lnTo>
                    <a:lnTo>
                      <a:pt x="1111" y="799"/>
                    </a:lnTo>
                    <a:lnTo>
                      <a:pt x="1131" y="795"/>
                    </a:lnTo>
                    <a:lnTo>
                      <a:pt x="1150" y="789"/>
                    </a:lnTo>
                    <a:lnTo>
                      <a:pt x="1170" y="783"/>
                    </a:lnTo>
                    <a:lnTo>
                      <a:pt x="1187" y="774"/>
                    </a:lnTo>
                    <a:lnTo>
                      <a:pt x="1205" y="764"/>
                    </a:lnTo>
                    <a:lnTo>
                      <a:pt x="1220" y="751"/>
                    </a:lnTo>
                    <a:lnTo>
                      <a:pt x="1232" y="738"/>
                    </a:lnTo>
                    <a:lnTo>
                      <a:pt x="1244" y="721"/>
                    </a:lnTo>
                    <a:lnTo>
                      <a:pt x="1248" y="710"/>
                    </a:lnTo>
                    <a:lnTo>
                      <a:pt x="1251" y="696"/>
                    </a:lnTo>
                    <a:lnTo>
                      <a:pt x="1249" y="682"/>
                    </a:lnTo>
                    <a:lnTo>
                      <a:pt x="1246" y="667"/>
                    </a:lnTo>
                    <a:lnTo>
                      <a:pt x="1238" y="648"/>
                    </a:lnTo>
                    <a:lnTo>
                      <a:pt x="1225" y="626"/>
                    </a:lnTo>
                    <a:lnTo>
                      <a:pt x="1210" y="603"/>
                    </a:lnTo>
                    <a:lnTo>
                      <a:pt x="1191" y="577"/>
                    </a:lnTo>
                    <a:lnTo>
                      <a:pt x="1168" y="552"/>
                    </a:lnTo>
                    <a:lnTo>
                      <a:pt x="1142" y="526"/>
                    </a:lnTo>
                    <a:lnTo>
                      <a:pt x="1114" y="498"/>
                    </a:lnTo>
                    <a:lnTo>
                      <a:pt x="1082" y="469"/>
                    </a:lnTo>
                    <a:lnTo>
                      <a:pt x="1049" y="441"/>
                    </a:lnTo>
                    <a:lnTo>
                      <a:pt x="1013" y="414"/>
                    </a:lnTo>
                    <a:lnTo>
                      <a:pt x="975" y="385"/>
                    </a:lnTo>
                    <a:lnTo>
                      <a:pt x="936" y="358"/>
                    </a:lnTo>
                    <a:lnTo>
                      <a:pt x="896" y="332"/>
                    </a:lnTo>
                    <a:lnTo>
                      <a:pt x="853" y="307"/>
                    </a:lnTo>
                    <a:lnTo>
                      <a:pt x="810" y="282"/>
                    </a:lnTo>
                    <a:lnTo>
                      <a:pt x="767" y="260"/>
                    </a:lnTo>
                    <a:lnTo>
                      <a:pt x="780" y="235"/>
                    </a:lnTo>
                    <a:lnTo>
                      <a:pt x="790" y="209"/>
                    </a:lnTo>
                    <a:lnTo>
                      <a:pt x="793" y="183"/>
                    </a:lnTo>
                    <a:lnTo>
                      <a:pt x="791" y="158"/>
                    </a:lnTo>
                    <a:lnTo>
                      <a:pt x="786" y="141"/>
                    </a:lnTo>
                    <a:lnTo>
                      <a:pt x="779" y="124"/>
                    </a:lnTo>
                    <a:lnTo>
                      <a:pt x="769" y="108"/>
                    </a:lnTo>
                    <a:lnTo>
                      <a:pt x="756" y="93"/>
                    </a:lnTo>
                    <a:lnTo>
                      <a:pt x="741" y="78"/>
                    </a:lnTo>
                    <a:lnTo>
                      <a:pt x="724" y="63"/>
                    </a:lnTo>
                    <a:lnTo>
                      <a:pt x="704" y="50"/>
                    </a:lnTo>
                    <a:lnTo>
                      <a:pt x="681" y="37"/>
                    </a:lnTo>
                    <a:lnTo>
                      <a:pt x="653" y="23"/>
                    </a:lnTo>
                    <a:lnTo>
                      <a:pt x="621" y="14"/>
                    </a:lnTo>
                    <a:lnTo>
                      <a:pt x="589" y="6"/>
                    </a:lnTo>
                    <a:lnTo>
                      <a:pt x="557" y="2"/>
                    </a:lnTo>
                    <a:lnTo>
                      <a:pt x="522" y="0"/>
                    </a:lnTo>
                    <a:lnTo>
                      <a:pt x="488" y="1"/>
                    </a:lnTo>
                    <a:lnTo>
                      <a:pt x="452" y="5"/>
                    </a:lnTo>
                    <a:lnTo>
                      <a:pt x="416" y="10"/>
                    </a:lnTo>
                    <a:lnTo>
                      <a:pt x="382" y="17"/>
                    </a:lnTo>
                    <a:lnTo>
                      <a:pt x="346" y="28"/>
                    </a:lnTo>
                    <a:lnTo>
                      <a:pt x="313" y="38"/>
                    </a:lnTo>
                    <a:lnTo>
                      <a:pt x="279" y="52"/>
                    </a:lnTo>
                    <a:lnTo>
                      <a:pt x="246" y="66"/>
                    </a:lnTo>
                    <a:lnTo>
                      <a:pt x="215" y="82"/>
                    </a:lnTo>
                    <a:lnTo>
                      <a:pt x="186" y="98"/>
                    </a:lnTo>
                    <a:lnTo>
                      <a:pt x="158" y="116"/>
                    </a:lnTo>
                    <a:lnTo>
                      <a:pt x="119" y="146"/>
                    </a:lnTo>
                    <a:lnTo>
                      <a:pt x="84" y="178"/>
                    </a:lnTo>
                    <a:lnTo>
                      <a:pt x="57" y="210"/>
                    </a:lnTo>
                    <a:lnTo>
                      <a:pt x="34" y="243"/>
                    </a:lnTo>
                    <a:lnTo>
                      <a:pt x="17" y="278"/>
                    </a:lnTo>
                    <a:lnTo>
                      <a:pt x="5" y="312"/>
                    </a:lnTo>
                    <a:lnTo>
                      <a:pt x="0" y="348"/>
                    </a:lnTo>
                    <a:lnTo>
                      <a:pt x="2" y="384"/>
                    </a:lnTo>
                    <a:lnTo>
                      <a:pt x="11" y="432"/>
                    </a:lnTo>
                    <a:lnTo>
                      <a:pt x="25" y="482"/>
                    </a:lnTo>
                    <a:lnTo>
                      <a:pt x="43" y="532"/>
                    </a:lnTo>
                    <a:lnTo>
                      <a:pt x="66" y="583"/>
                    </a:lnTo>
                    <a:lnTo>
                      <a:pt x="90" y="634"/>
                    </a:lnTo>
                    <a:lnTo>
                      <a:pt x="116" y="683"/>
                    </a:lnTo>
                    <a:lnTo>
                      <a:pt x="142" y="733"/>
                    </a:lnTo>
                    <a:lnTo>
                      <a:pt x="167" y="779"/>
                    </a:lnTo>
                    <a:lnTo>
                      <a:pt x="184" y="808"/>
                    </a:lnTo>
                    <a:lnTo>
                      <a:pt x="200" y="837"/>
                    </a:lnTo>
                    <a:lnTo>
                      <a:pt x="215" y="867"/>
                    </a:lnTo>
                    <a:lnTo>
                      <a:pt x="230" y="894"/>
                    </a:lnTo>
                    <a:lnTo>
                      <a:pt x="241" y="921"/>
                    </a:lnTo>
                    <a:lnTo>
                      <a:pt x="250" y="943"/>
                    </a:lnTo>
                    <a:lnTo>
                      <a:pt x="255" y="960"/>
                    </a:lnTo>
                    <a:lnTo>
                      <a:pt x="254" y="972"/>
                    </a:lnTo>
                    <a:lnTo>
                      <a:pt x="237" y="983"/>
                    </a:lnTo>
                    <a:lnTo>
                      <a:pt x="222" y="991"/>
                    </a:lnTo>
                    <a:lnTo>
                      <a:pt x="208" y="997"/>
                    </a:lnTo>
                    <a:lnTo>
                      <a:pt x="195" y="999"/>
                    </a:lnTo>
                    <a:lnTo>
                      <a:pt x="186" y="999"/>
                    </a:lnTo>
                    <a:lnTo>
                      <a:pt x="178" y="999"/>
                    </a:lnTo>
                    <a:lnTo>
                      <a:pt x="173" y="998"/>
                    </a:lnTo>
                    <a:lnTo>
                      <a:pt x="171" y="997"/>
                    </a:lnTo>
                    <a:lnTo>
                      <a:pt x="131" y="982"/>
                    </a:lnTo>
                    <a:lnTo>
                      <a:pt x="132" y="989"/>
                    </a:lnTo>
                    <a:lnTo>
                      <a:pt x="135" y="1003"/>
                    </a:lnTo>
                    <a:lnTo>
                      <a:pt x="139" y="1018"/>
                    </a:lnTo>
                    <a:lnTo>
                      <a:pt x="141" y="1025"/>
                    </a:lnTo>
                    <a:lnTo>
                      <a:pt x="147" y="1041"/>
                    </a:lnTo>
                    <a:lnTo>
                      <a:pt x="156" y="1059"/>
                    </a:lnTo>
                    <a:lnTo>
                      <a:pt x="169" y="1078"/>
                    </a:lnTo>
                    <a:lnTo>
                      <a:pt x="186" y="1097"/>
                    </a:lnTo>
                    <a:lnTo>
                      <a:pt x="208" y="1113"/>
                    </a:lnTo>
                    <a:lnTo>
                      <a:pt x="233" y="1128"/>
                    </a:lnTo>
                    <a:lnTo>
                      <a:pt x="263" y="1138"/>
                    </a:lnTo>
                    <a:lnTo>
                      <a:pt x="298" y="1142"/>
                    </a:lnTo>
                    <a:lnTo>
                      <a:pt x="308" y="1142"/>
                    </a:lnTo>
                    <a:lnTo>
                      <a:pt x="320" y="1142"/>
                    </a:lnTo>
                    <a:lnTo>
                      <a:pt x="330" y="1141"/>
                    </a:lnTo>
                    <a:lnTo>
                      <a:pt x="341" y="1139"/>
                    </a:lnTo>
                    <a:lnTo>
                      <a:pt x="352" y="1136"/>
                    </a:lnTo>
                    <a:lnTo>
                      <a:pt x="363" y="1134"/>
                    </a:lnTo>
                    <a:lnTo>
                      <a:pt x="374" y="1131"/>
                    </a:lnTo>
                    <a:lnTo>
                      <a:pt x="385" y="1126"/>
                    </a:lnTo>
                    <a:lnTo>
                      <a:pt x="396" y="1153"/>
                    </a:lnTo>
                    <a:lnTo>
                      <a:pt x="406" y="1176"/>
                    </a:lnTo>
                    <a:lnTo>
                      <a:pt x="415" y="1196"/>
                    </a:lnTo>
                    <a:lnTo>
                      <a:pt x="423" y="1214"/>
                    </a:lnTo>
                    <a:lnTo>
                      <a:pt x="429" y="1227"/>
                    </a:lnTo>
                    <a:lnTo>
                      <a:pt x="434" y="1238"/>
                    </a:lnTo>
                    <a:lnTo>
                      <a:pt x="437" y="1244"/>
                    </a:lnTo>
                    <a:lnTo>
                      <a:pt x="438" y="1246"/>
                    </a:lnTo>
                    <a:lnTo>
                      <a:pt x="444" y="1259"/>
                    </a:lnTo>
                    <a:lnTo>
                      <a:pt x="1089" y="1285"/>
                    </a:lnTo>
                    <a:lnTo>
                      <a:pt x="965" y="802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7605720" y="4371840"/>
                <a:ext cx="990720" cy="1047960"/>
              </a:xfrm>
              <a:custGeom>
                <a:avLst/>
                <a:gdLst/>
                <a:ahLst/>
                <a:rect l="l" t="t" r="r" b="b"/>
                <a:pathLst>
                  <a:path w="1161" h="1192">
                    <a:moveTo>
                      <a:pt x="373" y="1042"/>
                    </a:moveTo>
                    <a:lnTo>
                      <a:pt x="363" y="1019"/>
                    </a:lnTo>
                    <a:lnTo>
                      <a:pt x="341" y="1030"/>
                    </a:lnTo>
                    <a:lnTo>
                      <a:pt x="331" y="1036"/>
                    </a:lnTo>
                    <a:lnTo>
                      <a:pt x="320" y="1040"/>
                    </a:lnTo>
                    <a:lnTo>
                      <a:pt x="309" y="1044"/>
                    </a:lnTo>
                    <a:lnTo>
                      <a:pt x="298" y="1047"/>
                    </a:lnTo>
                    <a:lnTo>
                      <a:pt x="286" y="1049"/>
                    </a:lnTo>
                    <a:lnTo>
                      <a:pt x="276" y="1050"/>
                    </a:lnTo>
                    <a:lnTo>
                      <a:pt x="264" y="1051"/>
                    </a:lnTo>
                    <a:lnTo>
                      <a:pt x="254" y="1051"/>
                    </a:lnTo>
                    <a:lnTo>
                      <a:pt x="235" y="1049"/>
                    </a:lnTo>
                    <a:lnTo>
                      <a:pt x="218" y="1045"/>
                    </a:lnTo>
                    <a:lnTo>
                      <a:pt x="203" y="1040"/>
                    </a:lnTo>
                    <a:lnTo>
                      <a:pt x="190" y="1033"/>
                    </a:lnTo>
                    <a:lnTo>
                      <a:pt x="179" y="1025"/>
                    </a:lnTo>
                    <a:lnTo>
                      <a:pt x="170" y="1015"/>
                    </a:lnTo>
                    <a:lnTo>
                      <a:pt x="162" y="1006"/>
                    </a:lnTo>
                    <a:lnTo>
                      <a:pt x="155" y="997"/>
                    </a:lnTo>
                    <a:lnTo>
                      <a:pt x="163" y="996"/>
                    </a:lnTo>
                    <a:lnTo>
                      <a:pt x="172" y="994"/>
                    </a:lnTo>
                    <a:lnTo>
                      <a:pt x="182" y="991"/>
                    </a:lnTo>
                    <a:lnTo>
                      <a:pt x="193" y="987"/>
                    </a:lnTo>
                    <a:lnTo>
                      <a:pt x="203" y="982"/>
                    </a:lnTo>
                    <a:lnTo>
                      <a:pt x="215" y="976"/>
                    </a:lnTo>
                    <a:lnTo>
                      <a:pt x="226" y="969"/>
                    </a:lnTo>
                    <a:lnTo>
                      <a:pt x="238" y="960"/>
                    </a:lnTo>
                    <a:lnTo>
                      <a:pt x="250" y="945"/>
                    </a:lnTo>
                    <a:lnTo>
                      <a:pt x="255" y="924"/>
                    </a:lnTo>
                    <a:lnTo>
                      <a:pt x="253" y="900"/>
                    </a:lnTo>
                    <a:lnTo>
                      <a:pt x="245" y="871"/>
                    </a:lnTo>
                    <a:lnTo>
                      <a:pt x="230" y="838"/>
                    </a:lnTo>
                    <a:lnTo>
                      <a:pt x="211" y="800"/>
                    </a:lnTo>
                    <a:lnTo>
                      <a:pt x="188" y="757"/>
                    </a:lnTo>
                    <a:lnTo>
                      <a:pt x="162" y="710"/>
                    </a:lnTo>
                    <a:lnTo>
                      <a:pt x="136" y="665"/>
                    </a:lnTo>
                    <a:lnTo>
                      <a:pt x="111" y="618"/>
                    </a:lnTo>
                    <a:lnTo>
                      <a:pt x="87" y="571"/>
                    </a:lnTo>
                    <a:lnTo>
                      <a:pt x="63" y="521"/>
                    </a:lnTo>
                    <a:lnTo>
                      <a:pt x="42" y="473"/>
                    </a:lnTo>
                    <a:lnTo>
                      <a:pt x="23" y="424"/>
                    </a:lnTo>
                    <a:lnTo>
                      <a:pt x="10" y="377"/>
                    </a:lnTo>
                    <a:lnTo>
                      <a:pt x="1" y="332"/>
                    </a:lnTo>
                    <a:lnTo>
                      <a:pt x="0" y="303"/>
                    </a:lnTo>
                    <a:lnTo>
                      <a:pt x="5" y="274"/>
                    </a:lnTo>
                    <a:lnTo>
                      <a:pt x="15" y="246"/>
                    </a:lnTo>
                    <a:lnTo>
                      <a:pt x="30" y="216"/>
                    </a:lnTo>
                    <a:lnTo>
                      <a:pt x="50" y="188"/>
                    </a:lnTo>
                    <a:lnTo>
                      <a:pt x="75" y="160"/>
                    </a:lnTo>
                    <a:lnTo>
                      <a:pt x="104" y="133"/>
                    </a:lnTo>
                    <a:lnTo>
                      <a:pt x="139" y="107"/>
                    </a:lnTo>
                    <a:lnTo>
                      <a:pt x="164" y="90"/>
                    </a:lnTo>
                    <a:lnTo>
                      <a:pt x="192" y="75"/>
                    </a:lnTo>
                    <a:lnTo>
                      <a:pt x="220" y="60"/>
                    </a:lnTo>
                    <a:lnTo>
                      <a:pt x="250" y="46"/>
                    </a:lnTo>
                    <a:lnTo>
                      <a:pt x="281" y="35"/>
                    </a:lnTo>
                    <a:lnTo>
                      <a:pt x="314" y="24"/>
                    </a:lnTo>
                    <a:lnTo>
                      <a:pt x="346" y="16"/>
                    </a:lnTo>
                    <a:lnTo>
                      <a:pt x="378" y="8"/>
                    </a:lnTo>
                    <a:lnTo>
                      <a:pt x="411" y="4"/>
                    </a:lnTo>
                    <a:lnTo>
                      <a:pt x="442" y="0"/>
                    </a:lnTo>
                    <a:lnTo>
                      <a:pt x="474" y="0"/>
                    </a:lnTo>
                    <a:lnTo>
                      <a:pt x="504" y="1"/>
                    </a:lnTo>
                    <a:lnTo>
                      <a:pt x="534" y="5"/>
                    </a:lnTo>
                    <a:lnTo>
                      <a:pt x="563" y="10"/>
                    </a:lnTo>
                    <a:lnTo>
                      <a:pt x="589" y="20"/>
                    </a:lnTo>
                    <a:lnTo>
                      <a:pt x="615" y="31"/>
                    </a:lnTo>
                    <a:lnTo>
                      <a:pt x="633" y="42"/>
                    </a:lnTo>
                    <a:lnTo>
                      <a:pt x="649" y="52"/>
                    </a:lnTo>
                    <a:lnTo>
                      <a:pt x="663" y="64"/>
                    </a:lnTo>
                    <a:lnTo>
                      <a:pt x="676" y="74"/>
                    </a:lnTo>
                    <a:lnTo>
                      <a:pt x="685" y="85"/>
                    </a:lnTo>
                    <a:lnTo>
                      <a:pt x="693" y="97"/>
                    </a:lnTo>
                    <a:lnTo>
                      <a:pt x="697" y="110"/>
                    </a:lnTo>
                    <a:lnTo>
                      <a:pt x="701" y="121"/>
                    </a:lnTo>
                    <a:lnTo>
                      <a:pt x="702" y="132"/>
                    </a:lnTo>
                    <a:lnTo>
                      <a:pt x="702" y="142"/>
                    </a:lnTo>
                    <a:lnTo>
                      <a:pt x="701" y="152"/>
                    </a:lnTo>
                    <a:lnTo>
                      <a:pt x="697" y="163"/>
                    </a:lnTo>
                    <a:lnTo>
                      <a:pt x="693" y="174"/>
                    </a:lnTo>
                    <a:lnTo>
                      <a:pt x="687" y="186"/>
                    </a:lnTo>
                    <a:lnTo>
                      <a:pt x="679" y="197"/>
                    </a:lnTo>
                    <a:lnTo>
                      <a:pt x="670" y="209"/>
                    </a:lnTo>
                    <a:lnTo>
                      <a:pt x="650" y="232"/>
                    </a:lnTo>
                    <a:lnTo>
                      <a:pt x="678" y="244"/>
                    </a:lnTo>
                    <a:lnTo>
                      <a:pt x="721" y="264"/>
                    </a:lnTo>
                    <a:lnTo>
                      <a:pt x="762" y="287"/>
                    </a:lnTo>
                    <a:lnTo>
                      <a:pt x="803" y="310"/>
                    </a:lnTo>
                    <a:lnTo>
                      <a:pt x="844" y="335"/>
                    </a:lnTo>
                    <a:lnTo>
                      <a:pt x="883" y="362"/>
                    </a:lnTo>
                    <a:lnTo>
                      <a:pt x="921" y="389"/>
                    </a:lnTo>
                    <a:lnTo>
                      <a:pt x="957" y="416"/>
                    </a:lnTo>
                    <a:lnTo>
                      <a:pt x="991" y="444"/>
                    </a:lnTo>
                    <a:lnTo>
                      <a:pt x="1024" y="471"/>
                    </a:lnTo>
                    <a:lnTo>
                      <a:pt x="1052" y="498"/>
                    </a:lnTo>
                    <a:lnTo>
                      <a:pt x="1079" y="524"/>
                    </a:lnTo>
                    <a:lnTo>
                      <a:pt x="1102" y="550"/>
                    </a:lnTo>
                    <a:lnTo>
                      <a:pt x="1123" y="574"/>
                    </a:lnTo>
                    <a:lnTo>
                      <a:pt x="1139" y="596"/>
                    </a:lnTo>
                    <a:lnTo>
                      <a:pt x="1150" y="617"/>
                    </a:lnTo>
                    <a:lnTo>
                      <a:pt x="1158" y="635"/>
                    </a:lnTo>
                    <a:lnTo>
                      <a:pt x="1160" y="641"/>
                    </a:lnTo>
                    <a:lnTo>
                      <a:pt x="1161" y="647"/>
                    </a:lnTo>
                    <a:lnTo>
                      <a:pt x="1161" y="650"/>
                    </a:lnTo>
                    <a:lnTo>
                      <a:pt x="1160" y="652"/>
                    </a:lnTo>
                    <a:lnTo>
                      <a:pt x="1150" y="665"/>
                    </a:lnTo>
                    <a:lnTo>
                      <a:pt x="1139" y="677"/>
                    </a:lnTo>
                    <a:lnTo>
                      <a:pt x="1124" y="686"/>
                    </a:lnTo>
                    <a:lnTo>
                      <a:pt x="1109" y="694"/>
                    </a:lnTo>
                    <a:lnTo>
                      <a:pt x="1092" y="701"/>
                    </a:lnTo>
                    <a:lnTo>
                      <a:pt x="1072" y="705"/>
                    </a:lnTo>
                    <a:lnTo>
                      <a:pt x="1052" y="709"/>
                    </a:lnTo>
                    <a:lnTo>
                      <a:pt x="1033" y="711"/>
                    </a:lnTo>
                    <a:lnTo>
                      <a:pt x="1013" y="714"/>
                    </a:lnTo>
                    <a:lnTo>
                      <a:pt x="992" y="714"/>
                    </a:lnTo>
                    <a:lnTo>
                      <a:pt x="973" y="714"/>
                    </a:lnTo>
                    <a:lnTo>
                      <a:pt x="954" y="714"/>
                    </a:lnTo>
                    <a:lnTo>
                      <a:pt x="936" y="712"/>
                    </a:lnTo>
                    <a:lnTo>
                      <a:pt x="920" y="710"/>
                    </a:lnTo>
                    <a:lnTo>
                      <a:pt x="906" y="709"/>
                    </a:lnTo>
                    <a:lnTo>
                      <a:pt x="893" y="707"/>
                    </a:lnTo>
                    <a:lnTo>
                      <a:pt x="859" y="701"/>
                    </a:lnTo>
                    <a:lnTo>
                      <a:pt x="986" y="1192"/>
                    </a:lnTo>
                    <a:lnTo>
                      <a:pt x="428" y="1169"/>
                    </a:lnTo>
                    <a:lnTo>
                      <a:pt x="424" y="1160"/>
                    </a:lnTo>
                    <a:lnTo>
                      <a:pt x="419" y="1149"/>
                    </a:lnTo>
                    <a:lnTo>
                      <a:pt x="413" y="1135"/>
                    </a:lnTo>
                    <a:lnTo>
                      <a:pt x="406" y="1120"/>
                    </a:lnTo>
                    <a:lnTo>
                      <a:pt x="399" y="1103"/>
                    </a:lnTo>
                    <a:lnTo>
                      <a:pt x="391" y="1085"/>
                    </a:lnTo>
                    <a:lnTo>
                      <a:pt x="382" y="1064"/>
                    </a:lnTo>
                    <a:lnTo>
                      <a:pt x="373" y="10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7816680" y="4648320"/>
                <a:ext cx="424080" cy="160200"/>
              </a:xfrm>
              <a:custGeom>
                <a:avLst/>
                <a:gdLst/>
                <a:ahLst/>
                <a:rect l="l" t="t" r="r" b="b"/>
                <a:pathLst>
                  <a:path w="497" h="183">
                    <a:moveTo>
                      <a:pt x="0" y="175"/>
                    </a:moveTo>
                    <a:lnTo>
                      <a:pt x="1" y="175"/>
                    </a:lnTo>
                    <a:lnTo>
                      <a:pt x="5" y="176"/>
                    </a:lnTo>
                    <a:lnTo>
                      <a:pt x="11" y="176"/>
                    </a:lnTo>
                    <a:lnTo>
                      <a:pt x="19" y="177"/>
                    </a:lnTo>
                    <a:lnTo>
                      <a:pt x="30" y="178"/>
                    </a:lnTo>
                    <a:lnTo>
                      <a:pt x="43" y="178"/>
                    </a:lnTo>
                    <a:lnTo>
                      <a:pt x="58" y="178"/>
                    </a:lnTo>
                    <a:lnTo>
                      <a:pt x="75" y="177"/>
                    </a:lnTo>
                    <a:lnTo>
                      <a:pt x="95" y="176"/>
                    </a:lnTo>
                    <a:lnTo>
                      <a:pt x="117" y="174"/>
                    </a:lnTo>
                    <a:lnTo>
                      <a:pt x="141" y="170"/>
                    </a:lnTo>
                    <a:lnTo>
                      <a:pt x="167" y="166"/>
                    </a:lnTo>
                    <a:lnTo>
                      <a:pt x="195" y="159"/>
                    </a:lnTo>
                    <a:lnTo>
                      <a:pt x="226" y="151"/>
                    </a:lnTo>
                    <a:lnTo>
                      <a:pt x="260" y="142"/>
                    </a:lnTo>
                    <a:lnTo>
                      <a:pt x="294" y="130"/>
                    </a:lnTo>
                    <a:lnTo>
                      <a:pt x="329" y="117"/>
                    </a:lnTo>
                    <a:lnTo>
                      <a:pt x="359" y="105"/>
                    </a:lnTo>
                    <a:lnTo>
                      <a:pt x="385" y="93"/>
                    </a:lnTo>
                    <a:lnTo>
                      <a:pt x="407" y="82"/>
                    </a:lnTo>
                    <a:lnTo>
                      <a:pt x="427" y="70"/>
                    </a:lnTo>
                    <a:lnTo>
                      <a:pt x="444" y="60"/>
                    </a:lnTo>
                    <a:lnTo>
                      <a:pt x="457" y="49"/>
                    </a:lnTo>
                    <a:lnTo>
                      <a:pt x="468" y="40"/>
                    </a:lnTo>
                    <a:lnTo>
                      <a:pt x="477" y="31"/>
                    </a:lnTo>
                    <a:lnTo>
                      <a:pt x="484" y="23"/>
                    </a:lnTo>
                    <a:lnTo>
                      <a:pt x="489" y="17"/>
                    </a:lnTo>
                    <a:lnTo>
                      <a:pt x="492" y="10"/>
                    </a:lnTo>
                    <a:lnTo>
                      <a:pt x="495" y="6"/>
                    </a:lnTo>
                    <a:lnTo>
                      <a:pt x="496" y="2"/>
                    </a:lnTo>
                    <a:lnTo>
                      <a:pt x="497" y="1"/>
                    </a:lnTo>
                    <a:lnTo>
                      <a:pt x="497" y="0"/>
                    </a:lnTo>
                    <a:lnTo>
                      <a:pt x="497" y="1"/>
                    </a:lnTo>
                    <a:lnTo>
                      <a:pt x="496" y="4"/>
                    </a:lnTo>
                    <a:lnTo>
                      <a:pt x="495" y="9"/>
                    </a:lnTo>
                    <a:lnTo>
                      <a:pt x="492" y="16"/>
                    </a:lnTo>
                    <a:lnTo>
                      <a:pt x="489" y="24"/>
                    </a:lnTo>
                    <a:lnTo>
                      <a:pt x="483" y="33"/>
                    </a:lnTo>
                    <a:lnTo>
                      <a:pt x="476" y="44"/>
                    </a:lnTo>
                    <a:lnTo>
                      <a:pt x="468" y="54"/>
                    </a:lnTo>
                    <a:lnTo>
                      <a:pt x="458" y="67"/>
                    </a:lnTo>
                    <a:lnTo>
                      <a:pt x="444" y="78"/>
                    </a:lnTo>
                    <a:lnTo>
                      <a:pt x="429" y="91"/>
                    </a:lnTo>
                    <a:lnTo>
                      <a:pt x="411" y="103"/>
                    </a:lnTo>
                    <a:lnTo>
                      <a:pt x="390" y="116"/>
                    </a:lnTo>
                    <a:lnTo>
                      <a:pt x="366" y="129"/>
                    </a:lnTo>
                    <a:lnTo>
                      <a:pt x="338" y="140"/>
                    </a:lnTo>
                    <a:lnTo>
                      <a:pt x="307" y="151"/>
                    </a:lnTo>
                    <a:lnTo>
                      <a:pt x="275" y="160"/>
                    </a:lnTo>
                    <a:lnTo>
                      <a:pt x="243" y="168"/>
                    </a:lnTo>
                    <a:lnTo>
                      <a:pt x="213" y="174"/>
                    </a:lnTo>
                    <a:lnTo>
                      <a:pt x="185" y="178"/>
                    </a:lnTo>
                    <a:lnTo>
                      <a:pt x="158" y="181"/>
                    </a:lnTo>
                    <a:lnTo>
                      <a:pt x="133" y="183"/>
                    </a:lnTo>
                    <a:lnTo>
                      <a:pt x="109" y="183"/>
                    </a:lnTo>
                    <a:lnTo>
                      <a:pt x="88" y="183"/>
                    </a:lnTo>
                    <a:lnTo>
                      <a:pt x="68" y="183"/>
                    </a:lnTo>
                    <a:lnTo>
                      <a:pt x="51" y="182"/>
                    </a:lnTo>
                    <a:lnTo>
                      <a:pt x="36" y="181"/>
                    </a:lnTo>
                    <a:lnTo>
                      <a:pt x="23" y="178"/>
                    </a:lnTo>
                    <a:lnTo>
                      <a:pt x="13" y="177"/>
                    </a:lnTo>
                    <a:lnTo>
                      <a:pt x="6" y="176"/>
                    </a:lnTo>
                    <a:lnTo>
                      <a:pt x="1" y="175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8046360" y="4799160"/>
                <a:ext cx="42840" cy="68040"/>
              </a:xfrm>
              <a:custGeom>
                <a:avLst/>
                <a:gdLst/>
                <a:ahLst/>
                <a:rect l="l" t="t" r="r" b="b"/>
                <a:pathLst>
                  <a:path w="49" h="79">
                    <a:moveTo>
                      <a:pt x="33" y="79"/>
                    </a:moveTo>
                    <a:lnTo>
                      <a:pt x="41" y="74"/>
                    </a:lnTo>
                    <a:lnTo>
                      <a:pt x="47" y="64"/>
                    </a:lnTo>
                    <a:lnTo>
                      <a:pt x="49" y="51"/>
                    </a:lnTo>
                    <a:lnTo>
                      <a:pt x="48" y="35"/>
                    </a:lnTo>
                    <a:lnTo>
                      <a:pt x="43" y="20"/>
                    </a:lnTo>
                    <a:lnTo>
                      <a:pt x="35" y="8"/>
                    </a:lnTo>
                    <a:lnTo>
                      <a:pt x="26" y="1"/>
                    </a:lnTo>
                    <a:lnTo>
                      <a:pt x="17" y="0"/>
                    </a:lnTo>
                    <a:lnTo>
                      <a:pt x="9" y="6"/>
                    </a:lnTo>
                    <a:lnTo>
                      <a:pt x="3" y="15"/>
                    </a:lnTo>
                    <a:lnTo>
                      <a:pt x="0" y="29"/>
                    </a:lnTo>
                    <a:lnTo>
                      <a:pt x="1" y="45"/>
                    </a:lnTo>
                    <a:lnTo>
                      <a:pt x="7" y="60"/>
                    </a:lnTo>
                    <a:lnTo>
                      <a:pt x="13" y="71"/>
                    </a:lnTo>
                    <a:lnTo>
                      <a:pt x="24" y="78"/>
                    </a:lnTo>
                    <a:lnTo>
                      <a:pt x="33" y="7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7850880" y="4726080"/>
                <a:ext cx="39960" cy="68040"/>
              </a:xfrm>
              <a:custGeom>
                <a:avLst/>
                <a:gdLst/>
                <a:ahLst/>
                <a:rect l="l" t="t" r="r" b="b"/>
                <a:pathLst>
                  <a:path w="49" h="79">
                    <a:moveTo>
                      <a:pt x="32" y="79"/>
                    </a:moveTo>
                    <a:lnTo>
                      <a:pt x="41" y="74"/>
                    </a:lnTo>
                    <a:lnTo>
                      <a:pt x="46" y="64"/>
                    </a:lnTo>
                    <a:lnTo>
                      <a:pt x="49" y="50"/>
                    </a:lnTo>
                    <a:lnTo>
                      <a:pt x="47" y="35"/>
                    </a:lnTo>
                    <a:lnTo>
                      <a:pt x="43" y="20"/>
                    </a:lnTo>
                    <a:lnTo>
                      <a:pt x="35" y="9"/>
                    </a:lnTo>
                    <a:lnTo>
                      <a:pt x="26" y="2"/>
                    </a:lnTo>
                    <a:lnTo>
                      <a:pt x="16" y="0"/>
                    </a:lnTo>
                    <a:lnTo>
                      <a:pt x="8" y="5"/>
                    </a:lnTo>
                    <a:lnTo>
                      <a:pt x="3" y="15"/>
                    </a:lnTo>
                    <a:lnTo>
                      <a:pt x="0" y="28"/>
                    </a:lnTo>
                    <a:lnTo>
                      <a:pt x="1" y="44"/>
                    </a:lnTo>
                    <a:lnTo>
                      <a:pt x="6" y="59"/>
                    </a:lnTo>
                    <a:lnTo>
                      <a:pt x="14" y="71"/>
                    </a:lnTo>
                    <a:lnTo>
                      <a:pt x="23" y="78"/>
                    </a:lnTo>
                    <a:lnTo>
                      <a:pt x="32" y="7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7408080" y="5200560"/>
                <a:ext cx="444600" cy="465120"/>
              </a:xfrm>
              <a:custGeom>
                <a:avLst/>
                <a:gdLst/>
                <a:ahLst/>
                <a:rect l="l" t="t" r="r" b="b"/>
                <a:pathLst>
                  <a:path w="521" h="527">
                    <a:moveTo>
                      <a:pt x="473" y="304"/>
                    </a:moveTo>
                    <a:lnTo>
                      <a:pt x="469" y="298"/>
                    </a:lnTo>
                    <a:lnTo>
                      <a:pt x="465" y="288"/>
                    </a:lnTo>
                    <a:lnTo>
                      <a:pt x="458" y="274"/>
                    </a:lnTo>
                    <a:lnTo>
                      <a:pt x="449" y="258"/>
                    </a:lnTo>
                    <a:lnTo>
                      <a:pt x="438" y="239"/>
                    </a:lnTo>
                    <a:lnTo>
                      <a:pt x="427" y="220"/>
                    </a:lnTo>
                    <a:lnTo>
                      <a:pt x="413" y="198"/>
                    </a:lnTo>
                    <a:lnTo>
                      <a:pt x="398" y="175"/>
                    </a:lnTo>
                    <a:lnTo>
                      <a:pt x="382" y="153"/>
                    </a:lnTo>
                    <a:lnTo>
                      <a:pt x="363" y="130"/>
                    </a:lnTo>
                    <a:lnTo>
                      <a:pt x="345" y="108"/>
                    </a:lnTo>
                    <a:lnTo>
                      <a:pt x="326" y="88"/>
                    </a:lnTo>
                    <a:lnTo>
                      <a:pt x="306" y="69"/>
                    </a:lnTo>
                    <a:lnTo>
                      <a:pt x="285" y="53"/>
                    </a:lnTo>
                    <a:lnTo>
                      <a:pt x="263" y="39"/>
                    </a:lnTo>
                    <a:lnTo>
                      <a:pt x="241" y="28"/>
                    </a:lnTo>
                    <a:lnTo>
                      <a:pt x="226" y="23"/>
                    </a:lnTo>
                    <a:lnTo>
                      <a:pt x="210" y="18"/>
                    </a:lnTo>
                    <a:lnTo>
                      <a:pt x="194" y="13"/>
                    </a:lnTo>
                    <a:lnTo>
                      <a:pt x="177" y="9"/>
                    </a:lnTo>
                    <a:lnTo>
                      <a:pt x="159" y="5"/>
                    </a:lnTo>
                    <a:lnTo>
                      <a:pt x="142" y="3"/>
                    </a:lnTo>
                    <a:lnTo>
                      <a:pt x="124" y="1"/>
                    </a:lnTo>
                    <a:lnTo>
                      <a:pt x="106" y="0"/>
                    </a:lnTo>
                    <a:lnTo>
                      <a:pt x="90" y="0"/>
                    </a:lnTo>
                    <a:lnTo>
                      <a:pt x="74" y="0"/>
                    </a:lnTo>
                    <a:lnTo>
                      <a:pt x="59" y="2"/>
                    </a:lnTo>
                    <a:lnTo>
                      <a:pt x="45" y="4"/>
                    </a:lnTo>
                    <a:lnTo>
                      <a:pt x="33" y="9"/>
                    </a:lnTo>
                    <a:lnTo>
                      <a:pt x="22" y="13"/>
                    </a:lnTo>
                    <a:lnTo>
                      <a:pt x="13" y="20"/>
                    </a:lnTo>
                    <a:lnTo>
                      <a:pt x="6" y="28"/>
                    </a:lnTo>
                    <a:lnTo>
                      <a:pt x="1" y="39"/>
                    </a:lnTo>
                    <a:lnTo>
                      <a:pt x="0" y="54"/>
                    </a:lnTo>
                    <a:lnTo>
                      <a:pt x="6" y="73"/>
                    </a:lnTo>
                    <a:lnTo>
                      <a:pt x="22" y="95"/>
                    </a:lnTo>
                    <a:lnTo>
                      <a:pt x="38" y="109"/>
                    </a:lnTo>
                    <a:lnTo>
                      <a:pt x="53" y="121"/>
                    </a:lnTo>
                    <a:lnTo>
                      <a:pt x="69" y="130"/>
                    </a:lnTo>
                    <a:lnTo>
                      <a:pt x="84" y="138"/>
                    </a:lnTo>
                    <a:lnTo>
                      <a:pt x="101" y="145"/>
                    </a:lnTo>
                    <a:lnTo>
                      <a:pt x="116" y="151"/>
                    </a:lnTo>
                    <a:lnTo>
                      <a:pt x="129" y="154"/>
                    </a:lnTo>
                    <a:lnTo>
                      <a:pt x="143" y="159"/>
                    </a:lnTo>
                    <a:lnTo>
                      <a:pt x="152" y="161"/>
                    </a:lnTo>
                    <a:lnTo>
                      <a:pt x="162" y="163"/>
                    </a:lnTo>
                    <a:lnTo>
                      <a:pt x="170" y="167"/>
                    </a:lnTo>
                    <a:lnTo>
                      <a:pt x="178" y="169"/>
                    </a:lnTo>
                    <a:lnTo>
                      <a:pt x="185" y="172"/>
                    </a:lnTo>
                    <a:lnTo>
                      <a:pt x="192" y="176"/>
                    </a:lnTo>
                    <a:lnTo>
                      <a:pt x="197" y="180"/>
                    </a:lnTo>
                    <a:lnTo>
                      <a:pt x="203" y="185"/>
                    </a:lnTo>
                    <a:lnTo>
                      <a:pt x="214" y="198"/>
                    </a:lnTo>
                    <a:lnTo>
                      <a:pt x="200" y="202"/>
                    </a:lnTo>
                    <a:lnTo>
                      <a:pt x="186" y="208"/>
                    </a:lnTo>
                    <a:lnTo>
                      <a:pt x="173" y="215"/>
                    </a:lnTo>
                    <a:lnTo>
                      <a:pt x="162" y="222"/>
                    </a:lnTo>
                    <a:lnTo>
                      <a:pt x="151" y="231"/>
                    </a:lnTo>
                    <a:lnTo>
                      <a:pt x="143" y="242"/>
                    </a:lnTo>
                    <a:lnTo>
                      <a:pt x="139" y="252"/>
                    </a:lnTo>
                    <a:lnTo>
                      <a:pt x="136" y="265"/>
                    </a:lnTo>
                    <a:lnTo>
                      <a:pt x="136" y="289"/>
                    </a:lnTo>
                    <a:lnTo>
                      <a:pt x="124" y="299"/>
                    </a:lnTo>
                    <a:lnTo>
                      <a:pt x="111" y="310"/>
                    </a:lnTo>
                    <a:lnTo>
                      <a:pt x="99" y="321"/>
                    </a:lnTo>
                    <a:lnTo>
                      <a:pt x="89" y="331"/>
                    </a:lnTo>
                    <a:lnTo>
                      <a:pt x="79" y="342"/>
                    </a:lnTo>
                    <a:lnTo>
                      <a:pt x="71" y="352"/>
                    </a:lnTo>
                    <a:lnTo>
                      <a:pt x="65" y="361"/>
                    </a:lnTo>
                    <a:lnTo>
                      <a:pt x="61" y="369"/>
                    </a:lnTo>
                    <a:lnTo>
                      <a:pt x="60" y="378"/>
                    </a:lnTo>
                    <a:lnTo>
                      <a:pt x="63" y="388"/>
                    </a:lnTo>
                    <a:lnTo>
                      <a:pt x="71" y="403"/>
                    </a:lnTo>
                    <a:lnTo>
                      <a:pt x="84" y="423"/>
                    </a:lnTo>
                    <a:lnTo>
                      <a:pt x="101" y="440"/>
                    </a:lnTo>
                    <a:lnTo>
                      <a:pt x="120" y="458"/>
                    </a:lnTo>
                    <a:lnTo>
                      <a:pt x="141" y="477"/>
                    </a:lnTo>
                    <a:lnTo>
                      <a:pt x="165" y="494"/>
                    </a:lnTo>
                    <a:lnTo>
                      <a:pt x="189" y="508"/>
                    </a:lnTo>
                    <a:lnTo>
                      <a:pt x="215" y="519"/>
                    </a:lnTo>
                    <a:lnTo>
                      <a:pt x="240" y="526"/>
                    </a:lnTo>
                    <a:lnTo>
                      <a:pt x="264" y="527"/>
                    </a:lnTo>
                    <a:lnTo>
                      <a:pt x="283" y="525"/>
                    </a:lnTo>
                    <a:lnTo>
                      <a:pt x="299" y="523"/>
                    </a:lnTo>
                    <a:lnTo>
                      <a:pt x="313" y="519"/>
                    </a:lnTo>
                    <a:lnTo>
                      <a:pt x="324" y="515"/>
                    </a:lnTo>
                    <a:lnTo>
                      <a:pt x="333" y="510"/>
                    </a:lnTo>
                    <a:lnTo>
                      <a:pt x="340" y="505"/>
                    </a:lnTo>
                    <a:lnTo>
                      <a:pt x="347" y="500"/>
                    </a:lnTo>
                    <a:lnTo>
                      <a:pt x="352" y="494"/>
                    </a:lnTo>
                    <a:lnTo>
                      <a:pt x="358" y="495"/>
                    </a:lnTo>
                    <a:lnTo>
                      <a:pt x="363" y="495"/>
                    </a:lnTo>
                    <a:lnTo>
                      <a:pt x="370" y="496"/>
                    </a:lnTo>
                    <a:lnTo>
                      <a:pt x="376" y="497"/>
                    </a:lnTo>
                    <a:lnTo>
                      <a:pt x="474" y="504"/>
                    </a:lnTo>
                    <a:lnTo>
                      <a:pt x="470" y="478"/>
                    </a:lnTo>
                    <a:lnTo>
                      <a:pt x="470" y="471"/>
                    </a:lnTo>
                    <a:lnTo>
                      <a:pt x="472" y="456"/>
                    </a:lnTo>
                    <a:lnTo>
                      <a:pt x="475" y="437"/>
                    </a:lnTo>
                    <a:lnTo>
                      <a:pt x="485" y="419"/>
                    </a:lnTo>
                    <a:lnTo>
                      <a:pt x="521" y="376"/>
                    </a:lnTo>
                    <a:lnTo>
                      <a:pt x="473" y="30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7455600" y="5238720"/>
                <a:ext cx="358920" cy="385920"/>
              </a:xfrm>
              <a:custGeom>
                <a:avLst/>
                <a:gdLst/>
                <a:ahLst/>
                <a:rect l="l" t="t" r="r" b="b"/>
                <a:pathLst>
                  <a:path w="420" h="439">
                    <a:moveTo>
                      <a:pt x="381" y="413"/>
                    </a:moveTo>
                    <a:lnTo>
                      <a:pt x="334" y="409"/>
                    </a:lnTo>
                    <a:lnTo>
                      <a:pt x="329" y="409"/>
                    </a:lnTo>
                    <a:lnTo>
                      <a:pt x="324" y="408"/>
                    </a:lnTo>
                    <a:lnTo>
                      <a:pt x="318" y="407"/>
                    </a:lnTo>
                    <a:lnTo>
                      <a:pt x="314" y="407"/>
                    </a:lnTo>
                    <a:lnTo>
                      <a:pt x="309" y="406"/>
                    </a:lnTo>
                    <a:lnTo>
                      <a:pt x="306" y="405"/>
                    </a:lnTo>
                    <a:lnTo>
                      <a:pt x="301" y="404"/>
                    </a:lnTo>
                    <a:lnTo>
                      <a:pt x="298" y="403"/>
                    </a:lnTo>
                    <a:lnTo>
                      <a:pt x="179" y="356"/>
                    </a:lnTo>
                    <a:lnTo>
                      <a:pt x="224" y="403"/>
                    </a:lnTo>
                    <a:lnTo>
                      <a:pt x="226" y="407"/>
                    </a:lnTo>
                    <a:lnTo>
                      <a:pt x="232" y="414"/>
                    </a:lnTo>
                    <a:lnTo>
                      <a:pt x="241" y="423"/>
                    </a:lnTo>
                    <a:lnTo>
                      <a:pt x="255" y="433"/>
                    </a:lnTo>
                    <a:lnTo>
                      <a:pt x="251" y="434"/>
                    </a:lnTo>
                    <a:lnTo>
                      <a:pt x="248" y="435"/>
                    </a:lnTo>
                    <a:lnTo>
                      <a:pt x="243" y="436"/>
                    </a:lnTo>
                    <a:lnTo>
                      <a:pt x="240" y="437"/>
                    </a:lnTo>
                    <a:lnTo>
                      <a:pt x="234" y="437"/>
                    </a:lnTo>
                    <a:lnTo>
                      <a:pt x="230" y="438"/>
                    </a:lnTo>
                    <a:lnTo>
                      <a:pt x="223" y="439"/>
                    </a:lnTo>
                    <a:lnTo>
                      <a:pt x="217" y="439"/>
                    </a:lnTo>
                    <a:lnTo>
                      <a:pt x="195" y="437"/>
                    </a:lnTo>
                    <a:lnTo>
                      <a:pt x="172" y="428"/>
                    </a:lnTo>
                    <a:lnTo>
                      <a:pt x="148" y="414"/>
                    </a:lnTo>
                    <a:lnTo>
                      <a:pt x="125" y="398"/>
                    </a:lnTo>
                    <a:lnTo>
                      <a:pt x="104" y="380"/>
                    </a:lnTo>
                    <a:lnTo>
                      <a:pt x="86" y="362"/>
                    </a:lnTo>
                    <a:lnTo>
                      <a:pt x="72" y="346"/>
                    </a:lnTo>
                    <a:lnTo>
                      <a:pt x="62" y="335"/>
                    </a:lnTo>
                    <a:lnTo>
                      <a:pt x="67" y="330"/>
                    </a:lnTo>
                    <a:lnTo>
                      <a:pt x="73" y="323"/>
                    </a:lnTo>
                    <a:lnTo>
                      <a:pt x="80" y="316"/>
                    </a:lnTo>
                    <a:lnTo>
                      <a:pt x="88" y="308"/>
                    </a:lnTo>
                    <a:lnTo>
                      <a:pt x="97" y="300"/>
                    </a:lnTo>
                    <a:lnTo>
                      <a:pt x="107" y="292"/>
                    </a:lnTo>
                    <a:lnTo>
                      <a:pt x="118" y="283"/>
                    </a:lnTo>
                    <a:lnTo>
                      <a:pt x="128" y="275"/>
                    </a:lnTo>
                    <a:lnTo>
                      <a:pt x="136" y="268"/>
                    </a:lnTo>
                    <a:lnTo>
                      <a:pt x="136" y="223"/>
                    </a:lnTo>
                    <a:lnTo>
                      <a:pt x="140" y="218"/>
                    </a:lnTo>
                    <a:lnTo>
                      <a:pt x="145" y="214"/>
                    </a:lnTo>
                    <a:lnTo>
                      <a:pt x="154" y="209"/>
                    </a:lnTo>
                    <a:lnTo>
                      <a:pt x="165" y="204"/>
                    </a:lnTo>
                    <a:lnTo>
                      <a:pt x="177" y="200"/>
                    </a:lnTo>
                    <a:lnTo>
                      <a:pt x="189" y="195"/>
                    </a:lnTo>
                    <a:lnTo>
                      <a:pt x="203" y="192"/>
                    </a:lnTo>
                    <a:lnTo>
                      <a:pt x="217" y="188"/>
                    </a:lnTo>
                    <a:lnTo>
                      <a:pt x="258" y="180"/>
                    </a:lnTo>
                    <a:lnTo>
                      <a:pt x="189" y="110"/>
                    </a:lnTo>
                    <a:lnTo>
                      <a:pt x="181" y="102"/>
                    </a:lnTo>
                    <a:lnTo>
                      <a:pt x="172" y="96"/>
                    </a:lnTo>
                    <a:lnTo>
                      <a:pt x="163" y="90"/>
                    </a:lnTo>
                    <a:lnTo>
                      <a:pt x="154" y="86"/>
                    </a:lnTo>
                    <a:lnTo>
                      <a:pt x="143" y="82"/>
                    </a:lnTo>
                    <a:lnTo>
                      <a:pt x="133" y="79"/>
                    </a:lnTo>
                    <a:lnTo>
                      <a:pt x="121" y="75"/>
                    </a:lnTo>
                    <a:lnTo>
                      <a:pt x="111" y="72"/>
                    </a:lnTo>
                    <a:lnTo>
                      <a:pt x="98" y="68"/>
                    </a:lnTo>
                    <a:lnTo>
                      <a:pt x="86" y="65"/>
                    </a:lnTo>
                    <a:lnTo>
                      <a:pt x="72" y="60"/>
                    </a:lnTo>
                    <a:lnTo>
                      <a:pt x="59" y="55"/>
                    </a:lnTo>
                    <a:lnTo>
                      <a:pt x="46" y="48"/>
                    </a:lnTo>
                    <a:lnTo>
                      <a:pt x="34" y="41"/>
                    </a:lnTo>
                    <a:lnTo>
                      <a:pt x="22" y="31"/>
                    </a:lnTo>
                    <a:lnTo>
                      <a:pt x="9" y="20"/>
                    </a:lnTo>
                    <a:lnTo>
                      <a:pt x="6" y="16"/>
                    </a:lnTo>
                    <a:lnTo>
                      <a:pt x="4" y="13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8" y="5"/>
                    </a:lnTo>
                    <a:lnTo>
                      <a:pt x="23" y="3"/>
                    </a:lnTo>
                    <a:lnTo>
                      <a:pt x="42" y="0"/>
                    </a:lnTo>
                    <a:lnTo>
                      <a:pt x="65" y="1"/>
                    </a:lnTo>
                    <a:lnTo>
                      <a:pt x="90" y="4"/>
                    </a:lnTo>
                    <a:lnTo>
                      <a:pt x="119" y="8"/>
                    </a:lnTo>
                    <a:lnTo>
                      <a:pt x="149" y="16"/>
                    </a:lnTo>
                    <a:lnTo>
                      <a:pt x="180" y="27"/>
                    </a:lnTo>
                    <a:lnTo>
                      <a:pt x="200" y="36"/>
                    </a:lnTo>
                    <a:lnTo>
                      <a:pt x="219" y="50"/>
                    </a:lnTo>
                    <a:lnTo>
                      <a:pt x="238" y="66"/>
                    </a:lnTo>
                    <a:lnTo>
                      <a:pt x="257" y="83"/>
                    </a:lnTo>
                    <a:lnTo>
                      <a:pt x="275" y="104"/>
                    </a:lnTo>
                    <a:lnTo>
                      <a:pt x="292" y="125"/>
                    </a:lnTo>
                    <a:lnTo>
                      <a:pt x="308" y="147"/>
                    </a:lnTo>
                    <a:lnTo>
                      <a:pt x="323" y="169"/>
                    </a:lnTo>
                    <a:lnTo>
                      <a:pt x="337" y="191"/>
                    </a:lnTo>
                    <a:lnTo>
                      <a:pt x="349" y="211"/>
                    </a:lnTo>
                    <a:lnTo>
                      <a:pt x="361" y="230"/>
                    </a:lnTo>
                    <a:lnTo>
                      <a:pt x="370" y="247"/>
                    </a:lnTo>
                    <a:lnTo>
                      <a:pt x="377" y="261"/>
                    </a:lnTo>
                    <a:lnTo>
                      <a:pt x="383" y="271"/>
                    </a:lnTo>
                    <a:lnTo>
                      <a:pt x="386" y="279"/>
                    </a:lnTo>
                    <a:lnTo>
                      <a:pt x="387" y="282"/>
                    </a:lnTo>
                    <a:lnTo>
                      <a:pt x="420" y="330"/>
                    </a:lnTo>
                    <a:lnTo>
                      <a:pt x="406" y="347"/>
                    </a:lnTo>
                    <a:lnTo>
                      <a:pt x="396" y="363"/>
                    </a:lnTo>
                    <a:lnTo>
                      <a:pt x="387" y="381"/>
                    </a:lnTo>
                    <a:lnTo>
                      <a:pt x="383" y="397"/>
                    </a:lnTo>
                    <a:lnTo>
                      <a:pt x="381" y="4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574040" y="4478400"/>
                <a:ext cx="147600" cy="150840"/>
              </a:xfrm>
              <a:custGeom>
                <a:avLst/>
                <a:gdLst/>
                <a:ahLst/>
                <a:rect l="l" t="t" r="r" b="b"/>
                <a:pathLst>
                  <a:path w="170" h="172">
                    <a:moveTo>
                      <a:pt x="85" y="172"/>
                    </a:moveTo>
                    <a:lnTo>
                      <a:pt x="102" y="171"/>
                    </a:lnTo>
                    <a:lnTo>
                      <a:pt x="119" y="165"/>
                    </a:lnTo>
                    <a:lnTo>
                      <a:pt x="132" y="157"/>
                    </a:lnTo>
                    <a:lnTo>
                      <a:pt x="145" y="146"/>
                    </a:lnTo>
                    <a:lnTo>
                      <a:pt x="155" y="134"/>
                    </a:lnTo>
                    <a:lnTo>
                      <a:pt x="164" y="120"/>
                    </a:lnTo>
                    <a:lnTo>
                      <a:pt x="169" y="104"/>
                    </a:lnTo>
                    <a:lnTo>
                      <a:pt x="170" y="87"/>
                    </a:lnTo>
                    <a:lnTo>
                      <a:pt x="169" y="69"/>
                    </a:lnTo>
                    <a:lnTo>
                      <a:pt x="164" y="53"/>
                    </a:lnTo>
                    <a:lnTo>
                      <a:pt x="155" y="38"/>
                    </a:lnTo>
                    <a:lnTo>
                      <a:pt x="145" y="25"/>
                    </a:lnTo>
                    <a:lnTo>
                      <a:pt x="132" y="15"/>
                    </a:lnTo>
                    <a:lnTo>
                      <a:pt x="119" y="7"/>
                    </a:lnTo>
                    <a:lnTo>
                      <a:pt x="102" y="2"/>
                    </a:lnTo>
                    <a:lnTo>
                      <a:pt x="85" y="0"/>
                    </a:lnTo>
                    <a:lnTo>
                      <a:pt x="68" y="2"/>
                    </a:lnTo>
                    <a:lnTo>
                      <a:pt x="53" y="7"/>
                    </a:lnTo>
                    <a:lnTo>
                      <a:pt x="38" y="15"/>
                    </a:lnTo>
                    <a:lnTo>
                      <a:pt x="25" y="25"/>
                    </a:lnTo>
                    <a:lnTo>
                      <a:pt x="15" y="38"/>
                    </a:lnTo>
                    <a:lnTo>
                      <a:pt x="7" y="53"/>
                    </a:lnTo>
                    <a:lnTo>
                      <a:pt x="2" y="69"/>
                    </a:lnTo>
                    <a:lnTo>
                      <a:pt x="0" y="87"/>
                    </a:lnTo>
                    <a:lnTo>
                      <a:pt x="2" y="104"/>
                    </a:lnTo>
                    <a:lnTo>
                      <a:pt x="7" y="120"/>
                    </a:lnTo>
                    <a:lnTo>
                      <a:pt x="15" y="134"/>
                    </a:lnTo>
                    <a:lnTo>
                      <a:pt x="25" y="146"/>
                    </a:lnTo>
                    <a:lnTo>
                      <a:pt x="38" y="157"/>
                    </a:lnTo>
                    <a:lnTo>
                      <a:pt x="53" y="165"/>
                    </a:lnTo>
                    <a:lnTo>
                      <a:pt x="68" y="171"/>
                    </a:lnTo>
                    <a:lnTo>
                      <a:pt x="85" y="17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7746840" y="4584600"/>
                <a:ext cx="90720" cy="93600"/>
              </a:xfrm>
              <a:custGeom>
                <a:avLst/>
                <a:gdLst/>
                <a:ahLst/>
                <a:rect l="l" t="t" r="r" b="b"/>
                <a:pathLst>
                  <a:path w="107" h="106">
                    <a:moveTo>
                      <a:pt x="53" y="106"/>
                    </a:moveTo>
                    <a:lnTo>
                      <a:pt x="63" y="105"/>
                    </a:lnTo>
                    <a:lnTo>
                      <a:pt x="74" y="102"/>
                    </a:lnTo>
                    <a:lnTo>
                      <a:pt x="83" y="97"/>
                    </a:lnTo>
                    <a:lnTo>
                      <a:pt x="91" y="91"/>
                    </a:lnTo>
                    <a:lnTo>
                      <a:pt x="98" y="83"/>
                    </a:lnTo>
                    <a:lnTo>
                      <a:pt x="102" y="74"/>
                    </a:lnTo>
                    <a:lnTo>
                      <a:pt x="106" y="64"/>
                    </a:lnTo>
                    <a:lnTo>
                      <a:pt x="107" y="53"/>
                    </a:lnTo>
                    <a:lnTo>
                      <a:pt x="106" y="43"/>
                    </a:lnTo>
                    <a:lnTo>
                      <a:pt x="102" y="32"/>
                    </a:lnTo>
                    <a:lnTo>
                      <a:pt x="98" y="23"/>
                    </a:lnTo>
                    <a:lnTo>
                      <a:pt x="91" y="16"/>
                    </a:lnTo>
                    <a:lnTo>
                      <a:pt x="83" y="9"/>
                    </a:lnTo>
                    <a:lnTo>
                      <a:pt x="74" y="5"/>
                    </a:lnTo>
                    <a:lnTo>
                      <a:pt x="63" y="1"/>
                    </a:lnTo>
                    <a:lnTo>
                      <a:pt x="53" y="0"/>
                    </a:lnTo>
                    <a:lnTo>
                      <a:pt x="42" y="1"/>
                    </a:lnTo>
                    <a:lnTo>
                      <a:pt x="32" y="5"/>
                    </a:lnTo>
                    <a:lnTo>
                      <a:pt x="23" y="9"/>
                    </a:lnTo>
                    <a:lnTo>
                      <a:pt x="15" y="16"/>
                    </a:lnTo>
                    <a:lnTo>
                      <a:pt x="9" y="23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3"/>
                    </a:lnTo>
                    <a:lnTo>
                      <a:pt x="1" y="64"/>
                    </a:lnTo>
                    <a:lnTo>
                      <a:pt x="4" y="74"/>
                    </a:lnTo>
                    <a:lnTo>
                      <a:pt x="9" y="83"/>
                    </a:lnTo>
                    <a:lnTo>
                      <a:pt x="15" y="91"/>
                    </a:lnTo>
                    <a:lnTo>
                      <a:pt x="23" y="97"/>
                    </a:lnTo>
                    <a:lnTo>
                      <a:pt x="32" y="102"/>
                    </a:lnTo>
                    <a:lnTo>
                      <a:pt x="42" y="105"/>
                    </a:lnTo>
                    <a:lnTo>
                      <a:pt x="53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7773120" y="4613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20" y="0"/>
                    </a:moveTo>
                    <a:lnTo>
                      <a:pt x="12" y="1"/>
                    </a:lnTo>
                    <a:lnTo>
                      <a:pt x="6" y="5"/>
                    </a:lnTo>
                    <a:lnTo>
                      <a:pt x="1" y="12"/>
                    </a:lnTo>
                    <a:lnTo>
                      <a:pt x="0" y="19"/>
                    </a:lnTo>
                    <a:lnTo>
                      <a:pt x="1" y="27"/>
                    </a:lnTo>
                    <a:lnTo>
                      <a:pt x="6" y="34"/>
                    </a:lnTo>
                    <a:lnTo>
                      <a:pt x="12" y="39"/>
                    </a:lnTo>
                    <a:lnTo>
                      <a:pt x="20" y="40"/>
                    </a:lnTo>
                    <a:lnTo>
                      <a:pt x="28" y="39"/>
                    </a:lnTo>
                    <a:lnTo>
                      <a:pt x="35" y="34"/>
                    </a:lnTo>
                    <a:lnTo>
                      <a:pt x="39" y="27"/>
                    </a:lnTo>
                    <a:lnTo>
                      <a:pt x="41" y="19"/>
                    </a:lnTo>
                    <a:lnTo>
                      <a:pt x="39" y="12"/>
                    </a:lnTo>
                    <a:lnTo>
                      <a:pt x="35" y="5"/>
                    </a:lnTo>
                    <a:lnTo>
                      <a:pt x="28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7605000" y="4511520"/>
                <a:ext cx="82440" cy="86040"/>
              </a:xfrm>
              <a:custGeom>
                <a:avLst/>
                <a:gdLst/>
                <a:ahLst/>
                <a:rect l="l" t="t" r="r" b="b"/>
                <a:pathLst>
                  <a:path w="98" h="99">
                    <a:moveTo>
                      <a:pt x="48" y="0"/>
                    </a:moveTo>
                    <a:lnTo>
                      <a:pt x="38" y="1"/>
                    </a:lnTo>
                    <a:lnTo>
                      <a:pt x="29" y="3"/>
                    </a:lnTo>
                    <a:lnTo>
                      <a:pt x="21" y="8"/>
                    </a:lnTo>
                    <a:lnTo>
                      <a:pt x="14" y="14"/>
                    </a:lnTo>
                    <a:lnTo>
                      <a:pt x="8" y="22"/>
                    </a:lnTo>
                    <a:lnTo>
                      <a:pt x="3" y="30"/>
                    </a:lnTo>
                    <a:lnTo>
                      <a:pt x="1" y="39"/>
                    </a:lnTo>
                    <a:lnTo>
                      <a:pt x="0" y="50"/>
                    </a:lnTo>
                    <a:lnTo>
                      <a:pt x="1" y="59"/>
                    </a:lnTo>
                    <a:lnTo>
                      <a:pt x="3" y="68"/>
                    </a:lnTo>
                    <a:lnTo>
                      <a:pt x="8" y="77"/>
                    </a:lnTo>
                    <a:lnTo>
                      <a:pt x="14" y="84"/>
                    </a:lnTo>
                    <a:lnTo>
                      <a:pt x="21" y="90"/>
                    </a:lnTo>
                    <a:lnTo>
                      <a:pt x="29" y="96"/>
                    </a:lnTo>
                    <a:lnTo>
                      <a:pt x="38" y="98"/>
                    </a:lnTo>
                    <a:lnTo>
                      <a:pt x="48" y="99"/>
                    </a:lnTo>
                    <a:lnTo>
                      <a:pt x="57" y="98"/>
                    </a:lnTo>
                    <a:lnTo>
                      <a:pt x="67" y="96"/>
                    </a:lnTo>
                    <a:lnTo>
                      <a:pt x="76" y="90"/>
                    </a:lnTo>
                    <a:lnTo>
                      <a:pt x="83" y="84"/>
                    </a:lnTo>
                    <a:lnTo>
                      <a:pt x="88" y="77"/>
                    </a:lnTo>
                    <a:lnTo>
                      <a:pt x="94" y="68"/>
                    </a:lnTo>
                    <a:lnTo>
                      <a:pt x="97" y="59"/>
                    </a:lnTo>
                    <a:lnTo>
                      <a:pt x="98" y="50"/>
                    </a:lnTo>
                    <a:lnTo>
                      <a:pt x="97" y="39"/>
                    </a:lnTo>
                    <a:lnTo>
                      <a:pt x="94" y="30"/>
                    </a:lnTo>
                    <a:lnTo>
                      <a:pt x="88" y="22"/>
                    </a:lnTo>
                    <a:lnTo>
                      <a:pt x="83" y="14"/>
                    </a:lnTo>
                    <a:lnTo>
                      <a:pt x="76" y="8"/>
                    </a:lnTo>
                    <a:lnTo>
                      <a:pt x="67" y="3"/>
                    </a:lnTo>
                    <a:lnTo>
                      <a:pt x="57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" name="" descr=""/>
            <p:cNvPicPr/>
            <p:nvPr/>
          </p:nvPicPr>
          <p:blipFill>
            <a:blip r:embed="rId6"/>
            <a:stretch/>
          </p:blipFill>
          <p:spPr>
            <a:xfrm>
              <a:off x="7210440" y="3824280"/>
              <a:ext cx="293760" cy="29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3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8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3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492280" y="5846760"/>
            <a:ext cx="21002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7d33"/>
                </a:solidFill>
                <a:latin typeface="Arial"/>
              </a:rPr>
              <a:t>Strefa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atrzymanie produktu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 gleb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92520" y="5846760"/>
            <a:ext cx="2114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7d33"/>
                </a:solidFill>
                <a:latin typeface="Arial"/>
              </a:rPr>
              <a:t>Strefa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ktywność glebow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kt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31160" y="1862280"/>
            <a:ext cx="1609560" cy="1657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8640" y="1623960"/>
            <a:ext cx="6096240" cy="4152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15800" y="5843880"/>
            <a:ext cx="19432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7d33"/>
                </a:solidFill>
                <a:latin typeface="Arial"/>
              </a:rPr>
              <a:t>Strefa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rdzo szybki - kontaktowy efekt zniszczenia chwast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787480" y="4654440"/>
            <a:ext cx="1214640" cy="212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378160" y="1623960"/>
            <a:ext cx="2066760" cy="499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44920" y="1601640"/>
            <a:ext cx="2114640" cy="503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202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eligentne” działani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6095880" cy="4152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85040" y="1890360"/>
            <a:ext cx="238284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marL="263520" indent="-176040">
              <a:lnSpc>
                <a:spcPct val="120000"/>
              </a:lnSpc>
              <a:spcBef>
                <a:spcPts val="451"/>
              </a:spcBef>
              <a:spcAft>
                <a:spcPts val="224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kt zwalcza chwasty będące już na polu, wschodzące z powierzchni gleby tak skutecznie .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26240" y="3672720"/>
            <a:ext cx="230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k i chwasty wschodzące z głębszych warstw gle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67160" y="1628640"/>
            <a:ext cx="191448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56080" y="1628640"/>
            <a:ext cx="2114640" cy="418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202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ługotrwałe działanie produktu 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e wszystkich sferach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2520" y="1628640"/>
            <a:ext cx="6095880" cy="4152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374920" y="1628640"/>
            <a:ext cx="209376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43480" y="1628640"/>
            <a:ext cx="2127240" cy="47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202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Zsynchronizowana kontrola chwastów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1600" y="1628640"/>
            <a:ext cx="7235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wiera dwie uzupełniające się substancje aktywne o róż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zmach działa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337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% flufenacetu (związek z grupy oksyacetamidów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337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% isoksaflutolu (związek z grupy izoksazol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8640" y="4897440"/>
            <a:ext cx="764064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fenacet pobierany jest głównie przez korzenie i częściowo przez liście chwastów. Hamuje podziały komórek w merystemach wierzchołkow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ksaflutol będący inhibitorem syntezy barwników fotoaktywnych, powodując zamieranie chloroplastów w komórkach rośl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105520" y="3214800"/>
            <a:ext cx="1265040" cy="1152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565280" y="3178080"/>
            <a:ext cx="1568520" cy="1247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3260880" y="3129120"/>
            <a:ext cx="119988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189240" y="3166920"/>
            <a:ext cx="841320" cy="300240"/>
          </a:xfrm>
          <a:custGeom>
            <a:avLst/>
            <a:gdLst/>
            <a:ahLst/>
            <a:rect l="l" t="t" r="r" b="b"/>
            <a:pathLst>
              <a:path w="530" h="189">
                <a:moveTo>
                  <a:pt x="0" y="131"/>
                </a:moveTo>
                <a:cubicBezTo>
                  <a:pt x="120" y="65"/>
                  <a:pt x="240" y="0"/>
                  <a:pt x="328" y="10"/>
                </a:cubicBezTo>
                <a:cubicBezTo>
                  <a:pt x="416" y="20"/>
                  <a:pt x="473" y="104"/>
                  <a:pt x="530" y="189"/>
                </a:cubicBezTo>
              </a:path>
            </a:pathLst>
          </a:custGeom>
          <a:noFill/>
          <a:ln w="93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 rot="779400">
            <a:off x="3161880" y="4275720"/>
            <a:ext cx="722520" cy="299880"/>
          </a:xfrm>
          <a:custGeom>
            <a:avLst/>
            <a:gdLst/>
            <a:ahLst/>
            <a:rect l="l" t="t" r="r" b="b"/>
            <a:pathLst>
              <a:path w="530" h="189">
                <a:moveTo>
                  <a:pt x="0" y="131"/>
                </a:moveTo>
                <a:cubicBezTo>
                  <a:pt x="120" y="65"/>
                  <a:pt x="240" y="0"/>
                  <a:pt x="328" y="10"/>
                </a:cubicBezTo>
                <a:cubicBezTo>
                  <a:pt x="416" y="20"/>
                  <a:pt x="473" y="104"/>
                  <a:pt x="530" y="189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 rot="20820600">
            <a:off x="4314600" y="4275720"/>
            <a:ext cx="722160" cy="299880"/>
          </a:xfrm>
          <a:custGeom>
            <a:avLst/>
            <a:gdLst/>
            <a:ahLst/>
            <a:rect l="l" t="t" r="r" b="b"/>
            <a:pathLst>
              <a:path w="530" h="189">
                <a:moveTo>
                  <a:pt x="0" y="131"/>
                </a:moveTo>
                <a:cubicBezTo>
                  <a:pt x="120" y="65"/>
                  <a:pt x="240" y="0"/>
                  <a:pt x="328" y="10"/>
                </a:cubicBezTo>
                <a:cubicBezTo>
                  <a:pt x="416" y="20"/>
                  <a:pt x="473" y="104"/>
                  <a:pt x="530" y="189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411080" y="4013280"/>
            <a:ext cx="493560" cy="55440"/>
          </a:xfrm>
          <a:custGeom>
            <a:avLst/>
            <a:gdLst/>
            <a:ahLst/>
            <a:rect l="l" t="t" r="r" b="b"/>
            <a:pathLst>
              <a:path w="530" h="189">
                <a:moveTo>
                  <a:pt x="0" y="131"/>
                </a:moveTo>
                <a:cubicBezTo>
                  <a:pt x="120" y="65"/>
                  <a:pt x="240" y="0"/>
                  <a:pt x="328" y="10"/>
                </a:cubicBezTo>
                <a:cubicBezTo>
                  <a:pt x="416" y="20"/>
                  <a:pt x="473" y="104"/>
                  <a:pt x="530" y="189"/>
                </a:cubicBezTo>
              </a:path>
            </a:pathLst>
          </a:custGeom>
          <a:noFill/>
          <a:ln w="93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283520" y="3470400"/>
            <a:ext cx="1417680" cy="630000"/>
          </a:xfrm>
          <a:custGeom>
            <a:avLst/>
            <a:gdLst>
              <a:gd name="textAreaLeft" fmla="*/ 360 w 1417680"/>
              <a:gd name="textAreaRight" fmla="*/ 1418400 w 1417680"/>
              <a:gd name="textAreaTop" fmla="*/ 0 h 630000"/>
              <a:gd name="textAreaBottom" fmla="*/ 630360 h 63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6289d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0000"/>
                </a:solidFill>
                <a:latin typeface="Arial"/>
              </a:rPr>
              <a:t>Dw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0000"/>
                </a:solidFill>
                <a:latin typeface="Arial"/>
              </a:rPr>
              <a:t>mechanizm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0000"/>
                </a:solidFill>
                <a:latin typeface="Arial"/>
              </a:rPr>
              <a:t>dział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202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Zastosuj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357800" y="1741320"/>
            <a:ext cx="3970080" cy="43419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8280" y="1628640"/>
            <a:ext cx="8109000" cy="46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o jeden zabieg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 wschodami kukuryd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wk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0,75kg/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50"/>
              </a:spcBef>
              <a:spcAft>
                <a:spcPts val="601"/>
              </a:spcAft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ecamy dawki dziel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6840" y="260280"/>
            <a:ext cx="6202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osowani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680"/>
                            </p:stCondLst>
                            <p:childTnLst>
                              <p:par>
                                <p:cTn id="13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88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8640" y="5003640"/>
            <a:ext cx="8134560" cy="541440"/>
          </a:xfrm>
          <a:prstGeom prst="rect">
            <a:avLst/>
          </a:prstGeom>
          <a:gradFill rotWithShape="0">
            <a:gsLst>
              <a:gs pos="0">
                <a:srgbClr val="6289d8"/>
              </a:gs>
              <a:gs pos="50000">
                <a:srgbClr val="ffffff">
                  <a:alpha val="37254"/>
                </a:srgbClr>
              </a:gs>
              <a:gs pos="100000">
                <a:srgbClr val="6289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4120" y="1836720"/>
            <a:ext cx="7039080" cy="461880"/>
          </a:xfrm>
          <a:prstGeom prst="rect">
            <a:avLst/>
          </a:prstGeom>
          <a:gradFill rotWithShape="0">
            <a:gsLst>
              <a:gs pos="0">
                <a:srgbClr val="999999">
                  <a:alpha val="18039"/>
                </a:srgbClr>
              </a:gs>
              <a:gs pos="50000">
                <a:srgbClr val="fefefe">
                  <a:alpha val="62352"/>
                </a:srgbClr>
              </a:gs>
              <a:gs pos="100000">
                <a:srgbClr val="9999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21720" y="5051520"/>
            <a:ext cx="771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54840" y="5051520"/>
            <a:ext cx="8668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64280" y="5051520"/>
            <a:ext cx="7905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02160" y="5051520"/>
            <a:ext cx="762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21320" y="5051520"/>
            <a:ext cx="7808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73520" y="5051520"/>
            <a:ext cx="8478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30480" y="5051520"/>
            <a:ext cx="743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4120" y="51012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3680" y="5003640"/>
            <a:ext cx="1081080" cy="541440"/>
          </a:xfrm>
          <a:prstGeom prst="rect">
            <a:avLst/>
          </a:prstGeom>
          <a:solidFill>
            <a:srgbClr val="fea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real 58 W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554120" y="4462560"/>
            <a:ext cx="7039080" cy="531360"/>
            <a:chOff x="1554120" y="4462560"/>
            <a:chExt cx="7039080" cy="531360"/>
          </a:xfrm>
        </p:grpSpPr>
        <p:sp>
          <p:nvSpPr>
            <p:cNvPr id="170" name=""/>
            <p:cNvSpPr/>
            <p:nvPr/>
          </p:nvSpPr>
          <p:spPr>
            <a:xfrm>
              <a:off x="7821720" y="4466520"/>
              <a:ext cx="771480" cy="527400"/>
            </a:xfrm>
            <a:prstGeom prst="rect">
              <a:avLst/>
            </a:prstGeom>
            <a:solidFill>
              <a:srgbClr val="ffca6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54840" y="4466520"/>
              <a:ext cx="866880" cy="527400"/>
            </a:xfrm>
            <a:prstGeom prst="rect">
              <a:avLst/>
            </a:prstGeom>
            <a:solidFill>
              <a:srgbClr val="ffca6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64280" y="4466520"/>
              <a:ext cx="790560" cy="527400"/>
            </a:xfrm>
            <a:prstGeom prst="rect">
              <a:avLst/>
            </a:prstGeom>
            <a:solidFill>
              <a:srgbClr val="ffca6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02160" y="4466520"/>
              <a:ext cx="762120" cy="527400"/>
            </a:xfrm>
            <a:prstGeom prst="rect">
              <a:avLst/>
            </a:prstGeom>
            <a:solidFill>
              <a:srgbClr val="ffca6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(x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21320" y="4466520"/>
              <a:ext cx="780840" cy="527400"/>
            </a:xfrm>
            <a:prstGeom prst="rect">
              <a:avLst/>
            </a:prstGeom>
            <a:solidFill>
              <a:srgbClr val="ffca6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73520" y="4466520"/>
              <a:ext cx="847800" cy="527400"/>
            </a:xfrm>
            <a:prstGeom prst="rect">
              <a:avLst/>
            </a:prstGeom>
            <a:solidFill>
              <a:srgbClr val="ffca6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0480" y="4466520"/>
              <a:ext cx="743040" cy="527400"/>
            </a:xfrm>
            <a:prstGeom prst="rect">
              <a:avLst/>
            </a:prstGeom>
            <a:solidFill>
              <a:srgbClr val="ffca6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16240" y="4462560"/>
              <a:ext cx="714240" cy="531360"/>
            </a:xfrm>
            <a:prstGeom prst="rect">
              <a:avLst/>
            </a:prstGeom>
            <a:solidFill>
              <a:srgbClr val="ffca6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(x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54120" y="4462560"/>
              <a:ext cx="762120" cy="531360"/>
            </a:xfrm>
            <a:prstGeom prst="rect">
              <a:avLst/>
            </a:prstGeom>
            <a:solidFill>
              <a:srgbClr val="ffca6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(x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58640" y="4462560"/>
            <a:ext cx="1095480" cy="531720"/>
          </a:xfrm>
          <a:prstGeom prst="rect">
            <a:avLst/>
          </a:prstGeom>
          <a:solidFill>
            <a:srgbClr val="fea3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ndimetal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558800" y="3927600"/>
            <a:ext cx="7039080" cy="534600"/>
            <a:chOff x="1558800" y="3927600"/>
            <a:chExt cx="7039080" cy="534600"/>
          </a:xfrm>
        </p:grpSpPr>
        <p:sp>
          <p:nvSpPr>
            <p:cNvPr id="181" name=""/>
            <p:cNvSpPr/>
            <p:nvPr/>
          </p:nvSpPr>
          <p:spPr>
            <a:xfrm>
              <a:off x="7826400" y="3927600"/>
              <a:ext cx="771480" cy="53460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59520" y="3927600"/>
              <a:ext cx="866880" cy="53460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(x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68960" y="3927600"/>
              <a:ext cx="790560" cy="53460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(x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07200" y="3927600"/>
              <a:ext cx="761760" cy="53460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(x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26000" y="3927600"/>
              <a:ext cx="781200" cy="53460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78200" y="3927600"/>
              <a:ext cx="847800" cy="53460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35520" y="3927600"/>
              <a:ext cx="742680" cy="53460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20920" y="3927600"/>
              <a:ext cx="714600" cy="53460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58800" y="3927600"/>
              <a:ext cx="762120" cy="53460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63680" y="3927600"/>
            <a:ext cx="1095120" cy="534960"/>
          </a:xfrm>
          <a:prstGeom prst="rect">
            <a:avLst/>
          </a:prstGeom>
          <a:solidFill>
            <a:srgbClr val="fea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olach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558800" y="3351240"/>
            <a:ext cx="7038720" cy="576000"/>
            <a:chOff x="1558800" y="3351240"/>
            <a:chExt cx="7038720" cy="576000"/>
          </a:xfrm>
        </p:grpSpPr>
        <p:sp>
          <p:nvSpPr>
            <p:cNvPr id="192" name=""/>
            <p:cNvSpPr/>
            <p:nvPr/>
          </p:nvSpPr>
          <p:spPr>
            <a:xfrm>
              <a:off x="7826040" y="3351240"/>
              <a:ext cx="771480" cy="576000"/>
            </a:xfrm>
            <a:prstGeom prst="rect">
              <a:avLst/>
            </a:prstGeom>
            <a:solidFill>
              <a:srgbClr val="ffca6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59160" y="3351240"/>
              <a:ext cx="866880" cy="576000"/>
            </a:xfrm>
            <a:prstGeom prst="rect">
              <a:avLst/>
            </a:prstGeom>
            <a:solidFill>
              <a:srgbClr val="ffca6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68600" y="3351240"/>
              <a:ext cx="790560" cy="576000"/>
            </a:xfrm>
            <a:prstGeom prst="rect">
              <a:avLst/>
            </a:prstGeom>
            <a:solidFill>
              <a:srgbClr val="ffca6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6840" y="3351240"/>
              <a:ext cx="761760" cy="576000"/>
            </a:xfrm>
            <a:prstGeom prst="rect">
              <a:avLst/>
            </a:prstGeom>
            <a:solidFill>
              <a:srgbClr val="ffca6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25640" y="3351240"/>
              <a:ext cx="781200" cy="576000"/>
            </a:xfrm>
            <a:prstGeom prst="rect">
              <a:avLst/>
            </a:prstGeom>
            <a:solidFill>
              <a:srgbClr val="ffca6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77840" y="3351240"/>
              <a:ext cx="847800" cy="576000"/>
            </a:xfrm>
            <a:prstGeom prst="rect">
              <a:avLst/>
            </a:prstGeom>
            <a:solidFill>
              <a:srgbClr val="ffca6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35160" y="3351240"/>
              <a:ext cx="742680" cy="576000"/>
            </a:xfrm>
            <a:prstGeom prst="rect">
              <a:avLst/>
            </a:prstGeom>
            <a:solidFill>
              <a:srgbClr val="ffca6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20560" y="3351240"/>
              <a:ext cx="714600" cy="576000"/>
            </a:xfrm>
            <a:prstGeom prst="rect">
              <a:avLst/>
            </a:prstGeom>
            <a:solidFill>
              <a:srgbClr val="ffca6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(x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58800" y="3351240"/>
              <a:ext cx="761760" cy="576000"/>
            </a:xfrm>
            <a:prstGeom prst="rect">
              <a:avLst/>
            </a:prstGeom>
            <a:solidFill>
              <a:srgbClr val="ffca6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58640" y="3379680"/>
            <a:ext cx="1095480" cy="547920"/>
          </a:xfrm>
          <a:prstGeom prst="rect">
            <a:avLst/>
          </a:prstGeom>
          <a:solidFill>
            <a:srgbClr val="fea3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u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558800" y="2840040"/>
            <a:ext cx="7039080" cy="544320"/>
            <a:chOff x="1558800" y="2840040"/>
            <a:chExt cx="7039080" cy="544320"/>
          </a:xfrm>
        </p:grpSpPr>
        <p:sp>
          <p:nvSpPr>
            <p:cNvPr id="203" name=""/>
            <p:cNvSpPr/>
            <p:nvPr/>
          </p:nvSpPr>
          <p:spPr>
            <a:xfrm>
              <a:off x="7826400" y="2840040"/>
              <a:ext cx="771480" cy="54432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59520" y="2840040"/>
              <a:ext cx="866880" cy="54432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68960" y="2840040"/>
              <a:ext cx="790560" cy="54432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07200" y="2840040"/>
              <a:ext cx="761760" cy="54432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6000" y="2840040"/>
              <a:ext cx="781200" cy="54432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78200" y="2840040"/>
              <a:ext cx="847800" cy="54432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35520" y="2840040"/>
              <a:ext cx="742680" cy="54432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20920" y="2840040"/>
              <a:ext cx="714600" cy="54432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58800" y="2840040"/>
              <a:ext cx="762120" cy="54432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63680" y="2838600"/>
            <a:ext cx="1095120" cy="541080"/>
          </a:xfrm>
          <a:prstGeom prst="rect">
            <a:avLst/>
          </a:prstGeom>
          <a:solidFill>
            <a:srgbClr val="fea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oksaflot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558800" y="2300400"/>
            <a:ext cx="7039080" cy="541080"/>
            <a:chOff x="1558800" y="2300400"/>
            <a:chExt cx="7039080" cy="541080"/>
          </a:xfrm>
        </p:grpSpPr>
        <p:sp>
          <p:nvSpPr>
            <p:cNvPr id="214" name=""/>
            <p:cNvSpPr/>
            <p:nvPr/>
          </p:nvSpPr>
          <p:spPr>
            <a:xfrm>
              <a:off x="7826400" y="2300400"/>
              <a:ext cx="771480" cy="54108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59520" y="2300400"/>
              <a:ext cx="866880" cy="54108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(x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68960" y="2300400"/>
              <a:ext cx="790560" cy="54108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07200" y="2300400"/>
              <a:ext cx="761760" cy="54108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(x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26000" y="2300400"/>
              <a:ext cx="781200" cy="54108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78200" y="2300400"/>
              <a:ext cx="847800" cy="54108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35520" y="2300400"/>
              <a:ext cx="742680" cy="54108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(x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20920" y="2300400"/>
              <a:ext cx="714600" cy="54108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x(x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58800" y="2300400"/>
              <a:ext cx="749520" cy="541080"/>
            </a:xfrm>
            <a:prstGeom prst="rect">
              <a:avLst/>
            </a:prstGeom>
            <a:solidFill>
              <a:srgbClr val="ffa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63680" y="2298600"/>
            <a:ext cx="1095120" cy="541440"/>
          </a:xfrm>
          <a:prstGeom prst="rect">
            <a:avLst/>
          </a:prstGeom>
          <a:solidFill>
            <a:srgbClr val="fea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etoch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21720" y="1836720"/>
            <a:ext cx="771480" cy="461880"/>
          </a:xfrm>
          <a:prstGeom prst="rect">
            <a:avLst/>
          </a:prstGeom>
          <a:gradFill rotWithShape="0">
            <a:gsLst>
              <a:gs pos="0">
                <a:srgbClr val="f39b00"/>
              </a:gs>
              <a:gs pos="50000">
                <a:srgbClr val="fea300"/>
              </a:gs>
              <a:gs pos="100000">
                <a:srgbClr val="f39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bołki pol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54840" y="1836720"/>
            <a:ext cx="866880" cy="461880"/>
          </a:xfrm>
          <a:prstGeom prst="rect">
            <a:avLst/>
          </a:prstGeom>
          <a:gradFill rotWithShape="0">
            <a:gsLst>
              <a:gs pos="0">
                <a:srgbClr val="f39b00"/>
              </a:gs>
              <a:gs pos="50000">
                <a:srgbClr val="fea300"/>
              </a:gs>
              <a:gs pos="100000">
                <a:srgbClr val="f39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sznik pospo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64280" y="1836720"/>
            <a:ext cx="790560" cy="461880"/>
          </a:xfrm>
          <a:prstGeom prst="rect">
            <a:avLst/>
          </a:prstGeom>
          <a:gradFill rotWithShape="0">
            <a:gsLst>
              <a:gs pos="0">
                <a:srgbClr val="f39b00"/>
              </a:gs>
              <a:gs pos="50000">
                <a:srgbClr val="fea300"/>
              </a:gs>
              <a:gs pos="100000">
                <a:srgbClr val="f39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zarłat szorst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02160" y="1836720"/>
            <a:ext cx="762120" cy="461880"/>
          </a:xfrm>
          <a:prstGeom prst="rect">
            <a:avLst/>
          </a:prstGeom>
          <a:gradFill rotWithShape="0">
            <a:gsLst>
              <a:gs pos="0">
                <a:srgbClr val="f39b00"/>
              </a:gs>
              <a:gs pos="50000">
                <a:srgbClr val="fea300"/>
              </a:gs>
              <a:gs pos="100000">
                <a:srgbClr val="f39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mian pol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21320" y="1836720"/>
            <a:ext cx="780840" cy="461880"/>
          </a:xfrm>
          <a:prstGeom prst="rect">
            <a:avLst/>
          </a:prstGeom>
          <a:gradFill rotWithShape="0">
            <a:gsLst>
              <a:gs pos="0">
                <a:srgbClr val="f39b00"/>
              </a:gs>
              <a:gs pos="50000">
                <a:srgbClr val="fea300"/>
              </a:gs>
              <a:gs pos="100000">
                <a:srgbClr val="f39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omosa biał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73520" y="1836720"/>
            <a:ext cx="847800" cy="461880"/>
          </a:xfrm>
          <a:prstGeom prst="rect">
            <a:avLst/>
          </a:prstGeom>
          <a:gradFill rotWithShape="0">
            <a:gsLst>
              <a:gs pos="0">
                <a:srgbClr val="f39b00"/>
              </a:gs>
              <a:gs pos="50000">
                <a:srgbClr val="fea300"/>
              </a:gs>
              <a:gs pos="100000">
                <a:srgbClr val="f39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wiazdnica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pol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30480" y="1836720"/>
            <a:ext cx="743040" cy="461880"/>
          </a:xfrm>
          <a:prstGeom prst="rect">
            <a:avLst/>
          </a:prstGeom>
          <a:gradFill rotWithShape="0">
            <a:gsLst>
              <a:gs pos="0">
                <a:srgbClr val="f39b00"/>
              </a:gs>
              <a:gs pos="50000">
                <a:srgbClr val="fea300"/>
              </a:gs>
              <a:gs pos="100000">
                <a:srgbClr val="f39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rczyca pol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16240" y="1836720"/>
            <a:ext cx="714240" cy="461880"/>
          </a:xfrm>
          <a:prstGeom prst="rect">
            <a:avLst/>
          </a:prstGeom>
          <a:gradFill rotWithShape="0">
            <a:gsLst>
              <a:gs pos="0">
                <a:srgbClr val="f39b00"/>
              </a:gs>
              <a:gs pos="50000">
                <a:srgbClr val="fea300"/>
              </a:gs>
              <a:gs pos="100000">
                <a:srgbClr val="f39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ołek pol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54120" y="1836720"/>
            <a:ext cx="762120" cy="461880"/>
          </a:xfrm>
          <a:prstGeom prst="rect">
            <a:avLst/>
          </a:prstGeom>
          <a:gradFill rotWithShape="0">
            <a:gsLst>
              <a:gs pos="0">
                <a:srgbClr val="f39b00"/>
              </a:gs>
              <a:gs pos="50000">
                <a:srgbClr val="fea300"/>
              </a:gs>
              <a:gs pos="100000">
                <a:srgbClr val="f39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ber bławate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8640" y="1836720"/>
            <a:ext cx="1095480" cy="461880"/>
          </a:xfrm>
          <a:prstGeom prst="rect">
            <a:avLst/>
          </a:prstGeom>
          <a:gradFill rotWithShape="0">
            <a:gsLst>
              <a:gs pos="0">
                <a:srgbClr val="f39b00"/>
              </a:gs>
              <a:gs pos="50000">
                <a:srgbClr val="fea300"/>
              </a:gs>
              <a:gs pos="100000">
                <a:srgbClr val="f39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8640" y="2298600"/>
            <a:ext cx="8134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8640" y="2840040"/>
            <a:ext cx="81345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8640" y="2838600"/>
            <a:ext cx="81345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8640" y="3379680"/>
            <a:ext cx="81345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8640" y="3921120"/>
            <a:ext cx="81345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8640" y="4462560"/>
            <a:ext cx="81345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8640" y="5003640"/>
            <a:ext cx="81345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42960" y="1474920"/>
            <a:ext cx="0" cy="425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95360" y="1474920"/>
            <a:ext cx="0" cy="425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19320" y="1474920"/>
            <a:ext cx="0" cy="425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62360" y="1474920"/>
            <a:ext cx="0" cy="425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10160" y="1474920"/>
            <a:ext cx="0" cy="425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1000" y="1474920"/>
            <a:ext cx="0" cy="425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53120" y="1474920"/>
            <a:ext cx="0" cy="425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43680" y="1474920"/>
            <a:ext cx="0" cy="425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10560" y="1474920"/>
            <a:ext cx="0" cy="425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92200" y="5101200"/>
            <a:ext cx="52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8640" y="5003640"/>
            <a:ext cx="8134560" cy="5414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202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Wykaz najczęściej spotykanych chwastów na plantacjach kukurydzy oraz ich wrażliwość na stosowane herbicydy doglebow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766200" y="5548320"/>
            <a:ext cx="19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33"/>
                </a:solidFill>
                <a:latin typeface="Arial"/>
              </a:rPr>
              <a:t>Średnia z badań Bayer Polsk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06800" y="4181400"/>
            <a:ext cx="2307960" cy="21020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 rot="2228400">
            <a:off x="1843200" y="4000680"/>
            <a:ext cx="2828880" cy="2707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665760" y="1521000"/>
            <a:ext cx="2482920" cy="4787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264360" y="1521000"/>
            <a:ext cx="2820960" cy="478764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202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eligentne” działani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8360" y="1628640"/>
            <a:ext cx="699120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lnSpc>
                <a:spcPct val="105000"/>
              </a:lnSpc>
              <a:spcBef>
                <a:spcPts val="1125"/>
              </a:spcBef>
              <a:spcAft>
                <a:spcPts val="1125"/>
              </a:spcAft>
              <a:buSzPct val="2571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ezawodna ochrona przed chwastami już od wschodów rośliny uprawnej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105000"/>
              </a:lnSpc>
              <a:spcBef>
                <a:spcPts val="1125"/>
              </a:spcBef>
              <a:spcAft>
                <a:spcPts val="1125"/>
              </a:spcAft>
              <a:buSzPct val="2571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ż w bardzo wczesnej fazie rozwojowej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105000"/>
              </a:lnSpc>
              <a:spcBef>
                <a:spcPts val="1125"/>
              </a:spcBef>
              <a:spcAft>
                <a:spcPts val="1125"/>
              </a:spcAft>
              <a:buSzPct val="25714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symalny poziom wygody, komfortu i spokoju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105000"/>
              </a:lnSpc>
              <a:spcBef>
                <a:spcPts val="1125"/>
              </a:spcBef>
              <a:spcAft>
                <a:spcPts val="1125"/>
              </a:spcAft>
              <a:buSzPct val="25714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rzez „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ligentne działani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xit" presetID="35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20:25:09Z</dcterms:created>
  <dc:creator/>
  <dc:description/>
  <dc:language>en-US</dc:language>
  <cp:lastModifiedBy>Malgorzata Gago</cp:lastModifiedBy>
  <dcterms:modified xsi:type="dcterms:W3CDTF">2008-04-15T07:38:29Z</dcterms:modified>
  <cp:revision>87</cp:revision>
  <dc:subject>edycja 2008</dc:subject>
  <dc:title>Boreal 58 WG</dc:title>
</cp:coreProperties>
</file>